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E186-1E1F-435B-A4F2-7589F46D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F321-3619-4185-8BCF-8FE0A6E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41D6-A88B-4A65-BECD-91621B2F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16D0-FA01-472A-BE02-0F279592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F791-D6E6-4892-9E90-727CE2F3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2831-6B60-419B-B0B9-4E9209F7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4A2F-4448-4C2F-A313-1EC8F47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EAB4-9173-4DD4-9544-24D0914D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1F9-C692-40A9-864E-26B9F357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F1C4-1379-44B5-B174-52E5F7D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669E-13F3-4186-8EDC-0C402F63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8892-8256-414E-B295-8D7346D9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806E-2398-43EB-8CB0-A7E51B7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50C4-A206-4B54-8C96-04BB5B6E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BAE6-E1AD-4B59-A92D-498213F2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A09-C76A-41B1-B89A-6113E2ED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B36-373C-4A45-ABB9-1A680CA2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E6ED-2BF2-40B2-A28B-CBD6E163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0DF5-55E8-43DE-8FC5-C0400BD6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E692-C892-4552-8A07-3B91F786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3C31-A1AE-45AB-8CF8-374FFA2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BEBE-A606-4890-A386-6666BA4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2647-6734-4440-96A1-A7E7CE35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9117-46DA-441D-A1EF-0B0DBFB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2C9B-1571-45DB-AE6F-5738DC993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DC7-2833-49B0-84A3-94AE776E2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3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9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ado el siguiente siste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xplique que característica asignaría a cada barra (ya sea PQ, PV o de referencia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lcule los voltajes en todas las barras utilizando el método Gauss-Seidel con actualización, considere inicialmente voltaje 1 en p.u. para la barra 2 y ángulo 0º para la barra 2 y 3. El error de voltaje aceptado es de 0.005 en p.u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onsiderando el resultado obtenido en (b), determine la potencia aparente entregada por la barra slack, las pérdidas del sistema y los flujos por las línea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i el consumo de la barra 2 necesita un voltaje constante 1 en p.u. Determine, si fuese necesario, la compensación en la barra 2 que permita obtener dicho voltaj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1268280"/>
            <a:ext cx="5471640" cy="2076840"/>
            <a:chOff x="1619280" y="1268280"/>
            <a:chExt cx="5471640" cy="2076840"/>
          </a:xfrm>
        </p:grpSpPr>
        <p:grpSp>
          <p:nvGrpSpPr>
            <p:cNvPr id="111" name=""/>
            <p:cNvGrpSpPr/>
            <p:nvPr/>
          </p:nvGrpSpPr>
          <p:grpSpPr>
            <a:xfrm>
              <a:off x="2411280" y="1581120"/>
              <a:ext cx="475560" cy="352440"/>
              <a:chOff x="2411280" y="1581120"/>
              <a:chExt cx="475560" cy="352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11280" y="159048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0000" y="158112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54000" y="177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68480" y="1533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7560" y="280512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0800" y="189396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76400" y="1767960"/>
              <a:ext cx="280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6440" y="1554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28004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8800" y="1268280"/>
              <a:ext cx="2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7520" y="13255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56120" y="1590480"/>
              <a:ext cx="475560" cy="352440"/>
              <a:chOff x="5856120" y="1590480"/>
              <a:chExt cx="475560" cy="352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6120" y="159984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74840" y="159048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738760" y="17683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36280" y="189828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0120" y="26607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1484280"/>
              <a:ext cx="86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.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3280" y="1413000"/>
              <a:ext cx="1007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=1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300 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1280" y="306864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0 + j200 M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5280" y="1484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(1/3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9200" y="22906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1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1840" y="22762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nsidere el siguiente sistema de 3 barra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Realice una iteración del método de Newton-Rap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5240" y="1492200"/>
            <a:ext cx="3920760" cy="1865520"/>
            <a:chOff x="795240" y="1492200"/>
            <a:chExt cx="3920760" cy="1865520"/>
          </a:xfrm>
        </p:grpSpPr>
        <p:grpSp>
          <p:nvGrpSpPr>
            <p:cNvPr id="138" name=""/>
            <p:cNvGrpSpPr/>
            <p:nvPr/>
          </p:nvGrpSpPr>
          <p:grpSpPr>
            <a:xfrm>
              <a:off x="795240" y="1805040"/>
              <a:ext cx="475920" cy="352440"/>
              <a:chOff x="795240" y="1805040"/>
              <a:chExt cx="475920" cy="352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95240" y="181440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3960" y="180504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138320" y="1995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2440" y="1757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1520" y="30290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4760" y="211788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60360" y="1991880"/>
              <a:ext cx="280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0400" y="17780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02436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2760" y="149220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1480" y="15494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240080" y="1814400"/>
              <a:ext cx="475920" cy="352440"/>
              <a:chOff x="4240080" y="1814400"/>
              <a:chExt cx="475920" cy="35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240080" y="182376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58800" y="18144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122720" y="19922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20960" y="212220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4440" y="28846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08720" y="1660680"/>
            <a:ext cx="25923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1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0.8,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-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292720" y="2978280"/>
                <a:ext cx="2228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9T20:15:35Z</dcterms:modified>
  <cp:revision>6</cp:revision>
  <dc:subject/>
  <dc:title>CLASE AUXILIAR Nº2 EL57A</dc:title>
</cp:coreProperties>
</file>