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F39A-D7BC-4625-9A55-47D8AFC0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7D57-F6B3-4C57-ABAB-659D3DC2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7E56-E89C-4E80-AE56-3D0469D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6F19-8726-4D2F-8B74-BE112EA2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F11C-59E8-4914-89EE-270531A3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9E9-4851-4801-8326-8AE41496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497-65E8-4290-A8B0-19B891B5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5AB9-70DC-499E-B8CB-03F67DA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F87-81E6-450A-A0D6-1789F34F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547-EB46-449A-8BDC-8BB1C90F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32F-2813-4544-A75E-3198B4D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7545-F880-4855-806E-16F65FB0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00DE-9A52-414C-907B-8B9736C4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8845-F8C5-430A-B062-AEC28D8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8A3B-7828-46BD-B205-0923EA8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B59-D76A-47E2-87CF-548DFEFF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55A7-D6D8-4CF5-B2B7-1F8AF2E6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BE5C-D2C9-4530-BAA8-CD6EACB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91B2-0A48-4F21-8110-2D4A35EB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BCFC-F7D8-4603-A342-79B0585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5AFB-A08A-4583-A198-C8B269B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B6CC-03BF-42C0-9397-406F06D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54EE-0666-4151-BC40-D967781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E652-256F-43FF-AAC0-92B9A3F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E34-B8A7-485B-93A5-BF9B77D22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62C4-2B6B-4B59-9ED7-5B3DCD427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3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9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ado el siguiente siste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xplique que característica asignaría a cada barra (ya sea PQ, PV o de referencia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lcule los voltajes en todas las barras utilizando el método Gauss-Seidel con actualización, considere inicialmente voltaje 1 en p.u. para la barra 2 y ángulo 0º para la barra 2 y 3. El error de voltaje aceptado es de 0.005 en p.u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onsiderando el resultado obtenido en (b), determine la potencia aparente entregada por la barra slack, las pérdidas del sistema y los flujos por las línea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i el consumo de la barra 2 necesita un voltaje constante 1 en p.u. Determine, si fuese necesario, la compensación en la barra 2 que permita obtener dicho voltaj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1268280"/>
            <a:ext cx="5471640" cy="2076840"/>
            <a:chOff x="1619280" y="1268280"/>
            <a:chExt cx="5471640" cy="2076840"/>
          </a:xfrm>
        </p:grpSpPr>
        <p:grpSp>
          <p:nvGrpSpPr>
            <p:cNvPr id="111" name=""/>
            <p:cNvGrpSpPr/>
            <p:nvPr/>
          </p:nvGrpSpPr>
          <p:grpSpPr>
            <a:xfrm>
              <a:off x="2411280" y="1581120"/>
              <a:ext cx="475560" cy="352440"/>
              <a:chOff x="2411280" y="1581120"/>
              <a:chExt cx="475560" cy="352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11280" y="159048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0000" y="158112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54000" y="177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68480" y="1533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7560" y="280512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0800" y="189396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76400" y="1767960"/>
              <a:ext cx="280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6440" y="1554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28004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8800" y="1268280"/>
              <a:ext cx="2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7520" y="13255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56120" y="1590480"/>
              <a:ext cx="475560" cy="352440"/>
              <a:chOff x="5856120" y="1590480"/>
              <a:chExt cx="475560" cy="352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6120" y="159984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74840" y="159048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738760" y="17683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36280" y="189828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0120" y="26607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1484280"/>
              <a:ext cx="86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.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3280" y="1413000"/>
              <a:ext cx="1007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=1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300 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1280" y="306864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0 + j200 M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5280" y="1484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(1/3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9200" y="22906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1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1840" y="22762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nsidere el siguiente sistema de 3 barra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Realice una iteración del método de Newton-Rap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5240" y="1492200"/>
            <a:ext cx="3920760" cy="1865520"/>
            <a:chOff x="795240" y="1492200"/>
            <a:chExt cx="3920760" cy="1865520"/>
          </a:xfrm>
        </p:grpSpPr>
        <p:grpSp>
          <p:nvGrpSpPr>
            <p:cNvPr id="138" name=""/>
            <p:cNvGrpSpPr/>
            <p:nvPr/>
          </p:nvGrpSpPr>
          <p:grpSpPr>
            <a:xfrm>
              <a:off x="795240" y="1805040"/>
              <a:ext cx="475920" cy="352440"/>
              <a:chOff x="795240" y="1805040"/>
              <a:chExt cx="475920" cy="352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95240" y="181440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3960" y="180504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138320" y="1995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2440" y="1757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1520" y="30290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4760" y="211788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60360" y="1991880"/>
              <a:ext cx="280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0400" y="17780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02436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2760" y="149220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1480" y="15494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240080" y="1814400"/>
              <a:ext cx="475920" cy="352440"/>
              <a:chOff x="4240080" y="1814400"/>
              <a:chExt cx="475920" cy="35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240080" y="182376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58800" y="18144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122720" y="19922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20960" y="212220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4440" y="28846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08720" y="1660680"/>
            <a:ext cx="25923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1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0.8,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-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292720" y="2978280"/>
                <a:ext cx="2228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9T20:15:35Z</dcterms:modified>
  <cp:revision>6</cp:revision>
  <dc:subject/>
  <dc:title>CLASE AUXILIAR Nº2 EL57A</dc:title>
</cp:coreProperties>
</file>