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F488A-0F68-4B8C-8315-6CAF95CC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F8546-1EF0-4AC2-A573-57A17767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FB90A-5768-4F95-B12E-8C81BB54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2C701-1990-41AA-9A46-DDD8EEDB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E9091-CE32-4604-A41B-22A87556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B728-2658-4AF6-A27B-371BBF9F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8418-11CA-4889-BE48-D85041EE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BFBB-7307-4010-89EC-EEA3F631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D26C-42CE-42C4-B623-566083F2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C25D-022E-4299-B737-52DE8D3A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4296-0274-49CB-BDC3-DD10D309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DAD06-13EF-4B92-89C2-391D168F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5BF7-F3AF-4352-B695-E832FC8B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611F-736C-4195-857F-1F66DE5B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0A31-D09F-4359-A61A-EA2A7070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9C19-90D6-40AD-B3E5-59FB4302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1198-91BA-4779-B946-49C9BE2A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A4D3E-30C2-4EA1-96F8-C8B4DA61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B1A87-3D6E-4796-8A1E-6F64F9DD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0FA06-77CB-40E2-8ACB-25979CC8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BAD1E-7D56-4E6F-917C-58C251C7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CCE4B-937A-44E6-9D24-95C8C83C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4984A-4A38-419A-9A64-F8DB1000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7CAD2-7EA3-46B1-8AE4-538AC44E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D4A0-A950-4844-AAF9-DAFCF3092C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4D56-7FE3-47D4-9A70-63F1BE95CD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CLASE AUXILIAR Nº3</a:t>
            </a:r>
            <a:br>
              <a:rPr sz="3800"/>
            </a:b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EL57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Profesor Aux: Paola Caro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09/09/09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1471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Dado el siguiente sistem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Explique que característica asignaría a cada barra (ya sea PQ, PV o de referencia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Calcule los voltajes en todas las barras utilizando el método Gauss-Seidel con actualización, considere inicialmente voltaje 1 en p.u. para la barra 2 y ángulo 0º para la barra 2 y 3. El error de voltaje aceptado es de 0.005 en p.u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Considerando el resultado obtenido en (b), determine la potencia aparente entregada por la barra slack, las pérdidas del sistema y los flujos por las línea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Si el consumo de la barra 2 necesita un voltaje constante 1 en p.u. Determine, si fuese necesario, la compensación en la barra 2 que permita obtener dicho voltaje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1268280"/>
            <a:ext cx="5471640" cy="2076840"/>
            <a:chOff x="1619280" y="1268280"/>
            <a:chExt cx="5471640" cy="2076840"/>
          </a:xfrm>
        </p:grpSpPr>
        <p:grpSp>
          <p:nvGrpSpPr>
            <p:cNvPr id="111" name=""/>
            <p:cNvGrpSpPr/>
            <p:nvPr/>
          </p:nvGrpSpPr>
          <p:grpSpPr>
            <a:xfrm>
              <a:off x="2411280" y="1581120"/>
              <a:ext cx="475560" cy="352440"/>
              <a:chOff x="2411280" y="1581120"/>
              <a:chExt cx="475560" cy="352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11280" y="1590480"/>
                <a:ext cx="34308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430000" y="1581120"/>
                <a:ext cx="4568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2754000" y="17715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68480" y="153360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57560" y="2805120"/>
              <a:ext cx="456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90800" y="1893960"/>
              <a:ext cx="124740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876400" y="1767960"/>
              <a:ext cx="28080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16440" y="15541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82920" y="2800440"/>
              <a:ext cx="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28800" y="1268280"/>
              <a:ext cx="28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27520" y="13255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856120" y="1590480"/>
              <a:ext cx="475560" cy="352440"/>
              <a:chOff x="5856120" y="1590480"/>
              <a:chExt cx="475560" cy="352440"/>
            </a:xfrm>
          </p:grpSpPr>
          <p:sp>
            <p:nvSpPr>
              <p:cNvPr id="124" name=""/>
              <p:cNvSpPr/>
              <p:nvPr/>
            </p:nvSpPr>
            <p:spPr>
              <a:xfrm>
                <a:off x="5856120" y="1599840"/>
                <a:ext cx="34308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74840" y="1590480"/>
                <a:ext cx="4568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5738760" y="176832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36280" y="1898280"/>
              <a:ext cx="124740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70120" y="266076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9280" y="1484280"/>
              <a:ext cx="8632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G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=1.0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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83280" y="1413000"/>
              <a:ext cx="1007640" cy="66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imes New Roman"/>
                </a:rPr>
                <a:t>G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|V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|=1.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300 M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51280" y="3068640"/>
              <a:ext cx="129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00 + j200 M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35280" y="1484280"/>
              <a:ext cx="129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(1/3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89200" y="2290680"/>
              <a:ext cx="129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0.01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41840" y="2276280"/>
              <a:ext cx="129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0.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1471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Considere el siguiente sistema de 3 barras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Realice una iteración del método de Newton-Rapson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795240" y="1492200"/>
            <a:ext cx="3920760" cy="1865520"/>
            <a:chOff x="795240" y="1492200"/>
            <a:chExt cx="3920760" cy="1865520"/>
          </a:xfrm>
        </p:grpSpPr>
        <p:grpSp>
          <p:nvGrpSpPr>
            <p:cNvPr id="138" name=""/>
            <p:cNvGrpSpPr/>
            <p:nvPr/>
          </p:nvGrpSpPr>
          <p:grpSpPr>
            <a:xfrm>
              <a:off x="795240" y="1805040"/>
              <a:ext cx="475920" cy="352440"/>
              <a:chOff x="795240" y="1805040"/>
              <a:chExt cx="475920" cy="352440"/>
            </a:xfrm>
          </p:grpSpPr>
          <p:sp>
            <p:nvSpPr>
              <p:cNvPr id="139" name=""/>
              <p:cNvSpPr/>
              <p:nvPr/>
            </p:nvSpPr>
            <p:spPr>
              <a:xfrm>
                <a:off x="795240" y="1814400"/>
                <a:ext cx="34344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13960" y="1805040"/>
                <a:ext cx="4572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1138320" y="19954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52440" y="17575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41520" y="302904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74760" y="2117880"/>
              <a:ext cx="124776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260360" y="1991880"/>
              <a:ext cx="2808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00400" y="177804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3024360"/>
              <a:ext cx="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12760" y="149220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11480" y="154944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240080" y="1814400"/>
              <a:ext cx="475920" cy="352440"/>
              <a:chOff x="4240080" y="1814400"/>
              <a:chExt cx="475920" cy="352440"/>
            </a:xfrm>
          </p:grpSpPr>
          <p:sp>
            <p:nvSpPr>
              <p:cNvPr id="151" name=""/>
              <p:cNvSpPr/>
              <p:nvPr/>
            </p:nvSpPr>
            <p:spPr>
              <a:xfrm>
                <a:off x="4240080" y="1823760"/>
                <a:ext cx="34344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58800" y="1814400"/>
                <a:ext cx="4572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4122720" y="199224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820960" y="2122200"/>
              <a:ext cx="1247760" cy="88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54440" y="288468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508720" y="1660680"/>
            <a:ext cx="259236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= 1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 = 1, 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= 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= 0.8, 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= -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292720" y="2978280"/>
                <a:ext cx="222876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u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j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j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j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</m:t>
                              </m:r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8:00:08Z</dcterms:created>
  <dc:creator>Paola Caro</dc:creator>
  <dc:description/>
  <dc:language>en-US</dc:language>
  <cp:lastModifiedBy>Paola Caro</cp:lastModifiedBy>
  <dcterms:modified xsi:type="dcterms:W3CDTF">2009-09-09T20:15:35Z</dcterms:modified>
  <cp:revision>6</cp:revision>
  <dc:subject/>
  <dc:title>CLASE AUXILIAR Nº2 EL57A</dc:title>
</cp:coreProperties>
</file>