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5B06-D9E9-4522-B9DA-0E40D6F3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0851B-697D-4D2C-A7EB-95CC9FBE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CC39-1C70-4629-9B35-49CD0BB5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60C2-ED21-435B-B67A-079B9B1F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7247-9F2C-41EA-8052-CE4D7EF1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C036-2641-489E-B43B-25052EFA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13F1-0F06-4D1C-A1D8-8BD1CB95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095E-9DCE-4C75-9323-5ADF26F6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0AFE-7706-4CDE-8D46-9CDE4642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423E-B2AA-41D1-AF0A-7B47C2CB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ECE2-2EC3-4014-9F02-53C36594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D01F6-B732-4558-897A-7244D949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E0D6-2756-4EF7-9EE6-CFD212F1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EFE9-5A84-44DA-9413-36FFC02C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9CBF-B5C4-4BE8-8E3A-85602A95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E3BB-0C88-4131-9E25-96D11AB5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C514-1929-43EB-9649-C3D2B85A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47D5C-CF30-4B43-B4CD-B7F7DAA4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D479-DF49-48A1-A091-DE1BDC32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28807-CFF1-4A99-9FD6-489465DC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44E42-F934-4C6E-BEAF-5B0B8548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1FF14-81FC-4EC8-981E-4BE52A3A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68FFE-36A3-4205-8726-B01BEC77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BBB1E-3DD6-4ACC-8F44-DE6E6279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C19D-744C-40B7-A5C5-297EB085A0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8E84-108F-49E1-AAD6-4B1CA90DA8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CLASE AUXILIAR Nº3</a:t>
            </a:r>
            <a:br>
              <a:rPr sz="3800"/>
            </a:b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EL57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Profesor Aux: Paola Caro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09/09/09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Dado el siguiente sistem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Explique que característica asignaría a cada barra (ya sea PQ, PV o de referencia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Calcule los voltajes en todas las barras utilizando el método Gauss-Seidel con actualización, considere inicialmente voltaje 1 en p.u. para la barra 2 y ángulo 0º para la barra 2 y 3. El error de voltaje aceptado es de 0.005 en p.u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Considerando el resultado obtenido en (b), determine la potencia aparente entregada por la barra slack, las pérdidas del sistema y los flujos por las línea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Si el consumo de la barra 2 necesita un voltaje constante 1 en p.u. Determine, si fuese necesario, la compensación en la barra 2 que permita obtener dicho voltaje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1268280"/>
            <a:ext cx="5471640" cy="2076840"/>
            <a:chOff x="1619280" y="1268280"/>
            <a:chExt cx="5471640" cy="2076840"/>
          </a:xfrm>
        </p:grpSpPr>
        <p:grpSp>
          <p:nvGrpSpPr>
            <p:cNvPr id="111" name=""/>
            <p:cNvGrpSpPr/>
            <p:nvPr/>
          </p:nvGrpSpPr>
          <p:grpSpPr>
            <a:xfrm>
              <a:off x="2411280" y="1581120"/>
              <a:ext cx="475560" cy="352440"/>
              <a:chOff x="2411280" y="1581120"/>
              <a:chExt cx="475560" cy="352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11280" y="159048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430000" y="1581120"/>
                <a:ext cx="4568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754000" y="17715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68480" y="15336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57560" y="2805120"/>
              <a:ext cx="456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0800" y="1893960"/>
              <a:ext cx="124740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876400" y="1767960"/>
              <a:ext cx="2808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16440" y="15541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2920" y="2800440"/>
              <a:ext cx="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28800" y="1268280"/>
              <a:ext cx="28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27520" y="13255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856120" y="1590480"/>
              <a:ext cx="475560" cy="352440"/>
              <a:chOff x="5856120" y="1590480"/>
              <a:chExt cx="475560" cy="352440"/>
            </a:xfrm>
          </p:grpSpPr>
          <p:sp>
            <p:nvSpPr>
              <p:cNvPr id="124" name=""/>
              <p:cNvSpPr/>
              <p:nvPr/>
            </p:nvSpPr>
            <p:spPr>
              <a:xfrm>
                <a:off x="5856120" y="159984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74840" y="1590480"/>
                <a:ext cx="4568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5738760" y="176832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36280" y="1898280"/>
              <a:ext cx="124740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70120" y="266076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9280" y="1484280"/>
              <a:ext cx="8632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1.0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83280" y="1413000"/>
              <a:ext cx="100764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G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|V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|=1.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300 M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51280" y="306864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00 + j200 M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35280" y="1484280"/>
              <a:ext cx="12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(1/3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89200" y="229068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0.01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1840" y="227628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0.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Considere el siguiente sistema de 3 barras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Realice una iteración del método de Newton-Raps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95240" y="1492200"/>
            <a:ext cx="3920760" cy="1865520"/>
            <a:chOff x="795240" y="1492200"/>
            <a:chExt cx="3920760" cy="1865520"/>
          </a:xfrm>
        </p:grpSpPr>
        <p:grpSp>
          <p:nvGrpSpPr>
            <p:cNvPr id="138" name=""/>
            <p:cNvGrpSpPr/>
            <p:nvPr/>
          </p:nvGrpSpPr>
          <p:grpSpPr>
            <a:xfrm>
              <a:off x="795240" y="1805040"/>
              <a:ext cx="475920" cy="352440"/>
              <a:chOff x="795240" y="1805040"/>
              <a:chExt cx="475920" cy="352440"/>
            </a:xfrm>
          </p:grpSpPr>
          <p:sp>
            <p:nvSpPr>
              <p:cNvPr id="139" name=""/>
              <p:cNvSpPr/>
              <p:nvPr/>
            </p:nvSpPr>
            <p:spPr>
              <a:xfrm>
                <a:off x="795240" y="1814400"/>
                <a:ext cx="34344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13960" y="1805040"/>
                <a:ext cx="4572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138320" y="19954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52440" y="17575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41520" y="302904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4760" y="2117880"/>
              <a:ext cx="124776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260360" y="1991880"/>
              <a:ext cx="280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0400" y="177804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3024360"/>
              <a:ext cx="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12760" y="149220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11480" y="154944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240080" y="1814400"/>
              <a:ext cx="475920" cy="352440"/>
              <a:chOff x="4240080" y="1814400"/>
              <a:chExt cx="475920" cy="352440"/>
            </a:xfrm>
          </p:grpSpPr>
          <p:sp>
            <p:nvSpPr>
              <p:cNvPr id="151" name=""/>
              <p:cNvSpPr/>
              <p:nvPr/>
            </p:nvSpPr>
            <p:spPr>
              <a:xfrm>
                <a:off x="4240080" y="1823760"/>
                <a:ext cx="34344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58800" y="1814400"/>
                <a:ext cx="4572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4122720" y="199224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820960" y="2122200"/>
              <a:ext cx="124776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54440" y="288468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508720" y="1660680"/>
            <a:ext cx="259236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 = 1, 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= 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= 0.8, 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= -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292720" y="2978280"/>
                <a:ext cx="222876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j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8:00:08Z</dcterms:created>
  <dc:creator>Paola Caro</dc:creator>
  <dc:description/>
  <dc:language>en-US</dc:language>
  <cp:lastModifiedBy>Paola Caro</cp:lastModifiedBy>
  <dcterms:modified xsi:type="dcterms:W3CDTF">2009-09-09T20:15:35Z</dcterms:modified>
  <cp:revision>6</cp:revision>
  <dc:subject/>
  <dc:title>CLASE AUXILIAR Nº2 EL57A</dc:title>
</cp:coreProperties>
</file>