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EAB5-8C3F-4066-B25A-10C09967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7295-1D66-4BE6-AB3F-3F017D7D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458A8-F2F9-4753-B62A-C8C0035F0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C938C-3A0A-4B0A-B56C-58EA235D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BC11-2447-4A52-836B-1B7287A2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1721-E8AE-41A7-95B9-3B277C4C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30A7-F708-4B71-BDEC-B617164C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EF4F-3732-4842-8E3F-B88155B0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38E5-0DBA-4B54-B876-056D6EAD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9F24-9C25-4DDB-81A6-2E74EBF3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2538-4546-4873-871F-B3798788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CA83-4D99-42EF-A129-C83370CB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FA179-2CE0-42AF-91E9-C94F141A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ABAB-84D6-4802-B579-676E1254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1AFC-7D51-493A-8102-04447F11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F427-DAAA-4B3B-A76D-B0DF4223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DF16E-38E1-4CD3-911A-05E69B727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6508-76E5-4689-8071-5E8DB4E1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3929-1CEE-4F05-8685-6D37F297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80334-20C6-4548-BDF0-138028C1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4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99B5-BAFE-4DDF-94BD-4C78CC53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B5244-737E-43CE-AF1C-14F5BD7C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00E79-14DA-499C-B933-DBD11E79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C6A91-D6D8-4876-B5EA-8BFCFC68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975C-CEA6-41CA-8C4C-8ECA5500F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F31E-3C05-450A-993B-48BF3927E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CLASE AUXILIAR Nº2</a:t>
            </a:r>
            <a:br>
              <a:rPr sz="3800"/>
            </a:br>
            <a:r>
              <a:rPr b="0" lang="es-ES" sz="3800" spc="-1" strike="noStrike">
                <a:solidFill>
                  <a:srgbClr val="ffffff"/>
                </a:solidFill>
                <a:latin typeface="Arial"/>
              </a:rPr>
              <a:t>EL57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Profesor Aux: Paola Caro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entury Gothic"/>
              </a:rPr>
              <a:t>03/09/09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1471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Un sistema eléctrico consta de una central con voltaje 13.2 kV constante, un transformador equivalente T1 13.2/220 kV de 120 MVA reactancia 0.95 p.u. bp, una línea de doble circuito de 220 kV, un transformador equivalente T2 de 220/66 kV de 80 MVA reactancia 8% bp. Los parámetros de cada circuito están en base 150 MVA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a)¿Qué carga se puede alimentar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=1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15º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 = 66 kV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constante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b) Manteniendo el consumo reactivo anterior, la carga activa aumenta en un 40% ¿Qué compensación reactiva se requiere en la barra 2 para mantener el voltaje en 66 kV?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c)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¿En lugar de lo anterior, en que tap debe ubicarse el secundario de T2 para obtener el mismo voltaje con la misma carga b)? (T2 tiene pasos de 1%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d) Defina el rango de potencias que se puede abastecer con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.9≤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≤1.05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 y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 ≤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δ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≤15º</a:t>
            </a: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,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|= 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340000" y="2492280"/>
            <a:ext cx="3925440" cy="997200"/>
            <a:chOff x="2340000" y="2492280"/>
            <a:chExt cx="3925440" cy="997200"/>
          </a:xfrm>
        </p:grpSpPr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4025520" y="2492280"/>
                  <a:ext cx="5029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R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24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084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112" name=""/>
            <p:cNvGrpSpPr/>
            <p:nvPr/>
          </p:nvGrpSpPr>
          <p:grpSpPr>
            <a:xfrm>
              <a:off x="2340000" y="2804760"/>
              <a:ext cx="475560" cy="352440"/>
              <a:chOff x="2340000" y="2804760"/>
              <a:chExt cx="475560" cy="352440"/>
            </a:xfrm>
          </p:grpSpPr>
          <p:sp>
            <p:nvSpPr>
              <p:cNvPr id="113" name=""/>
              <p:cNvSpPr/>
              <p:nvPr/>
            </p:nvSpPr>
            <p:spPr>
              <a:xfrm>
                <a:off x="2340000" y="2814120"/>
                <a:ext cx="343080" cy="343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358720" y="2804760"/>
                <a:ext cx="4568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682720" y="2995560"/>
              <a:ext cx="11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6840" y="27572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3020760" y="2712960"/>
              <a:ext cx="626760" cy="571320"/>
              <a:chOff x="3020760" y="2712960"/>
              <a:chExt cx="626760" cy="57132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3020760" y="2712960"/>
                <a:ext cx="456840" cy="571320"/>
                <a:chOff x="3020760" y="2712960"/>
                <a:chExt cx="456840" cy="5713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3020760" y="271296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3020760" y="28270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3190680" y="2712960"/>
                <a:ext cx="456840" cy="571320"/>
                <a:chOff x="3190680" y="2712960"/>
                <a:chExt cx="456840" cy="57132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3190680" y="271296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3190680" y="28270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"/>
            <p:cNvSpPr/>
            <p:nvPr/>
          </p:nvSpPr>
          <p:spPr>
            <a:xfrm>
              <a:off x="2808000" y="298764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1880" y="2992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90720" y="275724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70360" y="27651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711240" y="2882880"/>
              <a:ext cx="1033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17600" y="2616120"/>
              <a:ext cx="57132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711240" y="3098160"/>
              <a:ext cx="1033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5008320" y="2733480"/>
              <a:ext cx="626760" cy="571320"/>
              <a:chOff x="5008320" y="2733480"/>
              <a:chExt cx="626760" cy="5713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5008320" y="2733480"/>
                <a:ext cx="456840" cy="571320"/>
                <a:chOff x="5008320" y="2733480"/>
                <a:chExt cx="456840" cy="5713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008320" y="27334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08320" y="284760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178240" y="2733480"/>
                <a:ext cx="456840" cy="571320"/>
                <a:chOff x="5178240" y="2733480"/>
                <a:chExt cx="456840" cy="5713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178240" y="273348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78240" y="2847600"/>
                  <a:ext cx="456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&lt;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" name=""/>
            <p:cNvSpPr/>
            <p:nvPr/>
          </p:nvSpPr>
          <p:spPr>
            <a:xfrm>
              <a:off x="5419440" y="30128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78280" y="277776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05160" y="2636640"/>
              <a:ext cx="571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776480" y="3003480"/>
              <a:ext cx="342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86200" y="3016080"/>
              <a:ext cx="33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46280" y="3203280"/>
              <a:ext cx="829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13.2 k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5280" y="3213000"/>
              <a:ext cx="83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66 k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57160" y="24922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55880" y="254916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Para el sistema de la figura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Interesa el voltaje en la carga (barra 3). Si D varia entre 230 MW y 410 MW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a)¿Qué efecto tiene una compensación reactiva fija de 80 MVAr en la barra 3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b)¿Qué efecto tiene un compensador estático de reactivos ubicado en el nudo 2 con tensión de referencia 1 p.u.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entury Gothic"/>
              </a:rPr>
              <a:t>c)¿Qué efecto tiene aumentar la tensión en bornes del generador a 1.05 p.u.?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484360" y="1916280"/>
            <a:ext cx="3621240" cy="1012320"/>
            <a:chOff x="2484360" y="1916280"/>
            <a:chExt cx="3621240" cy="1012320"/>
          </a:xfrm>
        </p:grpSpPr>
        <mc:AlternateContent>
          <mc:Choice xmlns:a14="http://schemas.microsoft.com/office/drawing/2010/main" Requires="a14">
            <p:sp>
              <p:nvSpPr>
                <p:cNvPr id="150" name=""/>
                <p:cNvSpPr txBox="1"/>
                <p:nvPr/>
              </p:nvSpPr>
              <p:spPr>
                <a:xfrm>
                  <a:off x="4284720" y="2205000"/>
                  <a:ext cx="546120" cy="16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4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51" name=""/>
            <p:cNvGrpSpPr/>
            <p:nvPr/>
          </p:nvGrpSpPr>
          <p:grpSpPr>
            <a:xfrm>
              <a:off x="2484360" y="2228760"/>
              <a:ext cx="475920" cy="352080"/>
              <a:chOff x="2484360" y="2228760"/>
              <a:chExt cx="475920" cy="352080"/>
            </a:xfrm>
          </p:grpSpPr>
          <p:sp>
            <p:nvSpPr>
              <p:cNvPr id="152" name=""/>
              <p:cNvSpPr/>
              <p:nvPr/>
            </p:nvSpPr>
            <p:spPr>
              <a:xfrm>
                <a:off x="2484360" y="2238120"/>
                <a:ext cx="343440" cy="342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03080" y="2228760"/>
                <a:ext cx="45720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827080" y="241920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41560" y="218124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11480" y="219528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57640" y="2189160"/>
              <a:ext cx="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958840" y="2420640"/>
              <a:ext cx="1033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033800" y="2420640"/>
              <a:ext cx="10335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076720" y="2421000"/>
              <a:ext cx="33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90640" y="2627280"/>
              <a:ext cx="83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V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| =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097240" y="2270160"/>
              <a:ext cx="1008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s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=0.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01880" y="191628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1160" y="1954080"/>
              <a:ext cx="28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32360" y="1969920"/>
              <a:ext cx="28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203640" y="2205000"/>
                  <a:ext cx="545760" cy="16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3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8:00:08Z</dcterms:created>
  <dc:creator>Paola Caro</dc:creator>
  <dc:description/>
  <dc:language>en-US</dc:language>
  <cp:lastModifiedBy>Paola Caro</cp:lastModifiedBy>
  <dcterms:modified xsi:type="dcterms:W3CDTF">2009-09-02T18:58:42Z</dcterms:modified>
  <cp:revision>3</cp:revision>
  <dc:subject/>
  <dc:title>CLASE AUXILIAR Nº2 EL57A</dc:title>
</cp:coreProperties>
</file>