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0380B-95CF-44C0-947C-38ED89216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EDE43-E444-4F7F-A506-108FC6D0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F9018-4170-4CAA-AE57-E2A5B5474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D4D18-12F0-41C5-A63A-52157B6D6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C851-AD67-47AD-AD1E-DAC62829A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2C1D-F966-4944-A8C6-52917EC4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9BF3-1276-4F1A-A076-8CAB0E00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2699-EEAA-49ED-B578-E912D4BC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6954-D2D9-442B-A686-1E3F74E2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8E96-66F6-4DEE-98B8-5F14A601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E9931-16B0-4341-B8BA-AC4D27FD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047E9-62FD-497C-BDCD-16DB91A1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0A95-72DC-43E5-AB45-E865ABDC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100C1-CC07-4B67-AF04-21D67585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73504-0B31-4EB3-89A4-971434D0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AAC4-A8E2-41BB-8722-C488CA1C2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4430-76F2-42D2-BEB4-A46ED7BD7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0757B-3D85-48D8-8BCF-8B10EB40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95814-6B4D-4007-8329-7EC2DEF5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688E4-38BC-473E-8CCE-8A7EED2F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730A8-7352-46C5-AB8B-132B18E8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60C9A-F50F-4E28-8FCE-8EB7CAF7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8AF74-95E9-4ABF-9FFC-65BD0DE9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B0280-B1E1-4592-8714-130649EA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ED1B-EFD7-4590-9FF3-6F54732162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B9AC-93F9-4989-A17F-FF28042F9D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ffffff"/>
                </a:solidFill>
                <a:latin typeface="Arial"/>
              </a:rPr>
              <a:t>CLASE AUXILIAR Nº2</a:t>
            </a:r>
            <a:br>
              <a:rPr sz="3800"/>
            </a:br>
            <a:r>
              <a:rPr b="0" lang="es-ES" sz="3800" spc="-1" strike="noStrike">
                <a:solidFill>
                  <a:srgbClr val="ffffff"/>
                </a:solidFill>
                <a:latin typeface="Arial"/>
              </a:rPr>
              <a:t>EL57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entury Gothic"/>
              </a:rPr>
              <a:t>Profesor Aux: Paola Caro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entury Gothic"/>
              </a:rPr>
              <a:t>03/09/09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14716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Un sistema eléctrico consta de una central con voltaje 13.2 kV constante, un transformador equivalente T1 13.2/220 kV de 120 MVA reactancia 0.95 p.u. bp, una línea de doble circuito de 220 kV, un transformador equivalente T2 de 220/66 kV de 80 MVA reactancia 8% bp. Los parámetros de cada circuito están en base 150 MVA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a)¿Qué carga se puede alimentar con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15º</a:t>
            </a: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 con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|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| = 66 kV</a:t>
            </a: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 constante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b) Manteniendo el consumo reactivo anterior, la carga activa aumenta en un 40% ¿Qué compensación reactiva se requiere en la barra 2 para mantener el voltaje en 66 kV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c)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¿En lugar de lo anterior, en que tap debe ubicarse el secundario de T2 para obtener el mismo voltaje con la misma carga b)? (T2 tiene pasos de 1%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d) Defina el rango de potencias que se puede abastecer con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0.9≤|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|≤1.05</a:t>
            </a: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 y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0 ≤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δ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≤15º</a:t>
            </a: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|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|= 1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340000" y="2492280"/>
            <a:ext cx="3925440" cy="997200"/>
            <a:chOff x="2340000" y="2492280"/>
            <a:chExt cx="3925440" cy="997200"/>
          </a:xfrm>
        </p:grpSpPr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4025520" y="2492280"/>
                  <a:ext cx="50292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R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24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84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12" name=""/>
            <p:cNvGrpSpPr/>
            <p:nvPr/>
          </p:nvGrpSpPr>
          <p:grpSpPr>
            <a:xfrm>
              <a:off x="2340000" y="2804760"/>
              <a:ext cx="475560" cy="352440"/>
              <a:chOff x="2340000" y="2804760"/>
              <a:chExt cx="475560" cy="352440"/>
            </a:xfrm>
          </p:grpSpPr>
          <p:sp>
            <p:nvSpPr>
              <p:cNvPr id="113" name=""/>
              <p:cNvSpPr/>
              <p:nvPr/>
            </p:nvSpPr>
            <p:spPr>
              <a:xfrm>
                <a:off x="2340000" y="2814120"/>
                <a:ext cx="343080" cy="343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358720" y="2804760"/>
                <a:ext cx="45684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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2682720" y="2995560"/>
              <a:ext cx="11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96840" y="275724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3020760" y="2712960"/>
              <a:ext cx="626760" cy="571320"/>
              <a:chOff x="3020760" y="2712960"/>
              <a:chExt cx="626760" cy="57132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3020760" y="2712960"/>
                <a:ext cx="456840" cy="571320"/>
                <a:chOff x="3020760" y="2712960"/>
                <a:chExt cx="456840" cy="57132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3020760" y="2712960"/>
                  <a:ext cx="4568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00"/>
                      </a:solidFill>
                      <a:latin typeface="Times New Roman"/>
                    </a:rPr>
                    <a:t>&gt;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3020760" y="2827080"/>
                  <a:ext cx="4568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00"/>
                      </a:solidFill>
                      <a:latin typeface="Times New Roman"/>
                    </a:rPr>
                    <a:t>&gt;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3190680" y="2712960"/>
                <a:ext cx="456840" cy="571320"/>
                <a:chOff x="3190680" y="2712960"/>
                <a:chExt cx="456840" cy="57132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3190680" y="2712960"/>
                  <a:ext cx="4568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00"/>
                      </a:solidFill>
                      <a:latin typeface="Times New Roman"/>
                    </a:rPr>
                    <a:t>&lt;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190680" y="2827080"/>
                  <a:ext cx="4568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00"/>
                      </a:solidFill>
                      <a:latin typeface="Times New Roman"/>
                    </a:rPr>
                    <a:t>&lt;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" name=""/>
            <p:cNvSpPr/>
            <p:nvPr/>
          </p:nvSpPr>
          <p:spPr>
            <a:xfrm>
              <a:off x="2808000" y="2987640"/>
              <a:ext cx="342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1880" y="299232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90720" y="275724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70360" y="276516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3711240" y="2882880"/>
              <a:ext cx="1033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17600" y="2616120"/>
              <a:ext cx="5713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3711240" y="3098160"/>
              <a:ext cx="1033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5008320" y="2733480"/>
              <a:ext cx="626760" cy="571320"/>
              <a:chOff x="5008320" y="2733480"/>
              <a:chExt cx="626760" cy="57132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5008320" y="2733480"/>
                <a:ext cx="456840" cy="571320"/>
                <a:chOff x="5008320" y="2733480"/>
                <a:chExt cx="456840" cy="57132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5008320" y="2733480"/>
                  <a:ext cx="4568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00"/>
                      </a:solidFill>
                      <a:latin typeface="Times New Roman"/>
                    </a:rPr>
                    <a:t>&gt;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008320" y="2847600"/>
                  <a:ext cx="4568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00"/>
                      </a:solidFill>
                      <a:latin typeface="Times New Roman"/>
                    </a:rPr>
                    <a:t>&gt;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5178240" y="2733480"/>
                <a:ext cx="456840" cy="571320"/>
                <a:chOff x="5178240" y="2733480"/>
                <a:chExt cx="456840" cy="57132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5178240" y="2733480"/>
                  <a:ext cx="4568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00"/>
                      </a:solidFill>
                      <a:latin typeface="Times New Roman"/>
                    </a:rPr>
                    <a:t>&lt;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178240" y="2847600"/>
                  <a:ext cx="4568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00"/>
                      </a:solidFill>
                      <a:latin typeface="Times New Roman"/>
                    </a:rPr>
                    <a:t>&lt;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8" name=""/>
            <p:cNvSpPr/>
            <p:nvPr/>
          </p:nvSpPr>
          <p:spPr>
            <a:xfrm>
              <a:off x="5419440" y="301284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78280" y="277776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05160" y="2636640"/>
              <a:ext cx="5713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76480" y="3003480"/>
              <a:ext cx="342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686200" y="3016080"/>
              <a:ext cx="33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46280" y="3203280"/>
              <a:ext cx="829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13.2 k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35280" y="3213000"/>
              <a:ext cx="83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66 k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657160" y="249228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55880" y="254916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a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Para el sistema de la figura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Interesa el voltaje en la carga (barra 3). Si D varia entre 230 MW y 410 MW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a)¿Qué efecto tiene una compensación reactiva fija de 80 MVAr en la barra 3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b)¿Qué efecto tiene un compensador estático de reactivos ubicado en el nudo 2 con tensión de referencia 1 p.u.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c)¿Qué efecto tiene aumentar la tensión en bornes del generador a 1.05 p.u.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484360" y="1916280"/>
            <a:ext cx="3621240" cy="1012320"/>
            <a:chOff x="2484360" y="1916280"/>
            <a:chExt cx="3621240" cy="1012320"/>
          </a:xfrm>
        </p:grpSpPr>
        <mc:AlternateContent>
          <mc:Choice xmlns:a14="http://schemas.microsoft.com/office/drawing/2010/main" Requires="a14">
            <p:sp>
              <p:nvSpPr>
                <p:cNvPr id="150" name=""/>
                <p:cNvSpPr txBox="1"/>
                <p:nvPr/>
              </p:nvSpPr>
              <p:spPr>
                <a:xfrm>
                  <a:off x="4284720" y="2205000"/>
                  <a:ext cx="546120" cy="16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4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51" name=""/>
            <p:cNvGrpSpPr/>
            <p:nvPr/>
          </p:nvGrpSpPr>
          <p:grpSpPr>
            <a:xfrm>
              <a:off x="2484360" y="2228760"/>
              <a:ext cx="475920" cy="352080"/>
              <a:chOff x="2484360" y="2228760"/>
              <a:chExt cx="475920" cy="352080"/>
            </a:xfrm>
          </p:grpSpPr>
          <p:sp>
            <p:nvSpPr>
              <p:cNvPr id="152" name=""/>
              <p:cNvSpPr/>
              <p:nvPr/>
            </p:nvSpPr>
            <p:spPr>
              <a:xfrm>
                <a:off x="2484360" y="2238120"/>
                <a:ext cx="343440" cy="342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503080" y="2228760"/>
                <a:ext cx="4572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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2827080" y="241920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41560" y="2181240"/>
              <a:ext cx="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011480" y="2195280"/>
              <a:ext cx="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57640" y="2189160"/>
              <a:ext cx="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958840" y="2420640"/>
              <a:ext cx="10335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4033800" y="2420640"/>
              <a:ext cx="10335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76720" y="2421000"/>
              <a:ext cx="33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90640" y="2627280"/>
              <a:ext cx="83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|V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| =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097240" y="2270160"/>
              <a:ext cx="100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s(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)=0.9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01880" y="191628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81160" y="1954080"/>
              <a:ext cx="28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32360" y="196992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3203640" y="2205000"/>
                  <a:ext cx="545760" cy="16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3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18:00:08Z</dcterms:created>
  <dc:creator>Paola Caro</dc:creator>
  <dc:description/>
  <dc:language>en-US</dc:language>
  <cp:lastModifiedBy>Paola Caro</cp:lastModifiedBy>
  <dcterms:modified xsi:type="dcterms:W3CDTF">2009-09-02T18:58:42Z</dcterms:modified>
  <cp:revision>3</cp:revision>
  <dc:subject/>
  <dc:title>CLASE AUXILIAR Nº2 EL57A</dc:title>
</cp:coreProperties>
</file>