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7496-19AB-4859-BEF9-EC3609A0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67EB-54A9-4001-BECC-8BBD178D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2CB0-41EA-41BE-89AF-3C719716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816D-8F85-4B5E-BF69-93A92CCB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9330-3068-4F7D-974F-2CF5C298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192A-73A7-435E-80C9-86686D5D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7060-3167-4DDB-9F81-D0848D50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8D3A-B4CA-4750-A047-8B042D4C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0698-406D-4873-BB94-925DF8A7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A0A1-0CB8-44CF-B03A-E68BBB0A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399E-804A-4489-99E7-5BC3CA3E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86FE-6F7B-4CD1-9CC6-CE52DCA0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52F9-4485-450E-9D8C-A9A559E1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CC17-3499-46D8-A512-4642F572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EA0A-0C49-4DFF-AF60-2BE720C2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0A06-1DD0-4AA3-9694-B6C5DE4F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EE01-D4C8-4371-BAD0-575BE13B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60B0-8588-402C-B5E7-A6CCF333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1057-9802-4A04-ACA4-0ADD0A51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DAFF-4C00-4026-B93D-3C8637A9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ADE4-28EB-441F-B1A5-7EE19AF1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69FE-203B-4DD9-9F2E-BFA51B4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8EC5-42EC-49CF-93DB-A8217181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FE59-581D-4B6E-A6D6-9319D336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856E-70FD-42A5-9E73-495800FED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6FA9-D95C-4B76-87C7-A71F1D464E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CLASE AUXILIAR Nº2</a:t>
            </a:r>
            <a:br>
              <a:rPr sz="3800"/>
            </a:b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EL57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Profesor Aux: Paola Car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03/09/09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Un sistema eléctrico consta de una central con voltaje 13.2 kV constante, un transformador equivalente T1 13.2/220 kV de 120 MVA reactancia 0.95 p.u. bp, una línea de doble circuito de 220 kV, un transformador equivalente T2 de 220/66 kV de 80 MVA reactancia 8% bp. Los parámetros de cada circuito están en base 150 MV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a)¿Qué carga se puede alimentar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5º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 = 66 kV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constant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) Manteniendo el consumo reactivo anterior, la carga activa aumenta en un 40% ¿Qué compensación reactiva se requiere en la barra 2 para mantener el voltaje en 66 kV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¿En lugar de lo anterior, en que tap debe ubicarse el secundario de T2 para obtener el mismo voltaje con la misma carga b)? (T2 tiene pasos de 1%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) Defina el rango de potencias que se puede abastecer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.9≤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≤1.05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y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≤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≤15º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=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40000" y="2492280"/>
            <a:ext cx="3925440" cy="997200"/>
            <a:chOff x="2340000" y="2492280"/>
            <a:chExt cx="3925440" cy="99720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025520" y="2492280"/>
                  <a:ext cx="5029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4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8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2" name=""/>
            <p:cNvGrpSpPr/>
            <p:nvPr/>
          </p:nvGrpSpPr>
          <p:grpSpPr>
            <a:xfrm>
              <a:off x="2340000" y="2804760"/>
              <a:ext cx="475560" cy="352440"/>
              <a:chOff x="2340000" y="2804760"/>
              <a:chExt cx="475560" cy="352440"/>
            </a:xfrm>
          </p:grpSpPr>
          <p:sp>
            <p:nvSpPr>
              <p:cNvPr id="113" name=""/>
              <p:cNvSpPr/>
              <p:nvPr/>
            </p:nvSpPr>
            <p:spPr>
              <a:xfrm>
                <a:off x="2340000" y="281412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58720" y="280476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682720" y="299556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6840" y="27572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020760" y="2712960"/>
              <a:ext cx="626760" cy="571320"/>
              <a:chOff x="3020760" y="2712960"/>
              <a:chExt cx="626760" cy="5713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3020760" y="2712960"/>
                <a:ext cx="456840" cy="571320"/>
                <a:chOff x="3020760" y="2712960"/>
                <a:chExt cx="456840" cy="5713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020760" y="271296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20760" y="28270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190680" y="2712960"/>
                <a:ext cx="456840" cy="571320"/>
                <a:chOff x="3190680" y="2712960"/>
                <a:chExt cx="456840" cy="5713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190680" y="271296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190680" y="28270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"/>
            <p:cNvSpPr/>
            <p:nvPr/>
          </p:nvSpPr>
          <p:spPr>
            <a:xfrm>
              <a:off x="2808000" y="298764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1880" y="2992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90720" y="27572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70360" y="2765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711240" y="2882880"/>
              <a:ext cx="103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17600" y="261612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711240" y="3098160"/>
              <a:ext cx="103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008320" y="2733480"/>
              <a:ext cx="626760" cy="571320"/>
              <a:chOff x="5008320" y="2733480"/>
              <a:chExt cx="626760" cy="5713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5008320" y="2733480"/>
                <a:ext cx="456840" cy="571320"/>
                <a:chOff x="5008320" y="2733480"/>
                <a:chExt cx="456840" cy="5713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008320" y="27334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8320" y="284760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178240" y="2733480"/>
                <a:ext cx="456840" cy="571320"/>
                <a:chOff x="5178240" y="2733480"/>
                <a:chExt cx="456840" cy="571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178240" y="27334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78240" y="284760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5419440" y="30128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78280" y="27777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160" y="2636640"/>
              <a:ext cx="571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76480" y="300348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86200" y="3016080"/>
              <a:ext cx="33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46280" y="3203280"/>
              <a:ext cx="82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13.2 k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5280" y="3213000"/>
              <a:ext cx="83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66 k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57160" y="24922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55880" y="25491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Para el sistema de la figura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Interesa el voltaje en la carga (barra 3). Si D varia entre 230 MW y 410 MW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a)¿Qué efecto tiene una compensación reactiva fija de 80 MVAr en la barra 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b)¿Qué efecto tiene un compensador estático de reactivos ubicado en el nudo 2 con tensión de referencia 1 p.u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)¿Qué efecto tiene aumentar la tensión en bornes del generador a 1.05 p.u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84360" y="1916280"/>
            <a:ext cx="3621240" cy="1012320"/>
            <a:chOff x="2484360" y="1916280"/>
            <a:chExt cx="3621240" cy="1012320"/>
          </a:xfrm>
        </p:grpSpPr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4284720" y="2205000"/>
                  <a:ext cx="54612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2484360" y="2228760"/>
              <a:ext cx="475920" cy="352080"/>
              <a:chOff x="2484360" y="2228760"/>
              <a:chExt cx="475920" cy="352080"/>
            </a:xfrm>
          </p:grpSpPr>
          <p:sp>
            <p:nvSpPr>
              <p:cNvPr id="152" name=""/>
              <p:cNvSpPr/>
              <p:nvPr/>
            </p:nvSpPr>
            <p:spPr>
              <a:xfrm>
                <a:off x="2484360" y="2238120"/>
                <a:ext cx="343440" cy="342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03080" y="222876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827080" y="241920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41560" y="218124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11480" y="219528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57640" y="2189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958840" y="2420640"/>
              <a:ext cx="1033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033800" y="2420640"/>
              <a:ext cx="1033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6720" y="2421000"/>
              <a:ext cx="3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90640" y="2627280"/>
              <a:ext cx="83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 =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97240" y="2270160"/>
              <a:ext cx="10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s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=0.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01880" y="19162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1160" y="195408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2360" y="19699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203640" y="2205000"/>
                  <a:ext cx="54576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00:08Z</dcterms:created>
  <dc:creator>Paola Caro</dc:creator>
  <dc:description/>
  <dc:language>en-US</dc:language>
  <cp:lastModifiedBy>Paola Caro</cp:lastModifiedBy>
  <dcterms:modified xsi:type="dcterms:W3CDTF">2009-09-02T18:58:42Z</dcterms:modified>
  <cp:revision>3</cp:revision>
  <dc:subject/>
  <dc:title>CLASE AUXILIAR Nº2 EL57A</dc:title>
</cp:coreProperties>
</file>