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EF94-2EF1-4FDD-8ADB-C9C38A6D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A6EB-6144-433A-9A1F-0AC1B30C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8ED8-816D-4A3D-9766-58E8A28A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9BCC-F835-489F-A225-ECC8BA68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5E87-A9E0-45EE-B699-5F354D0F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60C3-F7F6-4735-AAE2-4724DD59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6E39-BFB5-4C1F-8589-EE3BB550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F2D2-8BD2-43AA-9650-467AEC6D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6161-3037-4474-A2DD-44AF5CAA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D477-1965-40A1-BD54-4B8D881F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B4B6-2159-4038-B2B7-B8F45477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D68B-BA37-4FB3-B51C-4CF4322D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75E1-BC8F-4CC2-A668-D2BA206B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081D-1FD2-462C-99CA-28B124D9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3445-FFC3-4846-82F5-00676104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0D53-30C7-450D-A718-FAA7B6B6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86F3-BD10-46B8-A28E-32A36991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57BE-07E0-4CFC-8527-88E51247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F141-931C-4CDF-8A65-0DC73C75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C216-8795-4578-899B-08EFDFF0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5387-3DC1-4D3D-A5ED-5DB0C7EE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5FD6-CEC3-4006-A8E5-45D165B9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52AC-F21A-4242-84EB-CA694D59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FE58-529A-454C-A3D1-C5229F43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7652-20FD-41F5-8856-F69838043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293B-1F67-41E1-9FA9-EEE45F53E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CLASE AUXILIAR Nº2</a:t>
            </a:r>
            <a:br>
              <a:rPr sz="3800"/>
            </a:b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EL57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Profesor Aux: Paola Car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03/09/09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Un sistema eléctrico consta de una central con voltaje 13.2 kV constante, un transformador equivalente T1 13.2/220 kV de 120 MVA reactancia 0.95 p.u. bp, una línea de doble circuito de 220 kV, un transformador equivalente T2 de 220/66 kV de 80 MVA reactancia 8% bp. Los parámetros de cada circuito están en base 150 MV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a)¿Qué carga se puede alimentar co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5º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co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 = 66 kV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constant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b) Manteniendo el consumo reactivo anterior, la carga activa aumenta en un 40% ¿Qué compensación reactiva se requiere en la barra 2 para mantener el voltaje en 66 kV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¿En lugar de lo anterior, en que tap debe ubicarse el secundario de T2 para obtener el mismo voltaje con la misma carga b)? (T2 tiene pasos de 1%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) Defina el rango de potencias que se puede abastecer co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.9≤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≤1.05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y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 ≤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≤15º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=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340000" y="2492280"/>
            <a:ext cx="3925440" cy="997200"/>
            <a:chOff x="2340000" y="2492280"/>
            <a:chExt cx="3925440" cy="99720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025520" y="2492280"/>
                  <a:ext cx="5029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4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8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2" name=""/>
            <p:cNvGrpSpPr/>
            <p:nvPr/>
          </p:nvGrpSpPr>
          <p:grpSpPr>
            <a:xfrm>
              <a:off x="2340000" y="2804760"/>
              <a:ext cx="475560" cy="352440"/>
              <a:chOff x="2340000" y="2804760"/>
              <a:chExt cx="475560" cy="352440"/>
            </a:xfrm>
          </p:grpSpPr>
          <p:sp>
            <p:nvSpPr>
              <p:cNvPr id="113" name=""/>
              <p:cNvSpPr/>
              <p:nvPr/>
            </p:nvSpPr>
            <p:spPr>
              <a:xfrm>
                <a:off x="2340000" y="281412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58720" y="2804760"/>
                <a:ext cx="4568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682720" y="299556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6840" y="275724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020760" y="2712960"/>
              <a:ext cx="626760" cy="571320"/>
              <a:chOff x="3020760" y="2712960"/>
              <a:chExt cx="626760" cy="57132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3020760" y="2712960"/>
                <a:ext cx="456840" cy="571320"/>
                <a:chOff x="3020760" y="2712960"/>
                <a:chExt cx="456840" cy="5713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020760" y="271296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020760" y="28270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190680" y="2712960"/>
                <a:ext cx="456840" cy="571320"/>
                <a:chOff x="3190680" y="2712960"/>
                <a:chExt cx="456840" cy="5713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190680" y="271296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190680" y="28270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"/>
            <p:cNvSpPr/>
            <p:nvPr/>
          </p:nvSpPr>
          <p:spPr>
            <a:xfrm>
              <a:off x="2808000" y="298764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1880" y="2992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90720" y="275724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70360" y="27651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711240" y="2882880"/>
              <a:ext cx="103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17600" y="261612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711240" y="3098160"/>
              <a:ext cx="103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008320" y="2733480"/>
              <a:ext cx="626760" cy="571320"/>
              <a:chOff x="5008320" y="2733480"/>
              <a:chExt cx="626760" cy="5713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5008320" y="2733480"/>
                <a:ext cx="456840" cy="571320"/>
                <a:chOff x="5008320" y="2733480"/>
                <a:chExt cx="456840" cy="5713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008320" y="27334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08320" y="284760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178240" y="2733480"/>
                <a:ext cx="456840" cy="571320"/>
                <a:chOff x="5178240" y="2733480"/>
                <a:chExt cx="456840" cy="5713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178240" y="27334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78240" y="284760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5419440" y="30128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78280" y="27777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5160" y="2636640"/>
              <a:ext cx="571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76480" y="300348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86200" y="3016080"/>
              <a:ext cx="33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46280" y="3203280"/>
              <a:ext cx="82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13.2 k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5280" y="3213000"/>
              <a:ext cx="83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66 k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57160" y="24922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55880" y="25491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Para el sistema de la figura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Interesa el voltaje en la carga (barra 3). Si D varia entre 230 MW y 410 MW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a)¿Qué efecto tiene una compensación reactiva fija de 80 MVAr en la barra 3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b)¿Qué efecto tiene un compensador estático de reactivos ubicado en el nudo 2 con tensión de referencia 1 p.u.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)¿Qué efecto tiene aumentar la tensión en bornes del generador a 1.05 p.u.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84360" y="1916280"/>
            <a:ext cx="3621240" cy="1012320"/>
            <a:chOff x="2484360" y="1916280"/>
            <a:chExt cx="3621240" cy="1012320"/>
          </a:xfrm>
        </p:grpSpPr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4284720" y="2205000"/>
                  <a:ext cx="546120" cy="16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51" name=""/>
            <p:cNvGrpSpPr/>
            <p:nvPr/>
          </p:nvGrpSpPr>
          <p:grpSpPr>
            <a:xfrm>
              <a:off x="2484360" y="2228760"/>
              <a:ext cx="475920" cy="352080"/>
              <a:chOff x="2484360" y="2228760"/>
              <a:chExt cx="475920" cy="352080"/>
            </a:xfrm>
          </p:grpSpPr>
          <p:sp>
            <p:nvSpPr>
              <p:cNvPr id="152" name=""/>
              <p:cNvSpPr/>
              <p:nvPr/>
            </p:nvSpPr>
            <p:spPr>
              <a:xfrm>
                <a:off x="2484360" y="2238120"/>
                <a:ext cx="343440" cy="342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03080" y="222876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827080" y="241920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41560" y="218124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11480" y="219528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57640" y="2189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958840" y="2420640"/>
              <a:ext cx="1033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033800" y="2420640"/>
              <a:ext cx="1033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76720" y="2421000"/>
              <a:ext cx="33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90640" y="2627280"/>
              <a:ext cx="83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V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 =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97240" y="2270160"/>
              <a:ext cx="100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s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=0.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01880" y="19162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1160" y="195408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2360" y="19699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203640" y="2205000"/>
                  <a:ext cx="545760" cy="16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8:00:08Z</dcterms:created>
  <dc:creator>Paola Caro</dc:creator>
  <dc:description/>
  <dc:language>en-US</dc:language>
  <cp:lastModifiedBy>Paola Caro</cp:lastModifiedBy>
  <dcterms:modified xsi:type="dcterms:W3CDTF">2009-09-02T18:58:42Z</dcterms:modified>
  <cp:revision>3</cp:revision>
  <dc:subject/>
  <dc:title>CLASE AUXILIAR Nº2 EL57A</dc:title>
</cp:coreProperties>
</file>