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CA9-16FE-4000-AB60-D469C974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D36-3B1F-4F5D-8F5B-0F0315A3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6BA-1A57-49CE-8D90-3D83A33F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9E9-A7FD-4119-A430-2733E0B4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5C4-202B-4F44-94C2-DD62E12A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1A1-3062-4C12-82BA-908E86C5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8BF-7E70-4595-9B30-06152C14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4F4-1AFE-43DD-91C9-BC4B593F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FAC-4D5B-451C-AF20-4B1B26BB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FE5-82E9-4BAC-91E9-F0E6EFD8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966-856A-4462-8B3F-A88EA70C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5BD-E655-4639-BC9C-04C779E3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9E74-49FC-4A27-8DAA-4C78628521C1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0" y="3808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5600" y="762120"/>
            <a:ext cx="168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enguaje alto 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x = x + y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50160" y="1981080"/>
            <a:ext cx="40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Memoria(100) = Memoria(100)+Memoria(1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971800"/>
            <a:ext cx="419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lenguaje asemb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load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(s1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// A=Memoria(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load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 (s2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// B=Memoria(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add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663300"/>
                </a:solidFill>
                <a:latin typeface="Times New Roman"/>
              </a:rPr>
              <a:t>C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    // C= 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store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C, (s1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//  Memoria(100)=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15238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514600"/>
            <a:ext cx="5331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4952880"/>
            <a:ext cx="6629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lenguaje maqu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-------- -(32 bit)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00000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00100 ..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// A=Memoria(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00101 ..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// B=Memoria(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        00010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00000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663300"/>
                </a:solidFill>
                <a:latin typeface="Times New Roman"/>
              </a:rPr>
              <a:t>0000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..    // C= 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4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001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663300"/>
                </a:solidFill>
                <a:latin typeface="Times New Roman"/>
              </a:rPr>
              <a:t>0000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00101 .               //  Memoria(100)=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419720"/>
            <a:ext cx="5331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124080"/>
            <a:ext cx="457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080" y="2513160"/>
            <a:ext cx="2054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imes New Roman"/>
              </a:rPr>
              <a:t>Registros de direcci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s1 almacena la posición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s2 almacena la posición 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3"/>
            <a:endCxn id="49" idx="0"/>
          </p:cNvCxnSpPr>
          <p:nvPr/>
        </p:nvCxnSpPr>
        <p:spPr>
          <a:xfrm>
            <a:off x="2343240" y="2970720"/>
            <a:ext cx="1162440" cy="153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227520" y="4784760"/>
            <a:ext cx="1640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imes New Roman"/>
              </a:rPr>
              <a:t>Registros de dato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200400"/>
            <a:ext cx="22860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3"/>
            <a:endCxn id="53" idx="4"/>
          </p:cNvCxnSpPr>
          <p:nvPr/>
        </p:nvCxnSpPr>
        <p:spPr>
          <a:xfrm flipV="1">
            <a:off x="1868400" y="4419720"/>
            <a:ext cx="1294560" cy="526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111 00001 00101 .              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111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029200" y="609480"/>
            <a:ext cx="3521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odificar y hacer el acceso a escritura a mem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91320" y="586728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361960" y="6248520"/>
            <a:ext cx="3276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362320" y="571500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314840" y="320040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315200" y="3200400"/>
            <a:ext cx="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28" idx="1"/>
            <a:endCxn id="433" idx="0"/>
          </p:cNvCxnSpPr>
          <p:nvPr/>
        </p:nvCxnSpPr>
        <p:spPr>
          <a:xfrm flipV="1" rot="10800000">
            <a:off x="5777640" y="4739040"/>
            <a:ext cx="2009160" cy="60588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2895480"/>
            <a:ext cx="1981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Times New Roman"/>
              </a:rPr>
              <a:t>Interp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Times New Roman"/>
              </a:rPr>
              <a:t>Unidad de 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00400" y="1676520"/>
            <a:ext cx="22096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icroprog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248520" y="1600200"/>
            <a:ext cx="1881000" cy="921960"/>
            <a:chOff x="6248520" y="1600200"/>
            <a:chExt cx="1881000" cy="921960"/>
          </a:xfrm>
        </p:grpSpPr>
        <p:sp>
          <p:nvSpPr>
            <p:cNvPr id="456" name=""/>
            <p:cNvSpPr/>
            <p:nvPr/>
          </p:nvSpPr>
          <p:spPr>
            <a:xfrm>
              <a:off x="6248520" y="1600200"/>
              <a:ext cx="1881000" cy="30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I</a:t>
              </a:r>
              <a:r>
                <a:rPr b="0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48520" y="1907640"/>
              <a:ext cx="1881000" cy="30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I</a:t>
              </a:r>
              <a:r>
                <a:rPr b="0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48520" y="2215080"/>
              <a:ext cx="18810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I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867280" y="1828800"/>
            <a:ext cx="304920" cy="428760"/>
          </a:xfrm>
          <a:custGeom>
            <a:avLst/>
            <a:gdLst>
              <a:gd name="textAreaLeft" fmla="*/ 40680 w 304920"/>
              <a:gd name="textAreaRight" fmla="*/ 264240 w 304920"/>
              <a:gd name="textAreaTop" fmla="*/ 74880 h 428760"/>
              <a:gd name="textAreaBottom" fmla="*/ 31104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67280" y="2009880"/>
            <a:ext cx="304920" cy="428400"/>
          </a:xfrm>
          <a:custGeom>
            <a:avLst/>
            <a:gdLst>
              <a:gd name="textAreaLeft" fmla="*/ 40680 w 304920"/>
              <a:gd name="textAreaRight" fmla="*/ 264240 w 304920"/>
              <a:gd name="textAreaTop" fmla="*/ 74880 h 428400"/>
              <a:gd name="textAreaBottom" fmla="*/ 31068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905120"/>
            <a:ext cx="1752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nstrucción nivel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61" idx="3"/>
            <a:endCxn id="454" idx="2"/>
          </p:cNvCxnSpPr>
          <p:nvPr/>
        </p:nvCxnSpPr>
        <p:spPr>
          <a:xfrm>
            <a:off x="2362320" y="2095560"/>
            <a:ext cx="8388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4" idx="7"/>
            <a:endCxn id="456" idx="0"/>
          </p:cNvCxnSpPr>
          <p:nvPr/>
        </p:nvCxnSpPr>
        <p:spPr>
          <a:xfrm flipH="1" flipV="1" rot="5400000">
            <a:off x="6032880" y="652680"/>
            <a:ext cx="210240" cy="2104200"/>
          </a:xfrm>
          <a:prstGeom prst="curvedConnector5">
            <a:avLst>
              <a:gd name="adj1" fmla="val 209090"/>
              <a:gd name="adj2" fmla="val 50000"/>
              <a:gd name="adj3" fmla="val 2090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380880" y="2895480"/>
            <a:ext cx="2133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Ni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Instrucciones de máqu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743200"/>
            <a:ext cx="228456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Ni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Señalización de un ciclo de Maqu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09480"/>
            <a:ext cx="6629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914400"/>
            <a:ext cx="236232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66640" y="26290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18" idx="0"/>
            <a:endCxn id="105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011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6094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roceso de decodificación y acceso a memoria para cargar el registro interno A y se incrementa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314840" y="31240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3200400"/>
            <a:ext cx="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64" idx="0"/>
            <a:endCxn id="154" idx="1"/>
          </p:cNvCxnSpPr>
          <p:nvPr/>
        </p:nvCxnSpPr>
        <p:spPr>
          <a:xfrm flipH="1" flipV="1" rot="5400000">
            <a:off x="5993280" y="3780000"/>
            <a:ext cx="1350360" cy="178056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10" idx="0"/>
            <a:endCxn id="197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    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011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6094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roceso de decodificación y acceso a memoria para cargar el registro interno B; se incrementa el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391160" y="3505320"/>
            <a:ext cx="152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35812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56" idx="0"/>
            <a:endCxn id="247" idx="1"/>
          </p:cNvCxnSpPr>
          <p:nvPr/>
        </p:nvCxnSpPr>
        <p:spPr>
          <a:xfrm flipH="1" flipV="1" rot="5400000">
            <a:off x="6183720" y="3970800"/>
            <a:ext cx="969120" cy="178056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0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02" idx="0"/>
            <a:endCxn id="289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0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477120" y="312408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7120" y="3124080"/>
            <a:ext cx="457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4419720"/>
            <a:ext cx="35211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odificación; se cargan los registros a la entrada de la ALU; la unidad de control da la señalización de que operación ejecutar; se guarda el resultado en registro interno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aralelamente se incrementa en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2819520"/>
            <a:ext cx="1676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38" idx="1"/>
            <a:endCxn id="356" idx="0"/>
          </p:cNvCxnSpPr>
          <p:nvPr/>
        </p:nvCxnSpPr>
        <p:spPr>
          <a:xfrm rot="10800000">
            <a:off x="7162200" y="2818800"/>
            <a:ext cx="396000" cy="11768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39" idx="1"/>
            <a:endCxn id="353" idx="0"/>
          </p:cNvCxnSpPr>
          <p:nvPr/>
        </p:nvCxnSpPr>
        <p:spPr>
          <a:xfrm rot="10800000">
            <a:off x="6933600" y="3123360"/>
            <a:ext cx="624600" cy="125352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6019920" y="4724280"/>
            <a:ext cx="1523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111 00001 00101 .              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1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387" idx="0"/>
            <a:endCxn id="374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7:16:24Z</dcterms:created>
  <dc:creator>Alain Coppens</dc:creator>
  <dc:description/>
  <dc:language>en-US</dc:language>
  <cp:lastModifiedBy>Jorge Silva</cp:lastModifiedBy>
  <dcterms:modified xsi:type="dcterms:W3CDTF">2003-03-12T10:24:36Z</dcterms:modified>
  <cp:revision>39</cp:revision>
  <dc:subject/>
  <dc:title>Sin título de diapositiva</dc:title>
</cp:coreProperties>
</file>