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A43-5B39-4BCB-A63B-E55F2B7B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4F4-8FF8-4420-93A0-EC099D4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F2E-7E86-4E1A-834E-9CEDEF80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FCA-5418-4F15-8E72-A6F07E0B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737-E2E5-4EED-924A-5479A90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BF2-5701-46E4-9450-2433550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6F5-56E1-41D5-94AF-621CF3B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482-0A1E-4D12-A239-C2CADDE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C8C-8F7F-4855-A600-FBDFEB23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E54-2DA4-4DEA-9B21-A726A55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A4C-41D1-4EA8-A210-98E21EC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F75-7312-4190-997D-F0FCA32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DF1-41E4-4A56-AB3F-3689EABFCACC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0" y="3808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5600" y="762120"/>
            <a:ext cx="168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nguaje al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 = x + y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50160" y="1981080"/>
            <a:ext cx="40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emoria(100) = Memoria(100)+Memoria(1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971800"/>
            <a:ext cx="41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asem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(s2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add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C, 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5238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51460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maqu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-------- -(32 bit)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0 .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.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0001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..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4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1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            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41972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124080"/>
            <a:ext cx="457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2513160"/>
            <a:ext cx="2054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irec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1 almacena la posició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2 almacena la posición 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3"/>
            <a:endCxn id="49" idx="0"/>
          </p:cNvCxnSpPr>
          <p:nvPr/>
        </p:nvCxnSpPr>
        <p:spPr>
          <a:xfrm>
            <a:off x="2343240" y="2970720"/>
            <a:ext cx="1162440" cy="153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27520" y="4784760"/>
            <a:ext cx="164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at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200400"/>
            <a:ext cx="2286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3"/>
            <a:endCxn id="53" idx="4"/>
          </p:cNvCxnSpPr>
          <p:nvPr/>
        </p:nvCxnSpPr>
        <p:spPr>
          <a:xfrm flipV="1">
            <a:off x="1868400" y="4419720"/>
            <a:ext cx="1294560" cy="526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111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609480"/>
            <a:ext cx="352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r y hacer el acceso a escritura a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58672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61960" y="6248520"/>
            <a:ext cx="327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62320" y="57150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14840" y="32004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1"/>
            <a:endCxn id="433" idx="0"/>
          </p:cNvCxnSpPr>
          <p:nvPr/>
        </p:nvCxnSpPr>
        <p:spPr>
          <a:xfrm flipV="1" rot="10800000">
            <a:off x="5777640" y="4739040"/>
            <a:ext cx="2009160" cy="60588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289548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Interp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Unidad de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676520"/>
            <a:ext cx="2209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48520" y="1600200"/>
            <a:ext cx="1881000" cy="921960"/>
            <a:chOff x="6248520" y="1600200"/>
            <a:chExt cx="1881000" cy="921960"/>
          </a:xfrm>
        </p:grpSpPr>
        <p:sp>
          <p:nvSpPr>
            <p:cNvPr id="456" name=""/>
            <p:cNvSpPr/>
            <p:nvPr/>
          </p:nvSpPr>
          <p:spPr>
            <a:xfrm>
              <a:off x="6248520" y="160020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48520" y="190764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520" y="2215080"/>
              <a:ext cx="18810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867280" y="1828800"/>
            <a:ext cx="304920" cy="42876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009880"/>
            <a:ext cx="304920" cy="42840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strucción nivel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4" idx="2"/>
          </p:cNvCxnSpPr>
          <p:nvPr/>
        </p:nvCxnSpPr>
        <p:spPr>
          <a:xfrm>
            <a:off x="2362320" y="20955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7"/>
            <a:endCxn id="456" idx="0"/>
          </p:cNvCxnSpPr>
          <p:nvPr/>
        </p:nvCxnSpPr>
        <p:spPr>
          <a:xfrm flipH="1" flipV="1" rot="5400000">
            <a:off x="6032880" y="652680"/>
            <a:ext cx="210240" cy="2104200"/>
          </a:xfrm>
          <a:prstGeom prst="curvedConnector5">
            <a:avLst>
              <a:gd name="adj1" fmla="val 209090"/>
              <a:gd name="adj2" fmla="val 50000"/>
              <a:gd name="adj3" fmla="val 20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Instrucciones de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743200"/>
            <a:ext cx="22845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Señalización de un ciclo de Ma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6629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14400"/>
            <a:ext cx="23623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6640" y="26290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8" idx="0"/>
            <a:endCxn id="105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609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A y se incrementa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314840" y="31240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4" idx="0"/>
            <a:endCxn id="154" idx="1"/>
          </p:cNvCxnSpPr>
          <p:nvPr/>
        </p:nvCxnSpPr>
        <p:spPr>
          <a:xfrm flipH="1" flipV="1" rot="5400000">
            <a:off x="5993280" y="3780000"/>
            <a:ext cx="135036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0" idx="0"/>
            <a:endCxn id="197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6094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B; se incrementa el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391160" y="3505320"/>
            <a:ext cx="152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5812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56" idx="0"/>
            <a:endCxn id="247" idx="1"/>
          </p:cNvCxnSpPr>
          <p:nvPr/>
        </p:nvCxnSpPr>
        <p:spPr>
          <a:xfrm flipH="1" flipV="1" rot="5400000">
            <a:off x="6183720" y="3970800"/>
            <a:ext cx="96912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0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2" idx="0"/>
            <a:endCxn id="289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19720"/>
            <a:ext cx="3521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ción; se cargan los registros a la entrada de la ALU; la unidad de control da la señalización de que operación ejecutar; se guarda el resultado en registro interno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alelamente se incrementa e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8195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38" idx="1"/>
            <a:endCxn id="356" idx="0"/>
          </p:cNvCxnSpPr>
          <p:nvPr/>
        </p:nvCxnSpPr>
        <p:spPr>
          <a:xfrm rot="10800000">
            <a:off x="7162200" y="2818800"/>
            <a:ext cx="396000" cy="11768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39" idx="1"/>
            <a:endCxn id="353" idx="0"/>
          </p:cNvCxnSpPr>
          <p:nvPr/>
        </p:nvCxnSpPr>
        <p:spPr>
          <a:xfrm rot="10800000">
            <a:off x="6933600" y="3123360"/>
            <a:ext cx="624600" cy="125352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6019920" y="4724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1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87" idx="0"/>
            <a:endCxn id="374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7:16:24Z</dcterms:created>
  <dc:creator>Alain Coppens</dc:creator>
  <dc:description/>
  <dc:language>en-US</dc:language>
  <cp:lastModifiedBy>Jorge Silva</cp:lastModifiedBy>
  <dcterms:modified xsi:type="dcterms:W3CDTF">2003-03-12T10:24:36Z</dcterms:modified>
  <cp:revision>39</cp:revision>
  <dc:subject/>
  <dc:title>Sin título de diapositiva</dc:title>
</cp:coreProperties>
</file>