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4E641-BA27-411C-BB60-4BEE2DCCA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CA3F6-E445-443E-96AE-10693086B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8904F-CA88-4DD5-BED8-B2CA70EB1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669D1-3134-4BCB-B42E-45E754D36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8C2D5-E7BF-49C1-B8C8-789F15226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209B-7B8A-43C5-BC8A-B4922985A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AE161-6594-4581-BFFF-AE5D1354E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6029B-0236-4180-BDAA-705395961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7A201-B736-45B3-9992-ACC60FED3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EA98F-76CB-41FC-A587-150948008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5A37B-E4AE-4A1C-8189-CAB80B8C5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125-92E8-401A-9FA6-3CEA65DD8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6FC5-4BF6-42A5-852B-679261A228F2}" type="slidenum"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509200" y="38088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85600" y="762120"/>
            <a:ext cx="168192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lenguaje alto niv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Times New Roman"/>
              </a:rPr>
              <a:t>x = x + y ;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450160" y="1981080"/>
            <a:ext cx="405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Memoria(100) = Memoria(100)+Memoria(104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362320" y="2971800"/>
            <a:ext cx="4190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asemb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load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(s2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add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C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A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B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store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C, (s1)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114800" y="1523880"/>
            <a:ext cx="533520" cy="3049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91120" y="251460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4952880"/>
            <a:ext cx="6629400" cy="16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lenguaje maquin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	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         </a:t>
            </a:r>
            <a:r>
              <a:rPr b="0" lang="es-AR" sz="1600" spc="-1" strike="noStrike">
                <a:solidFill>
                  <a:srgbClr val="000066"/>
                </a:solidFill>
                <a:latin typeface="Times New Roman"/>
              </a:rPr>
              <a:t>-------- -(32 bit)-----------------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1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0 ..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A=Memoria(10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2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.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// B=Memoria(104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3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        0001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0066"/>
                </a:solidFill>
                <a:latin typeface="Times New Roman"/>
              </a:rPr>
              <a:t>00000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00cc99"/>
                </a:solidFill>
                <a:latin typeface="Times New Roman"/>
              </a:rPr>
              <a:t>000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..    // C=  A + 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I4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800" spc="-1" strike="noStrike">
                <a:solidFill>
                  <a:srgbClr val="ff3300"/>
                </a:solidFill>
                <a:latin typeface="Times New Roman"/>
              </a:rPr>
              <a:t>0011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800" spc="-1" strike="noStrike">
                <a:solidFill>
                  <a:srgbClr val="663300"/>
                </a:solidFill>
                <a:latin typeface="Times New Roman"/>
              </a:rPr>
              <a:t>00001</a:t>
            </a:r>
            <a:r>
              <a:rPr b="0" lang="es-AR" sz="1800" spc="-1" strike="noStrike">
                <a:solidFill>
                  <a:srgbClr val="000000"/>
                </a:solidFill>
                <a:latin typeface="Times New Roman"/>
              </a:rPr>
              <a:t> 00101 .               //  Memoria(100)=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4191120" y="4419720"/>
            <a:ext cx="533160" cy="3808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276720" y="3124080"/>
            <a:ext cx="457200" cy="838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080" y="2513160"/>
            <a:ext cx="205416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ireccione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1 almacena la posición 1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200" spc="-1" strike="noStrike">
                <a:solidFill>
                  <a:srgbClr val="000000"/>
                </a:solidFill>
                <a:latin typeface="Times New Roman"/>
              </a:rPr>
              <a:t>s2 almacena la posición 1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1" name=""/>
          <p:cNvCxnSpPr>
            <a:stCxn id="50" idx="3"/>
            <a:endCxn id="49" idx="0"/>
          </p:cNvCxnSpPr>
          <p:nvPr/>
        </p:nvCxnSpPr>
        <p:spPr>
          <a:xfrm>
            <a:off x="2343240" y="2970720"/>
            <a:ext cx="1162440" cy="1537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2" name=""/>
          <p:cNvSpPr/>
          <p:nvPr/>
        </p:nvSpPr>
        <p:spPr>
          <a:xfrm>
            <a:off x="227520" y="4784760"/>
            <a:ext cx="16408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1500" spc="-1" strike="noStrike">
                <a:solidFill>
                  <a:srgbClr val="000000"/>
                </a:solidFill>
                <a:latin typeface="Times New Roman"/>
              </a:rPr>
              <a:t>Registros de datos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3200400"/>
            <a:ext cx="228600" cy="1219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52" idx="3"/>
            <a:endCxn id="53" idx="4"/>
          </p:cNvCxnSpPr>
          <p:nvPr/>
        </p:nvCxnSpPr>
        <p:spPr>
          <a:xfrm flipV="1">
            <a:off x="1868400" y="4419720"/>
            <a:ext cx="1294560" cy="526320"/>
          </a:xfrm>
          <a:prstGeom prst="curvedConnector2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111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9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1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029200" y="609480"/>
            <a:ext cx="3521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8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r y hacer el acceso a escritura a memor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91320" y="58672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2361960" y="6248520"/>
            <a:ext cx="327636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V="1">
            <a:off x="2362320" y="571500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H="1">
            <a:off x="7314840" y="320040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51" name=""/>
          <p:cNvCxnSpPr>
            <a:stCxn id="428" idx="1"/>
            <a:endCxn id="433" idx="0"/>
          </p:cNvCxnSpPr>
          <p:nvPr/>
        </p:nvCxnSpPr>
        <p:spPr>
          <a:xfrm flipV="1" rot="10800000">
            <a:off x="5777640" y="4739040"/>
            <a:ext cx="2009160" cy="60588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3276720" y="2895480"/>
            <a:ext cx="19810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Interpre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0000"/>
                </a:solidFill>
                <a:latin typeface="Times New Roman"/>
              </a:rPr>
              <a:t>Unidad de Contro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3200400" y="1676520"/>
            <a:ext cx="2209680" cy="9144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Microprogram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6248520" y="1600200"/>
            <a:ext cx="1881000" cy="921960"/>
            <a:chOff x="6248520" y="1600200"/>
            <a:chExt cx="1881000" cy="921960"/>
          </a:xfrm>
        </p:grpSpPr>
        <p:sp>
          <p:nvSpPr>
            <p:cNvPr id="456" name=""/>
            <p:cNvSpPr/>
            <p:nvPr/>
          </p:nvSpPr>
          <p:spPr>
            <a:xfrm>
              <a:off x="6248520" y="160020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6248520" y="1907640"/>
              <a:ext cx="1881000" cy="307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</a:t>
              </a:r>
              <a:r>
                <a:rPr b="0" lang="es-ES" sz="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248520" y="2215080"/>
              <a:ext cx="18810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000000"/>
                  </a:solidFill>
                  <a:latin typeface="Times New Roman"/>
                </a:rPr>
                <a:t>MI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59" name=""/>
          <p:cNvSpPr/>
          <p:nvPr/>
        </p:nvSpPr>
        <p:spPr>
          <a:xfrm>
            <a:off x="5867280" y="1828800"/>
            <a:ext cx="304920" cy="42876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760"/>
              <a:gd name="textAreaBottom" fmla="*/ 311040 h 4287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5867280" y="2009880"/>
            <a:ext cx="304920" cy="428400"/>
          </a:xfrm>
          <a:custGeom>
            <a:avLst/>
            <a:gdLst>
              <a:gd name="textAreaLeft" fmla="*/ 40680 w 304920"/>
              <a:gd name="textAreaRight" fmla="*/ 264240 w 304920"/>
              <a:gd name="textAreaTop" fmla="*/ 74880 h 428400"/>
              <a:gd name="textAreaBottom" fmla="*/ 310680 h 428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9480" y="1905120"/>
            <a:ext cx="1752840" cy="380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Instrucción nivel 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2" name=""/>
          <p:cNvCxnSpPr>
            <a:stCxn id="461" idx="3"/>
            <a:endCxn id="454" idx="2"/>
          </p:cNvCxnSpPr>
          <p:nvPr/>
        </p:nvCxnSpPr>
        <p:spPr>
          <a:xfrm>
            <a:off x="2362320" y="2095560"/>
            <a:ext cx="838800" cy="38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63" name=""/>
          <p:cNvCxnSpPr>
            <a:stCxn id="454" idx="7"/>
            <a:endCxn id="456" idx="0"/>
          </p:cNvCxnSpPr>
          <p:nvPr/>
        </p:nvCxnSpPr>
        <p:spPr>
          <a:xfrm flipH="1" flipV="1" rot="5400000">
            <a:off x="6032880" y="652680"/>
            <a:ext cx="210240" cy="2104200"/>
          </a:xfrm>
          <a:prstGeom prst="curvedConnector5">
            <a:avLst>
              <a:gd name="adj1" fmla="val 209090"/>
              <a:gd name="adj2" fmla="val 50000"/>
              <a:gd name="adj3" fmla="val 20909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4" name=""/>
          <p:cNvSpPr/>
          <p:nvPr/>
        </p:nvSpPr>
        <p:spPr>
          <a:xfrm>
            <a:off x="380880" y="2895480"/>
            <a:ext cx="2133720" cy="60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Instrucciones de má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095880" y="2743200"/>
            <a:ext cx="2284560" cy="57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Ni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ff"/>
                </a:solidFill>
                <a:latin typeface="Times New Roman"/>
              </a:rPr>
              <a:t>Señalización de un ciclo de Maquin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066680" y="609480"/>
            <a:ext cx="6629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00200" y="914400"/>
            <a:ext cx="236232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096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99072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766640" y="2629080"/>
            <a:ext cx="58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1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"/>
          <p:cNvCxnSpPr>
            <a:stCxn id="118" idx="0"/>
            <a:endCxn id="105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2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029200" y="609480"/>
            <a:ext cx="3809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2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A y se incrementa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7314840" y="3124080"/>
            <a:ext cx="22860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315200" y="3200400"/>
            <a:ext cx="0" cy="20574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>
            <a:stCxn id="164" idx="0"/>
            <a:endCxn id="154" idx="1"/>
          </p:cNvCxnSpPr>
          <p:nvPr/>
        </p:nvCxnSpPr>
        <p:spPr>
          <a:xfrm flipH="1" flipV="1" rot="5400000">
            <a:off x="5993280" y="3780000"/>
            <a:ext cx="135036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8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3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10" idx="0"/>
            <a:endCxn id="197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    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</a:t>
            </a: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2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029200" y="609480"/>
            <a:ext cx="3733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4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Proceso de decodificación y acceso a memoria para cargar el registro interno B; se incrementa el P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7391160" y="3505320"/>
            <a:ext cx="1522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315200" y="3581280"/>
            <a:ext cx="0" cy="16765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56" idx="0"/>
            <a:endCxn id="247" idx="1"/>
          </p:cNvCxnSpPr>
          <p:nvPr/>
        </p:nvCxnSpPr>
        <p:spPr>
          <a:xfrm flipH="1" flipV="1" rot="5400000">
            <a:off x="6183720" y="3970800"/>
            <a:ext cx="969120" cy="178056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1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010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5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20" name=""/>
          <p:cNvCxnSpPr>
            <a:stCxn id="302" idx="0"/>
            <a:endCxn id="289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111 00001 00101 .    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000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</a:t>
            </a:r>
            <a:r>
              <a:rPr b="0" lang="es-AR" sz="1600" spc="-1" strike="noStrike">
                <a:solidFill>
                  <a:srgbClr val="ff33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44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6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 flipV="1">
            <a:off x="6477120" y="3124080"/>
            <a:ext cx="0" cy="457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6477120" y="3124080"/>
            <a:ext cx="45720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143000" y="4419720"/>
            <a:ext cx="3521160" cy="185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6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codificación; se cargan los registros a la entrada de la ALU; la unidad de control da la señalización de que operación ejecutar; se guarda el resultado en registro interno 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Paralelamente se incrementa en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486400" y="2819520"/>
            <a:ext cx="1676520" cy="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357" name=""/>
          <p:cNvCxnSpPr>
            <a:stCxn id="338" idx="1"/>
            <a:endCxn id="356" idx="0"/>
          </p:cNvCxnSpPr>
          <p:nvPr/>
        </p:nvCxnSpPr>
        <p:spPr>
          <a:xfrm rot="10800000">
            <a:off x="7162200" y="2818800"/>
            <a:ext cx="396000" cy="11768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cxnSp>
        <p:nvCxnSpPr>
          <p:cNvPr id="358" name=""/>
          <p:cNvCxnSpPr>
            <a:stCxn id="339" idx="1"/>
            <a:endCxn id="353" idx="0"/>
          </p:cNvCxnSpPr>
          <p:nvPr/>
        </p:nvCxnSpPr>
        <p:spPr>
          <a:xfrm rot="10800000">
            <a:off x="6933600" y="3123360"/>
            <a:ext cx="624600" cy="125352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  <p:sp>
        <p:nvSpPr>
          <p:cNvPr id="359" name=""/>
          <p:cNvSpPr/>
          <p:nvPr/>
        </p:nvSpPr>
        <p:spPr>
          <a:xfrm>
            <a:off x="6019920" y="4724280"/>
            <a:ext cx="15238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2356920" y="22860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000" spc="-1" strike="noStrike">
                <a:solidFill>
                  <a:srgbClr val="000000"/>
                </a:solidFill>
                <a:latin typeface="Times New Roman"/>
              </a:rPr>
              <a:t>Ejemplo de ejecucción de instru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04920" y="609480"/>
            <a:ext cx="43434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        </a:t>
            </a:r>
            <a:r>
              <a:rPr b="0" lang="es-AR" sz="1200" spc="-1" strike="noStrike">
                <a:solidFill>
                  <a:srgbClr val="000066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0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0 ..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A=Memoria(10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4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00011 00001 00101 .. 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// B=Memoria(10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18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808080"/>
                </a:solidFill>
                <a:latin typeface="Times New Roman"/>
              </a:rPr>
              <a:t> 00010 00101 00001 00001..   // C=  A + 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22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 00111 00001 00101 .              //  Memoria(100)=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AR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990720" y="914400"/>
            <a:ext cx="2133360" cy="3352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1752480" y="609480"/>
            <a:ext cx="175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emor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28600" y="3124080"/>
            <a:ext cx="4114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0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04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5029200" y="1828800"/>
            <a:ext cx="38862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5411880" y="2057400"/>
            <a:ext cx="67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PU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7574040" y="2247840"/>
            <a:ext cx="1127160" cy="3009960"/>
          </a:xfrm>
          <a:prstGeom prst="rect">
            <a:avLst/>
          </a:prstGeom>
          <a:noFill/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7574040" y="2247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7574040" y="2629080"/>
            <a:ext cx="1127160" cy="37116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7574040" y="300996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7574040" y="339084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7774560" y="2324160"/>
            <a:ext cx="747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PC=2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7621200" y="1905120"/>
            <a:ext cx="96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66"/>
                </a:solidFill>
                <a:latin typeface="Times New Roman"/>
              </a:rPr>
              <a:t>registr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7698240" y="2590920"/>
            <a:ext cx="10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IR= </a:t>
            </a:r>
            <a:r>
              <a:rPr b="0" lang="es-AR" sz="1200" spc="-1" strike="noStrike">
                <a:solidFill>
                  <a:srgbClr val="ff3300"/>
                </a:solidFill>
                <a:latin typeface="Times New Roman"/>
              </a:rPr>
              <a:t>00111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7760520" y="304812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1=1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7760520" y="3429000"/>
            <a:ext cx="782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2=10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7558200" y="380988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7558200" y="419112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7558200" y="4572000"/>
            <a:ext cx="1127160" cy="371520"/>
          </a:xfrm>
          <a:prstGeom prst="rect">
            <a:avLst/>
          </a:prstGeom>
          <a:noFill/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7819920" y="3886200"/>
            <a:ext cx="728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A=3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7821720" y="4191120"/>
            <a:ext cx="87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B=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7786800" y="4572000"/>
            <a:ext cx="761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600" spc="-1" strike="noStrike">
                <a:solidFill>
                  <a:srgbClr val="000000"/>
                </a:solidFill>
                <a:latin typeface="Times New Roman"/>
              </a:rPr>
              <a:t>C=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83" name=""/>
          <p:cNvGraphicFramePr/>
          <p:nvPr/>
        </p:nvGraphicFramePr>
        <p:xfrm>
          <a:off x="5181480" y="3352680"/>
          <a:ext cx="1600200" cy="108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81480" y="3352680"/>
                    <a:ext cx="1600200" cy="108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5" name=""/>
          <p:cNvSpPr/>
          <p:nvPr/>
        </p:nvSpPr>
        <p:spPr>
          <a:xfrm>
            <a:off x="5640480" y="380988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5105520" y="5638680"/>
            <a:ext cx="144756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010840" y="5345280"/>
            <a:ext cx="153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nterfaz  bus dato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629400" y="5638680"/>
            <a:ext cx="1447920" cy="15264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6550560" y="5334120"/>
            <a:ext cx="157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Times New Roman"/>
              </a:rPr>
              <a:t>interfaz  bus dirre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flipV="1">
            <a:off x="647712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 flipV="1">
            <a:off x="5486400" y="281916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5486400" y="281952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477120" y="28195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6019920" y="41911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019920" y="47242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5029200" y="609480"/>
            <a:ext cx="3521160" cy="112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Times New Roman"/>
              </a:rPr>
              <a:t>Paso 7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cceso a memoria para   leer   contenido apuntado por PC   y guardar en el registro de instruc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7238520" y="2438280"/>
            <a:ext cx="3049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7238880" y="2438280"/>
            <a:ext cx="0" cy="274320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7238880" y="586728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676520" y="6553080"/>
            <a:ext cx="541008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 flipV="1">
            <a:off x="1676520" y="5790960"/>
            <a:ext cx="0" cy="68580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438280" y="5638680"/>
            <a:ext cx="0" cy="6098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2438280" y="6324480"/>
            <a:ext cx="3276720" cy="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5715000" y="5943240"/>
            <a:ext cx="0" cy="30492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05" name=""/>
          <p:cNvCxnSpPr>
            <a:stCxn id="387" idx="0"/>
            <a:endCxn id="374" idx="1"/>
          </p:cNvCxnSpPr>
          <p:nvPr/>
        </p:nvCxnSpPr>
        <p:spPr>
          <a:xfrm flipH="1" flipV="1" rot="5400000">
            <a:off x="5443560" y="3092760"/>
            <a:ext cx="2586960" cy="1918440"/>
          </a:xfrm>
          <a:prstGeom prst="curvedConnector2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4T17:16:24Z</dcterms:created>
  <dc:creator>Alain Coppens</dc:creator>
  <dc:description/>
  <dc:language>en-US</dc:language>
  <cp:lastModifiedBy>Jorge Silva</cp:lastModifiedBy>
  <dcterms:modified xsi:type="dcterms:W3CDTF">2003-03-12T10:24:36Z</dcterms:modified>
  <cp:revision>39</cp:revision>
  <dc:subject/>
  <dc:title>Sin título de diapositiva</dc:title>
</cp:coreProperties>
</file>