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35F5-632C-433C-B5F8-A07FC295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3A01-C802-4662-AC39-7A76EE34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DBAC-B87D-43A3-82AF-4F97C2E9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CD2-D215-45C2-882E-F10D9886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3BE-1B90-4B08-A052-E55416F8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77D2-6B3B-4D14-86C5-C6DD6798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F1BF-4EC2-491D-9844-0FDCE484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30C1-367F-42AF-A613-94920699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F4CB-0D6D-4E7F-8C43-2A648DE0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0608-F981-4AA1-AFE2-E4D91F2B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69CD-8FF7-45AA-91F7-B7905AD8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026-C4C3-4E59-9C65-2DD2FCB2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DD33-110A-4636-AADD-E419861A539D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0" y="38088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5600" y="762120"/>
            <a:ext cx="1681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lenguaje alto ni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x = x + y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50160" y="1981080"/>
            <a:ext cx="405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Memoria(100) = Memoria(100)+Memoria(1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2971800"/>
            <a:ext cx="4190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lenguaje asemb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load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,(s1)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// A=Memoria(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load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, (s2)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// B=Memoria(1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add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663300"/>
                </a:solidFill>
                <a:latin typeface="Times New Roman"/>
              </a:rPr>
              <a:t>C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AR" sz="1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AR" sz="18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         // C=  A +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store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C, (s1)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//  Memoria(100)=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1523880"/>
            <a:ext cx="5335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514600"/>
            <a:ext cx="53316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4952880"/>
            <a:ext cx="6629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lenguaje maqu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-------- -(32 bit)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0001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0066"/>
                </a:solidFill>
                <a:latin typeface="Times New Roman"/>
              </a:rPr>
              <a:t>00000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00100 ..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// A=Memoria(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0001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cc99"/>
                </a:solidFill>
                <a:latin typeface="Times New Roman"/>
              </a:rPr>
              <a:t>0001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00101 ..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// B=Memoria(1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        00010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0066"/>
                </a:solidFill>
                <a:latin typeface="Times New Roman"/>
              </a:rPr>
              <a:t>00000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cc99"/>
                </a:solidFill>
                <a:latin typeface="Times New Roman"/>
              </a:rPr>
              <a:t>0001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663300"/>
                </a:solidFill>
                <a:latin typeface="Times New Roman"/>
              </a:rPr>
              <a:t>0000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..    // C=  A +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I4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0011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663300"/>
                </a:solidFill>
                <a:latin typeface="Times New Roman"/>
              </a:rPr>
              <a:t>0000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00101 .               //  Memoria(100)=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4419720"/>
            <a:ext cx="53316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3124080"/>
            <a:ext cx="45720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080" y="2513160"/>
            <a:ext cx="20541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Times New Roman"/>
              </a:rPr>
              <a:t>Registros de direcci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s1 almacena la posición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s2 almacena la posición 1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3"/>
            <a:endCxn id="49" idx="0"/>
          </p:cNvCxnSpPr>
          <p:nvPr/>
        </p:nvCxnSpPr>
        <p:spPr>
          <a:xfrm>
            <a:off x="2343240" y="2970720"/>
            <a:ext cx="1162440" cy="1537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227520" y="4784760"/>
            <a:ext cx="1640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Times New Roman"/>
              </a:rPr>
              <a:t>Registros de dato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3200400"/>
            <a:ext cx="22860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3"/>
            <a:endCxn id="53" idx="4"/>
          </p:cNvCxnSpPr>
          <p:nvPr/>
        </p:nvCxnSpPr>
        <p:spPr>
          <a:xfrm flipV="1">
            <a:off x="1868400" y="4419720"/>
            <a:ext cx="1294560" cy="5263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00111 00001 00101 .              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00111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029200" y="609480"/>
            <a:ext cx="3521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8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odificar y hacer el acceso a escritura a memo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91320" y="586728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361960" y="6248520"/>
            <a:ext cx="3276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362320" y="571500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314840" y="320040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315200" y="3200400"/>
            <a:ext cx="0" cy="2057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28" idx="1"/>
            <a:endCxn id="433" idx="0"/>
          </p:cNvCxnSpPr>
          <p:nvPr/>
        </p:nvCxnSpPr>
        <p:spPr>
          <a:xfrm flipV="1" rot="10800000">
            <a:off x="5777640" y="4739040"/>
            <a:ext cx="2009160" cy="60588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76720" y="2895480"/>
            <a:ext cx="1981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Times New Roman"/>
              </a:rPr>
              <a:t>Interp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Times New Roman"/>
              </a:rPr>
              <a:t>Unidad de Contro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00400" y="1676520"/>
            <a:ext cx="22096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icroprogr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248520" y="1600200"/>
            <a:ext cx="1881000" cy="921960"/>
            <a:chOff x="6248520" y="1600200"/>
            <a:chExt cx="1881000" cy="921960"/>
          </a:xfrm>
        </p:grpSpPr>
        <p:sp>
          <p:nvSpPr>
            <p:cNvPr id="456" name=""/>
            <p:cNvSpPr/>
            <p:nvPr/>
          </p:nvSpPr>
          <p:spPr>
            <a:xfrm>
              <a:off x="6248520" y="1600200"/>
              <a:ext cx="1881000" cy="30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MI</a:t>
              </a:r>
              <a:r>
                <a:rPr b="0" lang="es-E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48520" y="1907640"/>
              <a:ext cx="1881000" cy="30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MI</a:t>
              </a:r>
              <a:r>
                <a:rPr b="0" lang="es-E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48520" y="2215080"/>
              <a:ext cx="18810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MI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5867280" y="1828800"/>
            <a:ext cx="304920" cy="428760"/>
          </a:xfrm>
          <a:custGeom>
            <a:avLst/>
            <a:gdLst>
              <a:gd name="textAreaLeft" fmla="*/ 40680 w 304920"/>
              <a:gd name="textAreaRight" fmla="*/ 264240 w 304920"/>
              <a:gd name="textAreaTop" fmla="*/ 74880 h 428760"/>
              <a:gd name="textAreaBottom" fmla="*/ 311040 h 428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67280" y="2009880"/>
            <a:ext cx="304920" cy="428400"/>
          </a:xfrm>
          <a:custGeom>
            <a:avLst/>
            <a:gdLst>
              <a:gd name="textAreaLeft" fmla="*/ 40680 w 304920"/>
              <a:gd name="textAreaRight" fmla="*/ 264240 w 304920"/>
              <a:gd name="textAreaTop" fmla="*/ 74880 h 428400"/>
              <a:gd name="textAreaBottom" fmla="*/ 31068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905120"/>
            <a:ext cx="1752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Instrucción nivel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"/>
          <p:cNvCxnSpPr>
            <a:stCxn id="461" idx="3"/>
            <a:endCxn id="454" idx="2"/>
          </p:cNvCxnSpPr>
          <p:nvPr/>
        </p:nvCxnSpPr>
        <p:spPr>
          <a:xfrm>
            <a:off x="2362320" y="2095560"/>
            <a:ext cx="8388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4" idx="7"/>
            <a:endCxn id="456" idx="0"/>
          </p:cNvCxnSpPr>
          <p:nvPr/>
        </p:nvCxnSpPr>
        <p:spPr>
          <a:xfrm flipH="1" flipV="1" rot="5400000">
            <a:off x="6032880" y="652680"/>
            <a:ext cx="210240" cy="2104200"/>
          </a:xfrm>
          <a:prstGeom prst="curvedConnector5">
            <a:avLst>
              <a:gd name="adj1" fmla="val 209090"/>
              <a:gd name="adj2" fmla="val 50000"/>
              <a:gd name="adj3" fmla="val 2090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"/>
          <p:cNvSpPr/>
          <p:nvPr/>
        </p:nvSpPr>
        <p:spPr>
          <a:xfrm>
            <a:off x="380880" y="2895480"/>
            <a:ext cx="21337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Times New Roman"/>
              </a:rPr>
              <a:t>Ni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Times New Roman"/>
              </a:rPr>
              <a:t>Instrucciones de máqu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5880" y="2743200"/>
            <a:ext cx="228456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Times New Roman"/>
              </a:rPr>
              <a:t>Ni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Times New Roman"/>
              </a:rPr>
              <a:t>Señalización de un ciclo de Maqu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609480"/>
            <a:ext cx="6629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914400"/>
            <a:ext cx="236232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66640" y="262908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609480"/>
            <a:ext cx="3521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o a memoria para   leer   contenido apuntado por PC   y guardar en el registro de i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238520" y="24382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24382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18" idx="0"/>
            <a:endCxn id="105" idx="1"/>
          </p:cNvCxnSpPr>
          <p:nvPr/>
        </p:nvCxnSpPr>
        <p:spPr>
          <a:xfrm flipH="1" flipV="1" rot="5400000">
            <a:off x="5443560" y="3092760"/>
            <a:ext cx="2586960" cy="191844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00011.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6094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Proceso de decodificación y acceso a memoria para cargar el registro interno A y se incrementa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7314840" y="312408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5200" y="3200400"/>
            <a:ext cx="0" cy="2057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64" idx="0"/>
            <a:endCxn id="154" idx="1"/>
          </p:cNvCxnSpPr>
          <p:nvPr/>
        </p:nvCxnSpPr>
        <p:spPr>
          <a:xfrm flipH="1" flipV="1" rot="5400000">
            <a:off x="5993280" y="3780000"/>
            <a:ext cx="1350360" cy="178056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609480"/>
            <a:ext cx="3521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o a memoria para   leer   contenido apuntado por PC   y guardar en el registro de i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238520" y="24382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38880" y="24382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10" idx="0"/>
            <a:endCxn id="197" idx="1"/>
          </p:cNvCxnSpPr>
          <p:nvPr/>
        </p:nvCxnSpPr>
        <p:spPr>
          <a:xfrm flipH="1" flipV="1" rot="5400000">
            <a:off x="5443560" y="3092760"/>
            <a:ext cx="2586960" cy="191844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    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00011.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6094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Proceso de decodificación y acceso a memoria para cargar el registro interno B; se incrementa el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7391160" y="3505320"/>
            <a:ext cx="152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15200" y="35812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56" idx="0"/>
            <a:endCxn id="247" idx="1"/>
          </p:cNvCxnSpPr>
          <p:nvPr/>
        </p:nvCxnSpPr>
        <p:spPr>
          <a:xfrm flipH="1" flipV="1" rot="5400000">
            <a:off x="6183720" y="3970800"/>
            <a:ext cx="969120" cy="178056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00010 00101 00001 00001..   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0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609480"/>
            <a:ext cx="3521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o a memoria para   leer   contenido apuntado por PC   y guardar en el registro de i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238520" y="24382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38880" y="24382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02" idx="0"/>
            <a:endCxn id="289" idx="1"/>
          </p:cNvCxnSpPr>
          <p:nvPr/>
        </p:nvCxnSpPr>
        <p:spPr>
          <a:xfrm flipH="1" flipV="1" rot="5400000">
            <a:off x="5443560" y="3092760"/>
            <a:ext cx="2586960" cy="191844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00010 00101 00001 00001..   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00011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6477120" y="312408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77120" y="3124080"/>
            <a:ext cx="4572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43000" y="4419720"/>
            <a:ext cx="35211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odificación; se cargan los registros a la entrada de la ALU; la unidad de control da la señalización de que operación ejecutar; se guarda el resultado en registro interno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Paralelamente se incrementa en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86400" y="2819520"/>
            <a:ext cx="16765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38" idx="1"/>
            <a:endCxn id="356" idx="0"/>
          </p:cNvCxnSpPr>
          <p:nvPr/>
        </p:nvCxnSpPr>
        <p:spPr>
          <a:xfrm rot="10800000">
            <a:off x="7162200" y="2818800"/>
            <a:ext cx="396000" cy="117684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39" idx="1"/>
            <a:endCxn id="353" idx="0"/>
          </p:cNvCxnSpPr>
          <p:nvPr/>
        </p:nvCxnSpPr>
        <p:spPr>
          <a:xfrm rot="10800000">
            <a:off x="6933600" y="3123360"/>
            <a:ext cx="624600" cy="125352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6019920" y="4724280"/>
            <a:ext cx="15238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00111 00001 00101 .              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111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29200" y="609480"/>
            <a:ext cx="3521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o a memoria para   leer   contenido apuntado por PC   y guardar en el registro de i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7238520" y="24382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24382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stCxn id="387" idx="0"/>
            <a:endCxn id="374" idx="1"/>
          </p:cNvCxnSpPr>
          <p:nvPr/>
        </p:nvCxnSpPr>
        <p:spPr>
          <a:xfrm flipH="1" flipV="1" rot="5400000">
            <a:off x="5443560" y="3092760"/>
            <a:ext cx="2586960" cy="191844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7:16:24Z</dcterms:created>
  <dc:creator>Alain Coppens</dc:creator>
  <dc:description/>
  <dc:language>en-US</dc:language>
  <cp:lastModifiedBy>Jorge Silva</cp:lastModifiedBy>
  <dcterms:modified xsi:type="dcterms:W3CDTF">2003-03-12T10:24:36Z</dcterms:modified>
  <cp:revision>39</cp:revision>
  <dc:subject/>
  <dc:title>Sin título de diapositiva</dc:title>
</cp:coreProperties>
</file>