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wmf" ContentType="image/x-wmf"/>
  <Override PartName="/ppt/media/image31.wmf" ContentType="image/x-wmf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11.png" ContentType="image/png"/>
  <Override PartName="/ppt/media/image9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9.png" ContentType="image/png"/>
  <Override PartName="/ppt/media/image42.wmf" ContentType="image/x-wmf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69560" y="64087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-8280" y="6412680"/>
            <a:ext cx="52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4. Fundamentos de Electricidad y Electr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72560" y="2082960"/>
            <a:ext cx="6570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4.1 Reseña Histó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4.2 Introducción a los Modelos de 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4.3 Fundamentos de Corriente Continua y 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4.4 Corriente Alterna y Compon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06360" y="1145160"/>
            <a:ext cx="585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4- 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209520" y="976680"/>
            <a:ext cx="24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Corriente y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50004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438120" y="1432080"/>
            <a:ext cx="831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mposibilidad de ver corriente eléctrica por un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rriente eléctrica --&gt; cargas eléctricas moviéndose en un conductor (cierto número de cargas (típicamente electrones) que pasan por un punto de un conductor en un tiempo determin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odelo de agua --&gt; flujo de agua en cañería (cierto número moléculas agua que pasan por un punto en un tiempo determin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741840" y="5321160"/>
            <a:ext cx="1044360" cy="63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"/>
          <p:cNvSpPr/>
          <p:nvPr/>
        </p:nvSpPr>
        <p:spPr>
          <a:xfrm rot="3688800">
            <a:off x="1191600" y="4333680"/>
            <a:ext cx="147600" cy="81756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8"/>
          <p:cNvSpPr/>
          <p:nvPr/>
        </p:nvSpPr>
        <p:spPr>
          <a:xfrm rot="3656400">
            <a:off x="2011680" y="4707720"/>
            <a:ext cx="557280" cy="927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9"/>
          <p:cNvSpPr/>
          <p:nvPr/>
        </p:nvSpPr>
        <p:spPr>
          <a:xfrm>
            <a:off x="6318360" y="5173560"/>
            <a:ext cx="1295280" cy="87336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10"/>
          <p:cNvSpPr/>
          <p:nvPr/>
        </p:nvSpPr>
        <p:spPr>
          <a:xfrm>
            <a:off x="6453360" y="5299200"/>
            <a:ext cx="1027080" cy="608040"/>
          </a:xfrm>
          <a:prstGeom prst="flowChartAlternateProcess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277920" y="5215680"/>
            <a:ext cx="1093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able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1812960" y="5806440"/>
            <a:ext cx="901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añ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3"/>
          <p:cNvSpPr/>
          <p:nvPr/>
        </p:nvSpPr>
        <p:spPr>
          <a:xfrm flipV="1">
            <a:off x="744480" y="4960440"/>
            <a:ext cx="19692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4"/>
          <p:cNvSpPr/>
          <p:nvPr/>
        </p:nvSpPr>
        <p:spPr>
          <a:xfrm flipV="1">
            <a:off x="1617840" y="4411800"/>
            <a:ext cx="196560" cy="1188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5"/>
          <p:cNvSpPr/>
          <p:nvPr/>
        </p:nvSpPr>
        <p:spPr>
          <a:xfrm flipV="1">
            <a:off x="1697040" y="5416200"/>
            <a:ext cx="19692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6"/>
          <p:cNvSpPr/>
          <p:nvPr/>
        </p:nvSpPr>
        <p:spPr>
          <a:xfrm flipV="1">
            <a:off x="2612880" y="4820760"/>
            <a:ext cx="196920" cy="119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7"/>
              <p:cNvSpPr txBox="1"/>
              <p:nvPr/>
            </p:nvSpPr>
            <p:spPr>
              <a:xfrm>
                <a:off x="1452600" y="3719520"/>
                <a:ext cx="896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Text Box 18"/>
          <p:cNvSpPr/>
          <p:nvPr/>
        </p:nvSpPr>
        <p:spPr>
          <a:xfrm>
            <a:off x="6168960" y="3427200"/>
            <a:ext cx="2346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Comic Sans MS"/>
              </a:rPr>
              <a:t>Analogías y Un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9"/>
          <p:cNvSpPr/>
          <p:nvPr/>
        </p:nvSpPr>
        <p:spPr>
          <a:xfrm>
            <a:off x="4176000" y="3715560"/>
            <a:ext cx="47721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# de moléculas vs. # de cargas elem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mt</a:t>
            </a:r>
            <a:r>
              <a:rPr b="0" lang="es-E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vs. C = 6.3x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I Ampere, Amperio (1C/s) (prefijos de unida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20"/>
          <p:cNvSpPr/>
          <p:nvPr/>
        </p:nvSpPr>
        <p:spPr>
          <a:xfrm>
            <a:off x="7477200" y="5167440"/>
            <a:ext cx="1295280" cy="87300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21"/>
          <p:cNvSpPr/>
          <p:nvPr/>
        </p:nvSpPr>
        <p:spPr>
          <a:xfrm>
            <a:off x="7548480" y="5265720"/>
            <a:ext cx="1123920" cy="687240"/>
          </a:xfrm>
          <a:prstGeom prst="flowChartAlternateProcess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22"/>
          <p:cNvSpPr/>
          <p:nvPr/>
        </p:nvSpPr>
        <p:spPr>
          <a:xfrm>
            <a:off x="8623440" y="5484960"/>
            <a:ext cx="196560" cy="317520"/>
          </a:xfrm>
          <a:prstGeom prst="downArrow">
            <a:avLst>
              <a:gd name="adj1" fmla="val 41306"/>
              <a:gd name="adj2" fmla="val 6784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23"/>
          <p:cNvSpPr/>
          <p:nvPr/>
        </p:nvSpPr>
        <p:spPr>
          <a:xfrm>
            <a:off x="7435800" y="5489640"/>
            <a:ext cx="135000" cy="317520"/>
          </a:xfrm>
          <a:prstGeom prst="downArrow">
            <a:avLst>
              <a:gd name="adj1" fmla="val 41306"/>
              <a:gd name="adj2" fmla="val 9878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24"/>
          <p:cNvSpPr/>
          <p:nvPr/>
        </p:nvSpPr>
        <p:spPr>
          <a:xfrm flipV="1">
            <a:off x="6237360" y="5359320"/>
            <a:ext cx="306360" cy="317520"/>
          </a:xfrm>
          <a:prstGeom prst="downArrow">
            <a:avLst>
              <a:gd name="adj1" fmla="val 13639"/>
              <a:gd name="adj2" fmla="val 5648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5"/>
          <p:cNvSpPr/>
          <p:nvPr/>
        </p:nvSpPr>
        <p:spPr>
          <a:xfrm>
            <a:off x="4788000" y="5313240"/>
            <a:ext cx="1044360" cy="642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3801960" y="6130080"/>
            <a:ext cx="1941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ircuit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27"/>
          <p:cNvSpPr/>
          <p:nvPr/>
        </p:nvSpPr>
        <p:spPr>
          <a:xfrm>
            <a:off x="6545160" y="6122160"/>
            <a:ext cx="1941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ircuito Hidráu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4738680" y="5530680"/>
            <a:ext cx="10944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9"/>
          <p:cNvSpPr/>
          <p:nvPr/>
        </p:nvSpPr>
        <p:spPr>
          <a:xfrm>
            <a:off x="5784840" y="5522760"/>
            <a:ext cx="11124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30"/>
          <p:cNvSpPr/>
          <p:nvPr/>
        </p:nvSpPr>
        <p:spPr>
          <a:xfrm>
            <a:off x="3613320" y="5518080"/>
            <a:ext cx="233280" cy="27612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1"/>
          <p:cNvSpPr/>
          <p:nvPr/>
        </p:nvSpPr>
        <p:spPr>
          <a:xfrm flipV="1">
            <a:off x="3736800" y="5549760"/>
            <a:ext cx="0" cy="198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Object 32"/>
              <p:cNvSpPr txBox="1"/>
              <p:nvPr/>
            </p:nvSpPr>
            <p:spPr>
              <a:xfrm>
                <a:off x="4164120" y="5024520"/>
                <a:ext cx="199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33"/>
              <p:cNvSpPr txBox="1"/>
              <p:nvPr/>
            </p:nvSpPr>
            <p:spPr>
              <a:xfrm>
                <a:off x="4935600" y="5019840"/>
                <a:ext cx="233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34"/>
              <p:cNvSpPr txBox="1"/>
              <p:nvPr/>
            </p:nvSpPr>
            <p:spPr>
              <a:xfrm>
                <a:off x="4865760" y="5427720"/>
                <a:ext cx="216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Line 35"/>
          <p:cNvSpPr/>
          <p:nvPr/>
        </p:nvSpPr>
        <p:spPr>
          <a:xfrm>
            <a:off x="4346640" y="5261040"/>
            <a:ext cx="1825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36"/>
          <p:cNvSpPr/>
          <p:nvPr/>
        </p:nvSpPr>
        <p:spPr>
          <a:xfrm>
            <a:off x="5172120" y="5268960"/>
            <a:ext cx="18252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37"/>
          <p:cNvSpPr/>
          <p:nvPr/>
        </p:nvSpPr>
        <p:spPr>
          <a:xfrm>
            <a:off x="5089680" y="5504040"/>
            <a:ext cx="0" cy="198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38"/>
              <p:cNvSpPr txBox="1"/>
              <p:nvPr/>
            </p:nvSpPr>
            <p:spPr>
              <a:xfrm>
                <a:off x="2568600" y="3619440"/>
                <a:ext cx="1314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95" name="Group 39"/>
          <p:cNvGrpSpPr/>
          <p:nvPr/>
        </p:nvGrpSpPr>
        <p:grpSpPr>
          <a:xfrm>
            <a:off x="6934320" y="914040"/>
            <a:ext cx="1981080" cy="686160"/>
            <a:chOff x="6934320" y="914040"/>
            <a:chExt cx="1981080" cy="686160"/>
          </a:xfrm>
        </p:grpSpPr>
        <p:sp>
          <p:nvSpPr>
            <p:cNvPr id="696" name="AutoShape 40"/>
            <p:cNvSpPr/>
            <p:nvPr/>
          </p:nvSpPr>
          <p:spPr>
            <a:xfrm rot="16200000">
              <a:off x="7581960" y="266400"/>
              <a:ext cx="685800" cy="1981080"/>
            </a:xfrm>
            <a:prstGeom prst="can">
              <a:avLst>
                <a:gd name="adj" fmla="val 85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41"/>
            <p:cNvSpPr/>
            <p:nvPr/>
          </p:nvSpPr>
          <p:spPr>
            <a:xfrm>
              <a:off x="8443440" y="914400"/>
              <a:ext cx="1886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2"/>
            <p:cNvSpPr/>
            <p:nvPr/>
          </p:nvSpPr>
          <p:spPr>
            <a:xfrm>
              <a:off x="7323120" y="1101240"/>
              <a:ext cx="93960" cy="124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3"/>
            <p:cNvSpPr/>
            <p:nvPr/>
          </p:nvSpPr>
          <p:spPr>
            <a:xfrm>
              <a:off x="7323120" y="1350720"/>
              <a:ext cx="93960" cy="124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44"/>
            <p:cNvSpPr/>
            <p:nvPr/>
          </p:nvSpPr>
          <p:spPr>
            <a:xfrm>
              <a:off x="7971840" y="1101240"/>
              <a:ext cx="94320" cy="124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Oval 45"/>
            <p:cNvSpPr/>
            <p:nvPr/>
          </p:nvSpPr>
          <p:spPr>
            <a:xfrm>
              <a:off x="7971840" y="1350720"/>
              <a:ext cx="94320" cy="12456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46"/>
            <p:cNvSpPr/>
            <p:nvPr/>
          </p:nvSpPr>
          <p:spPr>
            <a:xfrm>
              <a:off x="7464600" y="116352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47"/>
            <p:cNvSpPr/>
            <p:nvPr/>
          </p:nvSpPr>
          <p:spPr>
            <a:xfrm>
              <a:off x="7464600" y="141300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8"/>
            <p:cNvSpPr/>
            <p:nvPr/>
          </p:nvSpPr>
          <p:spPr>
            <a:xfrm>
              <a:off x="8113320" y="116352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49"/>
            <p:cNvSpPr/>
            <p:nvPr/>
          </p:nvSpPr>
          <p:spPr>
            <a:xfrm>
              <a:off x="8113320" y="141300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50"/>
            <p:cNvSpPr/>
            <p:nvPr/>
          </p:nvSpPr>
          <p:spPr>
            <a:xfrm>
              <a:off x="7122600" y="1000080"/>
              <a:ext cx="37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51"/>
            <p:cNvSpPr/>
            <p:nvPr/>
          </p:nvSpPr>
          <p:spPr>
            <a:xfrm>
              <a:off x="7134480" y="1199880"/>
              <a:ext cx="37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52"/>
            <p:cNvSpPr/>
            <p:nvPr/>
          </p:nvSpPr>
          <p:spPr>
            <a:xfrm>
              <a:off x="7831440" y="101304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53"/>
            <p:cNvSpPr/>
            <p:nvPr/>
          </p:nvSpPr>
          <p:spPr>
            <a:xfrm>
              <a:off x="7831440" y="119988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176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1"/>
          <p:cNvSpPr/>
          <p:nvPr/>
        </p:nvSpPr>
        <p:spPr>
          <a:xfrm>
            <a:off x="146160" y="1355040"/>
            <a:ext cx="89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XI Conferencia General de Pesas y Medidas celebrada en París en 19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Magnitudes básicas y de las magnitudes de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64880" y="976680"/>
            <a:ext cx="449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Sistema Internacional de Me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152280" y="2044080"/>
            <a:ext cx="84582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Unidades fundamentales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Longitud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l metro (m) es la longitud recorrida por la luz en el vacío durante un período de tiempo de 1/299 792 458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Masa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l kilogramo (kg)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Tiempo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l segundo (s) es la duración de 9 192 631 770 períodos de la radiación correspondiente a la transición entre dos niveles fundamentales del átomo Cesio 13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Corriente Eléctrica: </a:t>
            </a: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El ampere (A) es la intensidad de corriente, la cual al mantenerse entre dos conductores paralelos, rectilíneos, longitud infinita, sección transversal circular despreciable y separados en el vacío por una distancia de un metro, producirá una fuerza entre estos dos conductores igual a 2 x 10</a:t>
            </a:r>
            <a:r>
              <a:rPr b="0" lang="es-MX" sz="1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 N por cada metro de longit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Temperatura Termodinámica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l Kelvin (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Intensidad Luminosa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a candela (c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Unidad de Cantidad de Sustancia: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l 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4176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I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-60480" y="761040"/>
            <a:ext cx="449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Sistema Internacional de Me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Object 6"/>
          <p:cNvGraphicFramePr/>
          <p:nvPr/>
        </p:nvGraphicFramePr>
        <p:xfrm>
          <a:off x="1447920" y="1143000"/>
          <a:ext cx="655308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55308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AutoShape 7"/>
          <p:cNvSpPr/>
          <p:nvPr/>
        </p:nvSpPr>
        <p:spPr>
          <a:xfrm>
            <a:off x="380880" y="1905120"/>
            <a:ext cx="7315200" cy="2209680"/>
          </a:xfrm>
          <a:prstGeom prst="wedgeRectCallout">
            <a:avLst>
              <a:gd name="adj1" fmla="val 14148"/>
              <a:gd name="adj2" fmla="val 204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El culombio, símbolo C, es la Unidad derivada del SI para la medida de la magnitud física cantidad de electricidad (carga eléctric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Se define como la cantidad de electricidad transportada en un segundo por una corriente de un amperio de intensidad. Es alrededor de 6.24×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omic Sans MS"/>
              </a:rPr>
              <a:t>18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eces la carga de un electrón. Nombrada en honor de Charles-Augustin de Coulomb (1736 - 180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4176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68120" y="1329840"/>
            <a:ext cx="55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suma de todas las corrientes en un nodo debe ser cero (idea de corrientes negativ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6566040" y="2339280"/>
            <a:ext cx="977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Nod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223200" y="970920"/>
            <a:ext cx="3298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Ley de Corrientes Kirchh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6"/>
              <p:cNvSpPr txBox="1"/>
              <p:nvPr/>
            </p:nvSpPr>
            <p:spPr>
              <a:xfrm>
                <a:off x="372960" y="1946160"/>
                <a:ext cx="1014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Line 7"/>
          <p:cNvSpPr/>
          <p:nvPr/>
        </p:nvSpPr>
        <p:spPr>
          <a:xfrm flipV="1">
            <a:off x="6367320" y="2074680"/>
            <a:ext cx="600120" cy="317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8"/>
          <p:cNvSpPr/>
          <p:nvPr/>
        </p:nvSpPr>
        <p:spPr>
          <a:xfrm>
            <a:off x="6972480" y="1996920"/>
            <a:ext cx="85680" cy="131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9"/>
          <p:cNvSpPr/>
          <p:nvPr/>
        </p:nvSpPr>
        <p:spPr>
          <a:xfrm>
            <a:off x="6226200" y="1776240"/>
            <a:ext cx="760320" cy="2397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0"/>
          <p:cNvSpPr/>
          <p:nvPr/>
        </p:nvSpPr>
        <p:spPr>
          <a:xfrm flipH="1">
            <a:off x="7040160" y="1809720"/>
            <a:ext cx="523800" cy="214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1"/>
          <p:cNvSpPr/>
          <p:nvPr/>
        </p:nvSpPr>
        <p:spPr>
          <a:xfrm flipH="1" flipV="1">
            <a:off x="7059240" y="2084040"/>
            <a:ext cx="6080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12"/>
              <p:cNvSpPr txBox="1"/>
              <p:nvPr/>
            </p:nvSpPr>
            <p:spPr>
              <a:xfrm>
                <a:off x="5925960" y="1592280"/>
                <a:ext cx="273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13"/>
              <p:cNvSpPr txBox="1"/>
              <p:nvPr/>
            </p:nvSpPr>
            <p:spPr>
              <a:xfrm>
                <a:off x="6043680" y="2271600"/>
                <a:ext cx="296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4"/>
              <p:cNvSpPr txBox="1"/>
              <p:nvPr/>
            </p:nvSpPr>
            <p:spPr>
              <a:xfrm>
                <a:off x="7604280" y="1614600"/>
                <a:ext cx="3459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15"/>
              <p:cNvSpPr txBox="1"/>
              <p:nvPr/>
            </p:nvSpPr>
            <p:spPr>
              <a:xfrm>
                <a:off x="7677000" y="2062080"/>
                <a:ext cx="254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16"/>
              <p:cNvSpPr txBox="1"/>
              <p:nvPr/>
            </p:nvSpPr>
            <p:spPr>
              <a:xfrm>
                <a:off x="6842160" y="1708200"/>
                <a:ext cx="40968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Text Box 17"/>
          <p:cNvSpPr/>
          <p:nvPr/>
        </p:nvSpPr>
        <p:spPr>
          <a:xfrm>
            <a:off x="55800" y="3008880"/>
            <a:ext cx="79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Conductores, aislantes, semiconductores y supercondu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8"/>
          <p:cNvSpPr/>
          <p:nvPr/>
        </p:nvSpPr>
        <p:spPr>
          <a:xfrm>
            <a:off x="216000" y="3436200"/>
            <a:ext cx="831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materiales conductores son materiales por los cuales la corriente eléctrica puede circular con facilidad (plata, cobre, oro, aluminio, et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s partículas cargadas que se mueven con facilidad en estos metales se denominan electr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roblema con analogía directa de suponer que una corriente eléctrica en un conductor es análogo a hablar de un río de electron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unión de conductores requiere de un contacto adecuado al igual que la unión de cañerías de agu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9"/>
          <p:cNvSpPr/>
          <p:nvPr/>
        </p:nvSpPr>
        <p:spPr>
          <a:xfrm>
            <a:off x="171000" y="3351960"/>
            <a:ext cx="1626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Cond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40644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0" y="1292760"/>
            <a:ext cx="83520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rresponde a aquellos materiales que no conducen electricidad: cerámicas, vidrio, plástico, papel seco, aire, vací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cables de baja tensión están forrados con materiales aislantes --&gt; analogía con paredes de una cañe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cable eléctrico cortado no puede conducir debido a la presencia de aire (aislante), sin embargo, el sistema se encuentra listo para iniciar conducción ! --&gt; se requiere tapar cañería al momento de cortar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200160" y="885240"/>
            <a:ext cx="1232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Aisl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152280" y="4645440"/>
            <a:ext cx="87631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Son materiales como el silicio y germanio, que pueden cambiar con facilidad sus propiedades de conducción. Estas propiedades son cambiadas haciendo uso de un proceso de dopado con materiales tales como arsénico, fósforo, boro, etc. --&gt; Tipo P,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os materiales constituyen la base de funcionamiento de transis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169200" y="3710880"/>
            <a:ext cx="2154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Semicond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8" descr="ab03733"/>
          <p:cNvPicPr/>
          <p:nvPr/>
        </p:nvPicPr>
        <p:blipFill>
          <a:blip r:embed="rId1"/>
          <a:stretch/>
        </p:blipFill>
        <p:spPr>
          <a:xfrm>
            <a:off x="7162920" y="533520"/>
            <a:ext cx="1066680" cy="847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semiconductor"/>
          <p:cNvPicPr/>
          <p:nvPr/>
        </p:nvPicPr>
        <p:blipFill>
          <a:blip r:embed="rId2"/>
          <a:stretch/>
        </p:blipFill>
        <p:spPr>
          <a:xfrm>
            <a:off x="6248520" y="609480"/>
            <a:ext cx="12189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2"/>
          <p:cNvSpPr/>
          <p:nvPr/>
        </p:nvSpPr>
        <p:spPr>
          <a:xfrm rot="16200000">
            <a:off x="1351800" y="5583600"/>
            <a:ext cx="53316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3"/>
          <p:cNvSpPr/>
          <p:nvPr/>
        </p:nvSpPr>
        <p:spPr>
          <a:xfrm rot="16200000">
            <a:off x="2007360" y="5583600"/>
            <a:ext cx="53316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4"/>
          <p:cNvSpPr/>
          <p:nvPr/>
        </p:nvSpPr>
        <p:spPr>
          <a:xfrm rot="16200000">
            <a:off x="2652120" y="5583600"/>
            <a:ext cx="53316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5"/>
          <p:cNvSpPr/>
          <p:nvPr/>
        </p:nvSpPr>
        <p:spPr>
          <a:xfrm rot="16200000">
            <a:off x="3285360" y="5583600"/>
            <a:ext cx="53316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6"/>
          <p:cNvSpPr/>
          <p:nvPr/>
        </p:nvSpPr>
        <p:spPr>
          <a:xfrm rot="16200000">
            <a:off x="3929760" y="5583600"/>
            <a:ext cx="53316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7"/>
          <p:cNvSpPr/>
          <p:nvPr/>
        </p:nvSpPr>
        <p:spPr>
          <a:xfrm rot="16200000">
            <a:off x="1351440" y="5024880"/>
            <a:ext cx="53352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8"/>
          <p:cNvSpPr/>
          <p:nvPr/>
        </p:nvSpPr>
        <p:spPr>
          <a:xfrm rot="16200000">
            <a:off x="2007360" y="5025240"/>
            <a:ext cx="53352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9"/>
          <p:cNvSpPr/>
          <p:nvPr/>
        </p:nvSpPr>
        <p:spPr>
          <a:xfrm rot="16200000">
            <a:off x="2651760" y="5024880"/>
            <a:ext cx="53352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10"/>
          <p:cNvSpPr/>
          <p:nvPr/>
        </p:nvSpPr>
        <p:spPr>
          <a:xfrm rot="16200000">
            <a:off x="3285360" y="5025240"/>
            <a:ext cx="53352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11"/>
          <p:cNvSpPr/>
          <p:nvPr/>
        </p:nvSpPr>
        <p:spPr>
          <a:xfrm rot="16200000">
            <a:off x="3929760" y="5025240"/>
            <a:ext cx="53352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12"/>
          <p:cNvSpPr/>
          <p:nvPr/>
        </p:nvSpPr>
        <p:spPr>
          <a:xfrm rot="16200000">
            <a:off x="1328040" y="4440600"/>
            <a:ext cx="53316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3"/>
          <p:cNvSpPr/>
          <p:nvPr/>
        </p:nvSpPr>
        <p:spPr>
          <a:xfrm rot="16200000">
            <a:off x="1983600" y="4440600"/>
            <a:ext cx="53316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 rot="16200000">
            <a:off x="2628720" y="4441320"/>
            <a:ext cx="533160" cy="2095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5"/>
          <p:cNvSpPr/>
          <p:nvPr/>
        </p:nvSpPr>
        <p:spPr>
          <a:xfrm rot="16200000">
            <a:off x="3261600" y="4440600"/>
            <a:ext cx="533160" cy="2113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16"/>
          <p:cNvSpPr/>
          <p:nvPr/>
        </p:nvSpPr>
        <p:spPr>
          <a:xfrm rot="16200000">
            <a:off x="3906000" y="4440600"/>
            <a:ext cx="533160" cy="2109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2906640" y="4089240"/>
            <a:ext cx="60984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2274840" y="408924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1628640" y="4089240"/>
            <a:ext cx="60984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243000" y="1165320"/>
            <a:ext cx="7681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- Corriente eléctrica fluye en un material en presencia de portadores de carga que estén libres para movilizarse en presencia de un campo eléctrico (Metales, Aislantes y Semiconductor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21"/>
          <p:cNvSpPr/>
          <p:nvPr/>
        </p:nvSpPr>
        <p:spPr>
          <a:xfrm>
            <a:off x="-201960" y="86292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Proceso de Conducción en Semicond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3" descr="fotoigbt"/>
          <p:cNvPicPr/>
          <p:nvPr/>
        </p:nvPicPr>
        <p:blipFill>
          <a:blip r:embed="rId1"/>
          <a:stretch/>
        </p:blipFill>
        <p:spPr>
          <a:xfrm>
            <a:off x="7785000" y="577800"/>
            <a:ext cx="1154160" cy="72864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24"/>
          <p:cNvSpPr/>
          <p:nvPr/>
        </p:nvSpPr>
        <p:spPr>
          <a:xfrm>
            <a:off x="785880" y="2577960"/>
            <a:ext cx="680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Material con características únicas en aplicaciones eléct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25"/>
          <p:cNvSpPr/>
          <p:nvPr/>
        </p:nvSpPr>
        <p:spPr>
          <a:xfrm>
            <a:off x="243000" y="1978920"/>
            <a:ext cx="87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- Gran Variación de Cantidad de Portadores Libres en Semiconduc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gregar impurezas, aplicación de campos eléctricos a estructuras semiconducto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26"/>
          <p:cNvSpPr/>
          <p:nvPr/>
        </p:nvSpPr>
        <p:spPr>
          <a:xfrm>
            <a:off x="517680" y="2635200"/>
            <a:ext cx="252360" cy="158760"/>
          </a:xfrm>
          <a:prstGeom prst="rightArrow">
            <a:avLst>
              <a:gd name="adj1" fmla="val 50000"/>
              <a:gd name="adj2" fmla="val 39739"/>
            </a:avLst>
          </a:prstGeom>
          <a:solidFill>
            <a:srgbClr val="a50021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27"/>
          <p:cNvSpPr/>
          <p:nvPr/>
        </p:nvSpPr>
        <p:spPr>
          <a:xfrm>
            <a:off x="266760" y="3002760"/>
            <a:ext cx="8278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- Electrones y Hue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ristal de Silicio: 4 electrones de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28"/>
          <p:cNvSpPr/>
          <p:nvPr/>
        </p:nvSpPr>
        <p:spPr>
          <a:xfrm>
            <a:off x="2144880" y="4152960"/>
            <a:ext cx="188640" cy="20304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29"/>
          <p:cNvSpPr/>
          <p:nvPr/>
        </p:nvSpPr>
        <p:spPr>
          <a:xfrm>
            <a:off x="3552840" y="408924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30"/>
          <p:cNvSpPr/>
          <p:nvPr/>
        </p:nvSpPr>
        <p:spPr>
          <a:xfrm>
            <a:off x="3422520" y="4152960"/>
            <a:ext cx="187560" cy="20304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31"/>
          <p:cNvSpPr/>
          <p:nvPr/>
        </p:nvSpPr>
        <p:spPr>
          <a:xfrm>
            <a:off x="4067280" y="4152960"/>
            <a:ext cx="188640" cy="20304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32"/>
          <p:cNvSpPr/>
          <p:nvPr/>
        </p:nvSpPr>
        <p:spPr>
          <a:xfrm>
            <a:off x="2919240" y="4660920"/>
            <a:ext cx="60984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33"/>
          <p:cNvSpPr/>
          <p:nvPr/>
        </p:nvSpPr>
        <p:spPr>
          <a:xfrm>
            <a:off x="2286000" y="466092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34"/>
          <p:cNvSpPr/>
          <p:nvPr/>
        </p:nvSpPr>
        <p:spPr>
          <a:xfrm>
            <a:off x="1641600" y="466092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35"/>
          <p:cNvSpPr/>
          <p:nvPr/>
        </p:nvSpPr>
        <p:spPr>
          <a:xfrm>
            <a:off x="1512720" y="4724280"/>
            <a:ext cx="187560" cy="2034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36"/>
          <p:cNvSpPr/>
          <p:nvPr/>
        </p:nvSpPr>
        <p:spPr>
          <a:xfrm>
            <a:off x="2157480" y="472428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37"/>
          <p:cNvSpPr/>
          <p:nvPr/>
        </p:nvSpPr>
        <p:spPr>
          <a:xfrm>
            <a:off x="2801880" y="4724280"/>
            <a:ext cx="18756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38"/>
          <p:cNvSpPr/>
          <p:nvPr/>
        </p:nvSpPr>
        <p:spPr>
          <a:xfrm>
            <a:off x="3564000" y="466092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39"/>
          <p:cNvSpPr/>
          <p:nvPr/>
        </p:nvSpPr>
        <p:spPr>
          <a:xfrm>
            <a:off x="3435480" y="472428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40"/>
          <p:cNvSpPr/>
          <p:nvPr/>
        </p:nvSpPr>
        <p:spPr>
          <a:xfrm>
            <a:off x="4079880" y="472428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41"/>
          <p:cNvSpPr/>
          <p:nvPr/>
        </p:nvSpPr>
        <p:spPr>
          <a:xfrm>
            <a:off x="2930400" y="5257800"/>
            <a:ext cx="60984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42"/>
          <p:cNvSpPr/>
          <p:nvPr/>
        </p:nvSpPr>
        <p:spPr>
          <a:xfrm>
            <a:off x="2297160" y="525780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43"/>
          <p:cNvSpPr/>
          <p:nvPr/>
        </p:nvSpPr>
        <p:spPr>
          <a:xfrm>
            <a:off x="1652760" y="525780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44"/>
          <p:cNvSpPr/>
          <p:nvPr/>
        </p:nvSpPr>
        <p:spPr>
          <a:xfrm>
            <a:off x="1523880" y="5321160"/>
            <a:ext cx="18756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45"/>
          <p:cNvSpPr/>
          <p:nvPr/>
        </p:nvSpPr>
        <p:spPr>
          <a:xfrm>
            <a:off x="2168640" y="532116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46"/>
          <p:cNvSpPr/>
          <p:nvPr/>
        </p:nvSpPr>
        <p:spPr>
          <a:xfrm>
            <a:off x="2813040" y="532116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47"/>
          <p:cNvSpPr/>
          <p:nvPr/>
        </p:nvSpPr>
        <p:spPr>
          <a:xfrm>
            <a:off x="3575160" y="5257800"/>
            <a:ext cx="609480" cy="3049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48"/>
          <p:cNvSpPr/>
          <p:nvPr/>
        </p:nvSpPr>
        <p:spPr>
          <a:xfrm>
            <a:off x="3446640" y="532116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49"/>
          <p:cNvSpPr/>
          <p:nvPr/>
        </p:nvSpPr>
        <p:spPr>
          <a:xfrm>
            <a:off x="4091040" y="532116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50"/>
          <p:cNvSpPr/>
          <p:nvPr/>
        </p:nvSpPr>
        <p:spPr>
          <a:xfrm>
            <a:off x="2943360" y="5791320"/>
            <a:ext cx="609480" cy="3045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51"/>
          <p:cNvSpPr/>
          <p:nvPr/>
        </p:nvSpPr>
        <p:spPr>
          <a:xfrm>
            <a:off x="2309760" y="5791320"/>
            <a:ext cx="609480" cy="3045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52"/>
          <p:cNvSpPr/>
          <p:nvPr/>
        </p:nvSpPr>
        <p:spPr>
          <a:xfrm>
            <a:off x="1665360" y="5791320"/>
            <a:ext cx="609480" cy="3045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53"/>
          <p:cNvSpPr/>
          <p:nvPr/>
        </p:nvSpPr>
        <p:spPr>
          <a:xfrm>
            <a:off x="1535040" y="5854680"/>
            <a:ext cx="1890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54"/>
          <p:cNvSpPr/>
          <p:nvPr/>
        </p:nvSpPr>
        <p:spPr>
          <a:xfrm>
            <a:off x="2181240" y="585468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55"/>
          <p:cNvSpPr/>
          <p:nvPr/>
        </p:nvSpPr>
        <p:spPr>
          <a:xfrm>
            <a:off x="2825640" y="5854680"/>
            <a:ext cx="18756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56"/>
          <p:cNvSpPr/>
          <p:nvPr/>
        </p:nvSpPr>
        <p:spPr>
          <a:xfrm>
            <a:off x="3587760" y="5791320"/>
            <a:ext cx="609480" cy="3045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57"/>
          <p:cNvSpPr/>
          <p:nvPr/>
        </p:nvSpPr>
        <p:spPr>
          <a:xfrm>
            <a:off x="3457440" y="5854680"/>
            <a:ext cx="1890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Oval 58"/>
          <p:cNvSpPr/>
          <p:nvPr/>
        </p:nvSpPr>
        <p:spPr>
          <a:xfrm>
            <a:off x="4103640" y="5854680"/>
            <a:ext cx="187200" cy="20340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9"/>
          <p:cNvSpPr/>
          <p:nvPr/>
        </p:nvSpPr>
        <p:spPr>
          <a:xfrm>
            <a:off x="1440360" y="4657320"/>
            <a:ext cx="31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0"/>
          <p:cNvSpPr/>
          <p:nvPr/>
        </p:nvSpPr>
        <p:spPr>
          <a:xfrm>
            <a:off x="1419120" y="4419720"/>
            <a:ext cx="12852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61"/>
          <p:cNvSpPr/>
          <p:nvPr/>
        </p:nvSpPr>
        <p:spPr>
          <a:xfrm>
            <a:off x="1465200" y="4610160"/>
            <a:ext cx="12852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62"/>
          <p:cNvSpPr/>
          <p:nvPr/>
        </p:nvSpPr>
        <p:spPr>
          <a:xfrm>
            <a:off x="1136520" y="4127400"/>
            <a:ext cx="30492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3"/>
          <p:cNvSpPr/>
          <p:nvPr/>
        </p:nvSpPr>
        <p:spPr>
          <a:xfrm>
            <a:off x="216000" y="3751560"/>
            <a:ext cx="14018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0"/>
                </a:solidFill>
                <a:latin typeface="Comic Sans MS"/>
              </a:rPr>
              <a:t>ruptura enlace cova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64"/>
          <p:cNvSpPr/>
          <p:nvPr/>
        </p:nvSpPr>
        <p:spPr>
          <a:xfrm>
            <a:off x="925560" y="4533840"/>
            <a:ext cx="189000" cy="2034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65"/>
          <p:cNvSpPr/>
          <p:nvPr/>
        </p:nvSpPr>
        <p:spPr>
          <a:xfrm>
            <a:off x="906480" y="4466880"/>
            <a:ext cx="253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66"/>
          <p:cNvSpPr/>
          <p:nvPr/>
        </p:nvSpPr>
        <p:spPr>
          <a:xfrm flipH="1">
            <a:off x="1160640" y="4635360"/>
            <a:ext cx="2808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67"/>
          <p:cNvSpPr/>
          <p:nvPr/>
        </p:nvSpPr>
        <p:spPr>
          <a:xfrm flipH="1">
            <a:off x="983880" y="4915080"/>
            <a:ext cx="515880" cy="291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8"/>
          <p:cNvSpPr/>
          <p:nvPr/>
        </p:nvSpPr>
        <p:spPr>
          <a:xfrm>
            <a:off x="227160" y="4858200"/>
            <a:ext cx="1401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0"/>
                </a:solidFill>
                <a:latin typeface="Comic Sans MS"/>
              </a:rPr>
              <a:t>átomo de silicio ion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69"/>
              <p:cNvSpPr txBox="1"/>
              <p:nvPr/>
            </p:nvSpPr>
            <p:spPr>
              <a:xfrm>
                <a:off x="4924440" y="3389400"/>
                <a:ext cx="1746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E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14" name="Group 70"/>
          <p:cNvGrpSpPr/>
          <p:nvPr/>
        </p:nvGrpSpPr>
        <p:grpSpPr>
          <a:xfrm>
            <a:off x="2718360" y="4051440"/>
            <a:ext cx="645120" cy="375120"/>
            <a:chOff x="2718360" y="4051440"/>
            <a:chExt cx="645120" cy="375120"/>
          </a:xfrm>
        </p:grpSpPr>
        <p:sp>
          <p:nvSpPr>
            <p:cNvPr id="815" name="Oval 71"/>
            <p:cNvSpPr/>
            <p:nvPr/>
          </p:nvSpPr>
          <p:spPr>
            <a:xfrm>
              <a:off x="2790000" y="4152960"/>
              <a:ext cx="187200" cy="20304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2"/>
            <p:cNvSpPr/>
            <p:nvPr/>
          </p:nvSpPr>
          <p:spPr>
            <a:xfrm>
              <a:off x="3012480" y="4064040"/>
              <a:ext cx="128520" cy="7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73"/>
            <p:cNvSpPr/>
            <p:nvPr/>
          </p:nvSpPr>
          <p:spPr>
            <a:xfrm>
              <a:off x="3234960" y="4051440"/>
              <a:ext cx="128520" cy="7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74"/>
            <p:cNvSpPr/>
            <p:nvPr/>
          </p:nvSpPr>
          <p:spPr>
            <a:xfrm>
              <a:off x="2790000" y="4152960"/>
              <a:ext cx="187200" cy="203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75"/>
            <p:cNvSpPr/>
            <p:nvPr/>
          </p:nvSpPr>
          <p:spPr>
            <a:xfrm>
              <a:off x="2718360" y="4086000"/>
              <a:ext cx="3117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6"/>
          <p:cNvGrpSpPr/>
          <p:nvPr/>
        </p:nvGrpSpPr>
        <p:grpSpPr>
          <a:xfrm>
            <a:off x="1523520" y="3666600"/>
            <a:ext cx="1360440" cy="879840"/>
            <a:chOff x="1523520" y="3666600"/>
            <a:chExt cx="1360440" cy="879840"/>
          </a:xfrm>
        </p:grpSpPr>
        <p:sp>
          <p:nvSpPr>
            <p:cNvPr id="821" name="Oval 77"/>
            <p:cNvSpPr/>
            <p:nvPr/>
          </p:nvSpPr>
          <p:spPr>
            <a:xfrm>
              <a:off x="2356560" y="3733920"/>
              <a:ext cx="187200" cy="203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8"/>
            <p:cNvSpPr/>
            <p:nvPr/>
          </p:nvSpPr>
          <p:spPr>
            <a:xfrm>
              <a:off x="2336400" y="3666600"/>
              <a:ext cx="253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79"/>
            <p:cNvSpPr/>
            <p:nvPr/>
          </p:nvSpPr>
          <p:spPr>
            <a:xfrm flipH="1" flipV="1">
              <a:off x="2590920" y="3835080"/>
              <a:ext cx="293040" cy="26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80"/>
            <p:cNvSpPr/>
            <p:nvPr/>
          </p:nvSpPr>
          <p:spPr>
            <a:xfrm flipH="1">
              <a:off x="1523520" y="3873600"/>
              <a:ext cx="773640" cy="67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Oval 81"/>
          <p:cNvSpPr/>
          <p:nvPr/>
        </p:nvSpPr>
        <p:spPr>
          <a:xfrm>
            <a:off x="1500120" y="4152960"/>
            <a:ext cx="187560" cy="203040"/>
          </a:xfrm>
          <a:prstGeom prst="ellipse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Group 82"/>
          <p:cNvGrpSpPr/>
          <p:nvPr/>
        </p:nvGrpSpPr>
        <p:grpSpPr>
          <a:xfrm>
            <a:off x="176040" y="3695760"/>
            <a:ext cx="1523880" cy="1789200"/>
            <a:chOff x="176040" y="3695760"/>
            <a:chExt cx="1523880" cy="1789200"/>
          </a:xfrm>
        </p:grpSpPr>
        <p:sp>
          <p:nvSpPr>
            <p:cNvPr id="827" name="Oval 83"/>
            <p:cNvSpPr/>
            <p:nvPr/>
          </p:nvSpPr>
          <p:spPr>
            <a:xfrm rot="16200000">
              <a:off x="1327680" y="4453920"/>
              <a:ext cx="533520" cy="2109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84"/>
            <p:cNvSpPr/>
            <p:nvPr/>
          </p:nvSpPr>
          <p:spPr>
            <a:xfrm>
              <a:off x="1512720" y="4724280"/>
              <a:ext cx="187200" cy="203400"/>
            </a:xfrm>
            <a:prstGeom prst="ellipse">
              <a:avLst/>
            </a:prstGeom>
            <a:solidFill>
              <a:srgbClr val="5f5f5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85"/>
            <p:cNvSpPr/>
            <p:nvPr/>
          </p:nvSpPr>
          <p:spPr>
            <a:xfrm>
              <a:off x="176040" y="3695760"/>
              <a:ext cx="1312920" cy="1789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Group 86"/>
          <p:cNvGrpSpPr/>
          <p:nvPr/>
        </p:nvGrpSpPr>
        <p:grpSpPr>
          <a:xfrm>
            <a:off x="1641600" y="3435840"/>
            <a:ext cx="2999880" cy="1390320"/>
            <a:chOff x="1641600" y="3435840"/>
            <a:chExt cx="2999880" cy="1390320"/>
          </a:xfrm>
        </p:grpSpPr>
        <p:sp>
          <p:nvSpPr>
            <p:cNvPr id="831" name="Text Box 87"/>
            <p:cNvSpPr/>
            <p:nvPr/>
          </p:nvSpPr>
          <p:spPr>
            <a:xfrm>
              <a:off x="2794320" y="3435840"/>
              <a:ext cx="184716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0"/>
                  </a:solidFill>
                  <a:latin typeface="Comic Sans MS"/>
                </a:rPr>
                <a:t>Movimiento aparente de hue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88"/>
            <p:cNvSpPr/>
            <p:nvPr/>
          </p:nvSpPr>
          <p:spPr>
            <a:xfrm flipV="1">
              <a:off x="1641600" y="4292640"/>
              <a:ext cx="1125000" cy="533520"/>
            </a:xfrm>
            <a:prstGeom prst="line">
              <a:avLst/>
            </a:prstGeom>
            <a:ln w="3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89"/>
              <p:cNvSpPr txBox="1"/>
              <p:nvPr/>
            </p:nvSpPr>
            <p:spPr>
              <a:xfrm>
                <a:off x="4981680" y="4268880"/>
                <a:ext cx="436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4" name="Text Box 90"/>
          <p:cNvSpPr/>
          <p:nvPr/>
        </p:nvSpPr>
        <p:spPr>
          <a:xfrm>
            <a:off x="5284800" y="4299840"/>
            <a:ext cx="3554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: densidad de electrones y hue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1"/>
          <p:cNvSpPr/>
          <p:nvPr/>
        </p:nvSpPr>
        <p:spPr>
          <a:xfrm>
            <a:off x="371520" y="208800"/>
            <a:ext cx="78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0644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216000" y="1238760"/>
            <a:ext cx="87757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teriales especiales que al ser enfriados bajo su temperatura crítica (TC) se comportan como conductores ideales --&gt; ausencia de pér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os materiales se encuentran en proceso de desarrollo (TC de algunos grados Kelvin (Del primer barón de Kelvin, matemático y físico inglés, 1824-1907), hasta cerca de 100 º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os materiales son usados para crear fuertes campos magnéticos aplicables a resonancia nuclear magnética, levitación, almacenamiento de energ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60200" y="910440"/>
            <a:ext cx="2259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Supercond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223200" y="381060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Voltaje/ 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142920" y="4121640"/>
            <a:ext cx="8848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miliaridad con el término voltaje a través de: pilas, baterías de auto, voltaje en enchufes de las casas,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xperimentalmente el voltaje se mide a través de un voltímetro y su unidad es el Volt (Del apellido de Alejandro Volta, físico italiano, 1745-182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físico diría: El voltaje de una batería es la diferencia del potencial electrostático entre el polo positivo y el polo negativo (no deseamos profundizar en es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"/>
          <p:cNvSpPr/>
          <p:nvPr/>
        </p:nvSpPr>
        <p:spPr>
          <a:xfrm rot="16200000">
            <a:off x="6652080" y="3024720"/>
            <a:ext cx="447840" cy="1560600"/>
          </a:xfrm>
          <a:prstGeom prst="can">
            <a:avLst>
              <a:gd name="adj" fmla="val 8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1"/>
          <p:cNvSpPr/>
          <p:nvPr/>
        </p:nvSpPr>
        <p:spPr>
          <a:xfrm rot="16200000">
            <a:off x="6670440" y="3563640"/>
            <a:ext cx="447840" cy="482760"/>
          </a:xfrm>
          <a:prstGeom prst="can">
            <a:avLst>
              <a:gd name="adj" fmla="val 19708"/>
            </a:avLst>
          </a:prstGeom>
          <a:solidFill>
            <a:srgbClr val="cc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6477120" y="4011480"/>
            <a:ext cx="473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7024680" y="4011480"/>
            <a:ext cx="51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s-MX" sz="1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14"/>
              <p:cNvSpPr txBox="1"/>
              <p:nvPr/>
            </p:nvSpPr>
            <p:spPr>
              <a:xfrm>
                <a:off x="7767720" y="3656160"/>
                <a:ext cx="919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47" name="Picture 15" descr="supercond"/>
          <p:cNvPicPr/>
          <p:nvPr/>
        </p:nvPicPr>
        <p:blipFill>
          <a:blip r:embed="rId1"/>
          <a:stretch/>
        </p:blipFill>
        <p:spPr>
          <a:xfrm>
            <a:off x="7086600" y="228600"/>
            <a:ext cx="10126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371520" y="234360"/>
            <a:ext cx="80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"/>
          <p:cNvSpPr/>
          <p:nvPr/>
        </p:nvSpPr>
        <p:spPr>
          <a:xfrm>
            <a:off x="201600" y="748080"/>
            <a:ext cx="8713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 nuestro modelo de agua el voltaje debe ser interpretado como la presión de agua en un punto determi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nalogía de fuente de agua: a mayor presión --&gt; mayor chorro de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enómeno observado al unir dos grifos o llaves por una cañería llena de agua --&gt; el agua que circula depende directamente de la diferencia de presión entre ambos extremos --&gt; corriente circula en forma proporcional a la diferencia de potencial (voltaje) entre dos puntos de un circui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693720" y="3568680"/>
            <a:ext cx="1011240" cy="9399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6"/>
          <p:cNvSpPr/>
          <p:nvPr/>
        </p:nvSpPr>
        <p:spPr>
          <a:xfrm flipH="1">
            <a:off x="1301760" y="3583080"/>
            <a:ext cx="84240" cy="17136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7"/>
          <p:cNvSpPr/>
          <p:nvPr/>
        </p:nvSpPr>
        <p:spPr>
          <a:xfrm flipH="1">
            <a:off x="1441440" y="3468600"/>
            <a:ext cx="85680" cy="17136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reeform 8"/>
          <p:cNvSpPr/>
          <p:nvPr/>
        </p:nvSpPr>
        <p:spPr>
          <a:xfrm>
            <a:off x="1496880" y="3500280"/>
            <a:ext cx="1344600" cy="439920"/>
          </a:xfrm>
          <a:prstGeom prst="pie">
            <a:avLst/>
          </a:prstGeom>
          <a:noFill/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1357200" y="3639960"/>
            <a:ext cx="1343160" cy="439920"/>
          </a:xfrm>
          <a:prstGeom prst="pie">
            <a:avLst/>
          </a:prstGeom>
          <a:noFill/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Object 10"/>
              <p:cNvSpPr txBox="1"/>
              <p:nvPr/>
            </p:nvSpPr>
            <p:spPr>
              <a:xfrm>
                <a:off x="1079640" y="3537000"/>
                <a:ext cx="2664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Object 11"/>
              <p:cNvSpPr txBox="1"/>
              <p:nvPr/>
            </p:nvSpPr>
            <p:spPr>
              <a:xfrm>
                <a:off x="1192320" y="3421080"/>
                <a:ext cx="222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8" name="Freeform 12"/>
          <p:cNvSpPr/>
          <p:nvPr/>
        </p:nvSpPr>
        <p:spPr>
          <a:xfrm>
            <a:off x="2682720" y="3608280"/>
            <a:ext cx="1855800" cy="7938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3048120" y="3735360"/>
            <a:ext cx="1447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Comic Sans MS"/>
              </a:rPr>
              <a:t>Circuito con Componentes</a:t>
            </a:r>
            <a:r>
              <a:rPr b="0" lang="es-ES_tradnl" sz="1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a50021"/>
                </a:solidFill>
                <a:latin typeface="Comic Sans MS"/>
              </a:rPr>
              <a:t>Eléct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4"/>
              <p:cNvSpPr txBox="1"/>
              <p:nvPr/>
            </p:nvSpPr>
            <p:spPr>
              <a:xfrm>
                <a:off x="2068560" y="4037040"/>
                <a:ext cx="17928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Line 15"/>
          <p:cNvSpPr/>
          <p:nvPr/>
        </p:nvSpPr>
        <p:spPr>
          <a:xfrm>
            <a:off x="2241720" y="4148280"/>
            <a:ext cx="1839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"/>
          <p:cNvSpPr/>
          <p:nvPr/>
        </p:nvSpPr>
        <p:spPr>
          <a:xfrm>
            <a:off x="231840" y="5058360"/>
            <a:ext cx="84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a obtener una circulación de corriente eléctrica es necesario conectar un circuito eléctrico entre ambos bornes de la bater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7"/>
          <p:cNvSpPr/>
          <p:nvPr/>
        </p:nvSpPr>
        <p:spPr>
          <a:xfrm>
            <a:off x="1968480" y="4663440"/>
            <a:ext cx="2832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Ejemplo de Fuente de Volt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2"/>
          <p:cNvSpPr/>
          <p:nvPr/>
        </p:nvSpPr>
        <p:spPr>
          <a:xfrm>
            <a:off x="371520" y="234360"/>
            <a:ext cx="80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y Componentes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142920" y="1292760"/>
            <a:ext cx="4886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orre de agua que es mantenida llena con el fin de entregar una presión constante en la ba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resión depende de altura de la to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gua retorna a presión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266400" y="1004040"/>
            <a:ext cx="4815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Modelo de Agua I para Fuente de Volt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6"/>
          <p:cNvSpPr/>
          <p:nvPr/>
        </p:nvSpPr>
        <p:spPr>
          <a:xfrm>
            <a:off x="5083200" y="1260360"/>
            <a:ext cx="1501920" cy="70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7"/>
          <p:cNvSpPr/>
          <p:nvPr/>
        </p:nvSpPr>
        <p:spPr>
          <a:xfrm rot="5400000">
            <a:off x="5596560" y="1027440"/>
            <a:ext cx="463680" cy="1525680"/>
          </a:xfrm>
          <a:prstGeom prst="flowChartDelay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5681520" y="2025720"/>
            <a:ext cx="293760" cy="1203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313320" y="5451480"/>
            <a:ext cx="84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0"/>
          <p:cNvSpPr/>
          <p:nvPr/>
        </p:nvSpPr>
        <p:spPr>
          <a:xfrm>
            <a:off x="7329600" y="3044880"/>
            <a:ext cx="1771560" cy="330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1"/>
          <p:cNvSpPr/>
          <p:nvPr/>
        </p:nvSpPr>
        <p:spPr>
          <a:xfrm>
            <a:off x="7191360" y="2884320"/>
            <a:ext cx="1611360" cy="371520"/>
          </a:xfrm>
          <a:prstGeom prst="ellipse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reeform 12"/>
          <p:cNvSpPr/>
          <p:nvPr/>
        </p:nvSpPr>
        <p:spPr>
          <a:xfrm>
            <a:off x="6157800" y="1060560"/>
            <a:ext cx="1343160" cy="1428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3"/>
          <p:cNvSpPr/>
          <p:nvPr/>
        </p:nvSpPr>
        <p:spPr>
          <a:xfrm>
            <a:off x="6110280" y="1338120"/>
            <a:ext cx="109440" cy="2257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4"/>
          <p:cNvSpPr/>
          <p:nvPr/>
        </p:nvSpPr>
        <p:spPr>
          <a:xfrm>
            <a:off x="7186680" y="2384280"/>
            <a:ext cx="23184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5"/>
          <p:cNvSpPr/>
          <p:nvPr/>
        </p:nvSpPr>
        <p:spPr>
          <a:xfrm>
            <a:off x="7124760" y="2249640"/>
            <a:ext cx="377640" cy="21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6"/>
          <p:cNvSpPr/>
          <p:nvPr/>
        </p:nvSpPr>
        <p:spPr>
          <a:xfrm>
            <a:off x="7418520" y="2171880"/>
            <a:ext cx="156960" cy="357120"/>
          </a:xfrm>
          <a:prstGeom prst="flowChartTermina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7500960" y="2529000"/>
            <a:ext cx="25704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reeform 18"/>
          <p:cNvSpPr/>
          <p:nvPr/>
        </p:nvSpPr>
        <p:spPr>
          <a:xfrm>
            <a:off x="5840280" y="1986120"/>
            <a:ext cx="1722600" cy="1641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19"/>
              <p:cNvSpPr txBox="1"/>
              <p:nvPr/>
            </p:nvSpPr>
            <p:spPr>
              <a:xfrm>
                <a:off x="7308720" y="343368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20"/>
              <p:cNvSpPr txBox="1"/>
              <p:nvPr/>
            </p:nvSpPr>
            <p:spPr>
              <a:xfrm>
                <a:off x="7790040" y="3476520"/>
                <a:ext cx="2203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Line 21"/>
          <p:cNvSpPr/>
          <p:nvPr/>
        </p:nvSpPr>
        <p:spPr>
          <a:xfrm>
            <a:off x="7704000" y="3197160"/>
            <a:ext cx="1800" cy="43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22"/>
          <p:cNvSpPr/>
          <p:nvPr/>
        </p:nvSpPr>
        <p:spPr>
          <a:xfrm>
            <a:off x="5838840" y="3888720"/>
            <a:ext cx="2832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Modelo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23"/>
          <p:cNvSpPr/>
          <p:nvPr/>
        </p:nvSpPr>
        <p:spPr>
          <a:xfrm>
            <a:off x="8169120" y="208440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24"/>
          <p:cNvSpPr/>
          <p:nvPr/>
        </p:nvSpPr>
        <p:spPr>
          <a:xfrm>
            <a:off x="8213760" y="215892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5"/>
          <p:cNvSpPr/>
          <p:nvPr/>
        </p:nvSpPr>
        <p:spPr>
          <a:xfrm flipH="1" flipV="1">
            <a:off x="8326440" y="2168640"/>
            <a:ext cx="1440" cy="26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6"/>
          <p:cNvSpPr/>
          <p:nvPr/>
        </p:nvSpPr>
        <p:spPr>
          <a:xfrm flipH="1" flipV="1">
            <a:off x="8326440" y="1825560"/>
            <a:ext cx="1440" cy="26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27"/>
              <p:cNvSpPr txBox="1"/>
              <p:nvPr/>
            </p:nvSpPr>
            <p:spPr>
              <a:xfrm>
                <a:off x="8394840" y="2359080"/>
                <a:ext cx="222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28"/>
              <p:cNvSpPr txBox="1"/>
              <p:nvPr/>
            </p:nvSpPr>
            <p:spPr>
              <a:xfrm>
                <a:off x="8364600" y="168120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Text Box 29"/>
          <p:cNvSpPr/>
          <p:nvPr/>
        </p:nvSpPr>
        <p:spPr>
          <a:xfrm>
            <a:off x="235080" y="3275640"/>
            <a:ext cx="4654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urbina operada a con torque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0"/>
          <p:cNvSpPr/>
          <p:nvPr/>
        </p:nvSpPr>
        <p:spPr>
          <a:xfrm>
            <a:off x="268920" y="3048840"/>
            <a:ext cx="4903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Modelo de Agua II para Fuente de Volt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31"/>
          <p:cNvSpPr/>
          <p:nvPr/>
        </p:nvSpPr>
        <p:spPr>
          <a:xfrm>
            <a:off x="3881520" y="5334120"/>
            <a:ext cx="1044360" cy="63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32"/>
          <p:cNvSpPr/>
          <p:nvPr/>
        </p:nvSpPr>
        <p:spPr>
          <a:xfrm>
            <a:off x="6459480" y="5186520"/>
            <a:ext cx="1295280" cy="87300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33"/>
          <p:cNvSpPr/>
          <p:nvPr/>
        </p:nvSpPr>
        <p:spPr>
          <a:xfrm>
            <a:off x="6594480" y="5311800"/>
            <a:ext cx="1027080" cy="608040"/>
          </a:xfrm>
          <a:prstGeom prst="flowChartAlternateProcess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7616880" y="5180040"/>
            <a:ext cx="1295280" cy="87300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35"/>
          <p:cNvSpPr/>
          <p:nvPr/>
        </p:nvSpPr>
        <p:spPr>
          <a:xfrm>
            <a:off x="7688160" y="5278320"/>
            <a:ext cx="1123920" cy="687600"/>
          </a:xfrm>
          <a:prstGeom prst="flowChartAlternateProcess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AutoShape 36"/>
          <p:cNvSpPr/>
          <p:nvPr/>
        </p:nvSpPr>
        <p:spPr>
          <a:xfrm>
            <a:off x="8764560" y="5497560"/>
            <a:ext cx="196920" cy="317520"/>
          </a:xfrm>
          <a:prstGeom prst="downArrow">
            <a:avLst>
              <a:gd name="adj1" fmla="val 41306"/>
              <a:gd name="adj2" fmla="val 67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AutoShape 37"/>
          <p:cNvSpPr/>
          <p:nvPr/>
        </p:nvSpPr>
        <p:spPr>
          <a:xfrm>
            <a:off x="7575480" y="5502240"/>
            <a:ext cx="135000" cy="317520"/>
          </a:xfrm>
          <a:prstGeom prst="downArrow">
            <a:avLst>
              <a:gd name="adj1" fmla="val 41306"/>
              <a:gd name="adj2" fmla="val 9878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AutoShape 38"/>
          <p:cNvSpPr/>
          <p:nvPr/>
        </p:nvSpPr>
        <p:spPr>
          <a:xfrm flipV="1">
            <a:off x="6377040" y="5371560"/>
            <a:ext cx="307800" cy="317160"/>
          </a:xfrm>
          <a:prstGeom prst="downArrow">
            <a:avLst>
              <a:gd name="adj1" fmla="val 13639"/>
              <a:gd name="adj2" fmla="val 5615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9"/>
          <p:cNvSpPr/>
          <p:nvPr/>
        </p:nvSpPr>
        <p:spPr>
          <a:xfrm>
            <a:off x="4927680" y="5326200"/>
            <a:ext cx="1044360" cy="642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0"/>
          <p:cNvSpPr/>
          <p:nvPr/>
        </p:nvSpPr>
        <p:spPr>
          <a:xfrm>
            <a:off x="3943440" y="6143040"/>
            <a:ext cx="19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ircuito Eléct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1"/>
          <p:cNvSpPr/>
          <p:nvPr/>
        </p:nvSpPr>
        <p:spPr>
          <a:xfrm>
            <a:off x="6686640" y="6135120"/>
            <a:ext cx="19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ircuito Hidráu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42"/>
          <p:cNvSpPr/>
          <p:nvPr/>
        </p:nvSpPr>
        <p:spPr>
          <a:xfrm>
            <a:off x="4879800" y="5543640"/>
            <a:ext cx="10980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43"/>
          <p:cNvSpPr/>
          <p:nvPr/>
        </p:nvSpPr>
        <p:spPr>
          <a:xfrm>
            <a:off x="5925960" y="5535720"/>
            <a:ext cx="10980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46"/>
              <p:cNvSpPr txBox="1"/>
              <p:nvPr/>
            </p:nvSpPr>
            <p:spPr>
              <a:xfrm>
                <a:off x="4305240" y="5037120"/>
                <a:ext cx="200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47"/>
              <p:cNvSpPr txBox="1"/>
              <p:nvPr/>
            </p:nvSpPr>
            <p:spPr>
              <a:xfrm>
                <a:off x="5076720" y="5032440"/>
                <a:ext cx="233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48"/>
              <p:cNvSpPr txBox="1"/>
              <p:nvPr/>
            </p:nvSpPr>
            <p:spPr>
              <a:xfrm>
                <a:off x="5005440" y="5440320"/>
                <a:ext cx="216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9" name="Line 49"/>
          <p:cNvSpPr/>
          <p:nvPr/>
        </p:nvSpPr>
        <p:spPr>
          <a:xfrm>
            <a:off x="4486320" y="5273640"/>
            <a:ext cx="1839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50"/>
          <p:cNvSpPr/>
          <p:nvPr/>
        </p:nvSpPr>
        <p:spPr>
          <a:xfrm>
            <a:off x="5311800" y="5281560"/>
            <a:ext cx="1839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51"/>
          <p:cNvSpPr/>
          <p:nvPr/>
        </p:nvSpPr>
        <p:spPr>
          <a:xfrm>
            <a:off x="5229360" y="5516640"/>
            <a:ext cx="0" cy="198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2"/>
          <p:cNvSpPr/>
          <p:nvPr/>
        </p:nvSpPr>
        <p:spPr>
          <a:xfrm>
            <a:off x="4186080" y="5489640"/>
            <a:ext cx="366840" cy="330120"/>
          </a:xfrm>
          <a:prstGeom prst="ellipse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3"/>
          <p:cNvSpPr/>
          <p:nvPr/>
        </p:nvSpPr>
        <p:spPr>
          <a:xfrm>
            <a:off x="5294160" y="5483160"/>
            <a:ext cx="366840" cy="330120"/>
          </a:xfrm>
          <a:prstGeom prst="ellipse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54"/>
          <p:cNvSpPr/>
          <p:nvPr/>
        </p:nvSpPr>
        <p:spPr>
          <a:xfrm>
            <a:off x="4010040" y="5353200"/>
            <a:ext cx="1879560" cy="581040"/>
          </a:xfrm>
          <a:prstGeom prst="ellipse">
            <a:avLst/>
          </a:prstGeom>
          <a:noFill/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55"/>
          <p:cNvSpPr/>
          <p:nvPr/>
        </p:nvSpPr>
        <p:spPr>
          <a:xfrm>
            <a:off x="905040" y="4281480"/>
            <a:ext cx="23004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56"/>
          <p:cNvSpPr/>
          <p:nvPr/>
        </p:nvSpPr>
        <p:spPr>
          <a:xfrm>
            <a:off x="843120" y="4146480"/>
            <a:ext cx="377640" cy="21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57"/>
          <p:cNvSpPr/>
          <p:nvPr/>
        </p:nvSpPr>
        <p:spPr>
          <a:xfrm>
            <a:off x="1135080" y="4068720"/>
            <a:ext cx="158760" cy="357120"/>
          </a:xfrm>
          <a:prstGeom prst="flowChartTermina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58"/>
          <p:cNvSpPr/>
          <p:nvPr/>
        </p:nvSpPr>
        <p:spPr>
          <a:xfrm>
            <a:off x="312840" y="4259160"/>
            <a:ext cx="31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59"/>
          <p:cNvSpPr/>
          <p:nvPr/>
        </p:nvSpPr>
        <p:spPr>
          <a:xfrm>
            <a:off x="355680" y="4334040"/>
            <a:ext cx="21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60"/>
          <p:cNvSpPr/>
          <p:nvPr/>
        </p:nvSpPr>
        <p:spPr>
          <a:xfrm flipH="1" flipV="1">
            <a:off x="468360" y="4343400"/>
            <a:ext cx="1440" cy="26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61"/>
          <p:cNvSpPr/>
          <p:nvPr/>
        </p:nvSpPr>
        <p:spPr>
          <a:xfrm flipH="1" flipV="1">
            <a:off x="468360" y="4000680"/>
            <a:ext cx="14400" cy="26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Object 62"/>
              <p:cNvSpPr txBox="1"/>
              <p:nvPr/>
            </p:nvSpPr>
            <p:spPr>
              <a:xfrm>
                <a:off x="538200" y="4533840"/>
                <a:ext cx="2206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Object 63"/>
              <p:cNvSpPr txBox="1"/>
              <p:nvPr/>
            </p:nvSpPr>
            <p:spPr>
              <a:xfrm>
                <a:off x="507960" y="385596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Oval 64"/>
          <p:cNvSpPr/>
          <p:nvPr/>
        </p:nvSpPr>
        <p:spPr>
          <a:xfrm>
            <a:off x="1873080" y="4118040"/>
            <a:ext cx="597240" cy="517320"/>
          </a:xfrm>
          <a:prstGeom prst="ellipse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65"/>
          <p:cNvSpPr/>
          <p:nvPr/>
        </p:nvSpPr>
        <p:spPr>
          <a:xfrm>
            <a:off x="1415880" y="4483080"/>
            <a:ext cx="648000" cy="154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6"/>
          <p:cNvSpPr/>
          <p:nvPr/>
        </p:nvSpPr>
        <p:spPr>
          <a:xfrm>
            <a:off x="2979720" y="6019920"/>
            <a:ext cx="84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7"/>
          <p:cNvSpPr/>
          <p:nvPr/>
        </p:nvSpPr>
        <p:spPr>
          <a:xfrm>
            <a:off x="2192400" y="4489560"/>
            <a:ext cx="647640" cy="15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68"/>
          <p:cNvSpPr/>
          <p:nvPr/>
        </p:nvSpPr>
        <p:spPr>
          <a:xfrm flipV="1">
            <a:off x="1390680" y="4626000"/>
            <a:ext cx="14652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69"/>
          <p:cNvSpPr/>
          <p:nvPr/>
        </p:nvSpPr>
        <p:spPr>
          <a:xfrm flipV="1">
            <a:off x="1397160" y="4486320"/>
            <a:ext cx="5252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70"/>
          <p:cNvSpPr/>
          <p:nvPr/>
        </p:nvSpPr>
        <p:spPr>
          <a:xfrm flipV="1">
            <a:off x="2452680" y="4479480"/>
            <a:ext cx="4302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71"/>
          <p:cNvSpPr/>
          <p:nvPr/>
        </p:nvSpPr>
        <p:spPr>
          <a:xfrm>
            <a:off x="1293840" y="4232160"/>
            <a:ext cx="622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72"/>
          <p:cNvSpPr/>
          <p:nvPr/>
        </p:nvSpPr>
        <p:spPr>
          <a:xfrm>
            <a:off x="2147760" y="4338720"/>
            <a:ext cx="73080" cy="10620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reeform 73"/>
          <p:cNvSpPr/>
          <p:nvPr/>
        </p:nvSpPr>
        <p:spPr>
          <a:xfrm rot="20313000">
            <a:off x="2038320" y="4244760"/>
            <a:ext cx="122400" cy="14436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74"/>
          <p:cNvSpPr/>
          <p:nvPr/>
        </p:nvSpPr>
        <p:spPr>
          <a:xfrm rot="10144200">
            <a:off x="2201400" y="4371480"/>
            <a:ext cx="122400" cy="14472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Freeform 75"/>
          <p:cNvSpPr/>
          <p:nvPr/>
        </p:nvSpPr>
        <p:spPr>
          <a:xfrm flipH="1" rot="9864600">
            <a:off x="2190960" y="4205880"/>
            <a:ext cx="122040" cy="14472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Freeform 76"/>
          <p:cNvSpPr/>
          <p:nvPr/>
        </p:nvSpPr>
        <p:spPr>
          <a:xfrm rot="15176400">
            <a:off x="2045520" y="4389840"/>
            <a:ext cx="131760" cy="13320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77"/>
          <p:cNvSpPr/>
          <p:nvPr/>
        </p:nvSpPr>
        <p:spPr>
          <a:xfrm>
            <a:off x="235080" y="5306760"/>
            <a:ext cx="316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suma de los voltajes a través de un loop debe ser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8"/>
          <p:cNvSpPr/>
          <p:nvPr/>
        </p:nvSpPr>
        <p:spPr>
          <a:xfrm>
            <a:off x="231840" y="4939560"/>
            <a:ext cx="2504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Ley Mallas Kirchh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79"/>
              <p:cNvSpPr txBox="1"/>
              <p:nvPr/>
            </p:nvSpPr>
            <p:spPr>
              <a:xfrm>
                <a:off x="5661000" y="4471920"/>
                <a:ext cx="1038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Text Box 80"/>
          <p:cNvSpPr/>
          <p:nvPr/>
        </p:nvSpPr>
        <p:spPr>
          <a:xfrm>
            <a:off x="2095560" y="4174560"/>
            <a:ext cx="2832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Modelo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81"/>
          <p:cNvSpPr/>
          <p:nvPr/>
        </p:nvSpPr>
        <p:spPr>
          <a:xfrm>
            <a:off x="3733920" y="564048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82"/>
          <p:cNvSpPr/>
          <p:nvPr/>
        </p:nvSpPr>
        <p:spPr>
          <a:xfrm>
            <a:off x="3778200" y="5715000"/>
            <a:ext cx="2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"/>
          <p:cNvSpPr/>
          <p:nvPr/>
        </p:nvSpPr>
        <p:spPr>
          <a:xfrm>
            <a:off x="458640" y="180360"/>
            <a:ext cx="909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V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-23760" y="1110240"/>
            <a:ext cx="69580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rresponde a la tasa de cambio, producción o disipación de la energí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idades familiares: caballos de fuerza en máquinas, y Watt (vatio, Del apellido de Jacobo Watt, ingeniero escocés, 1736-1819) en lumina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unidad de medida de la potencia eléctrica es el Watt y su Variable </a:t>
            </a: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P.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nalogía molino de agua: Cuando el agua circula por una rueda de agua para dar potencia a un molino, la potencia posible de liberar queda determinada por el 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flujo de agua (corriente) y la altura de caída (voltaj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227160" y="794160"/>
            <a:ext cx="123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47520" y="5032800"/>
            <a:ext cx="87156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&gt; con P en  Watt (W), I corriente en Ampere (A), V voltaje en volt (V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a corriente circulando por un circuito genera trabajo. La cantidad de potencia liberada va a ser proporcional a la caída de tensión en el circuito (ejemplo de limpieza de vered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7"/>
              <p:cNvSpPr txBox="1"/>
              <p:nvPr/>
            </p:nvSpPr>
            <p:spPr>
              <a:xfrm>
                <a:off x="3627360" y="4462560"/>
                <a:ext cx="12844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9" name="Picture 8" descr=""/>
          <p:cNvPicPr/>
          <p:nvPr/>
        </p:nvPicPr>
        <p:blipFill>
          <a:blip r:embed="rId1"/>
          <a:stretch/>
        </p:blipFill>
        <p:spPr>
          <a:xfrm>
            <a:off x="6896160" y="1219320"/>
            <a:ext cx="2247840" cy="3070080"/>
          </a:xfrm>
          <a:prstGeom prst="rect">
            <a:avLst/>
          </a:prstGeom>
          <a:ln w="0">
            <a:noFill/>
          </a:ln>
        </p:spPr>
      </p:pic>
      <p:sp>
        <p:nvSpPr>
          <p:cNvPr id="950" name="Text Box 9"/>
          <p:cNvSpPr/>
          <p:nvPr/>
        </p:nvSpPr>
        <p:spPr>
          <a:xfrm>
            <a:off x="7124760" y="4626720"/>
            <a:ext cx="2103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95400" y="976680"/>
            <a:ext cx="59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volución del conocimiento d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584280" y="1355760"/>
            <a:ext cx="1901880" cy="97956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03" y="0"/>
                </a:lnTo>
                <a:lnTo>
                  <a:pt x="21600" y="10800"/>
                </a:lnTo>
                <a:lnTo>
                  <a:pt x="18103" y="21600"/>
                </a:lnTo>
                <a:lnTo>
                  <a:pt x="0" y="21600"/>
                </a:lnTo>
                <a:lnTo>
                  <a:pt x="3497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5"/>
          <p:cNvGrpSpPr/>
          <p:nvPr/>
        </p:nvGrpSpPr>
        <p:grpSpPr>
          <a:xfrm>
            <a:off x="920880" y="1763640"/>
            <a:ext cx="1185840" cy="131400"/>
            <a:chOff x="920880" y="1763640"/>
            <a:chExt cx="1185840" cy="131400"/>
          </a:xfrm>
        </p:grpSpPr>
        <p:sp>
          <p:nvSpPr>
            <p:cNvPr id="525" name="Line 6"/>
            <p:cNvSpPr/>
            <p:nvPr/>
          </p:nvSpPr>
          <p:spPr>
            <a:xfrm>
              <a:off x="920880" y="1827000"/>
              <a:ext cx="1166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2085480" y="1763640"/>
              <a:ext cx="2124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Line 8"/>
          <p:cNvSpPr/>
          <p:nvPr/>
        </p:nvSpPr>
        <p:spPr>
          <a:xfrm>
            <a:off x="927000" y="1782720"/>
            <a:ext cx="504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752400" y="1863720"/>
            <a:ext cx="544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1093320" y="1932120"/>
            <a:ext cx="105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640-546 A.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2530440" y="1380960"/>
            <a:ext cx="6284880" cy="979560"/>
          </a:xfrm>
          <a:custGeom>
            <a:avLst/>
            <a:gdLst>
              <a:gd name="textAreaLeft" fmla="*/ 0 w 6284880"/>
              <a:gd name="textAreaRight" fmla="*/ 6285240 w 628488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24" y="0"/>
                </a:lnTo>
                <a:lnTo>
                  <a:pt x="21600" y="10800"/>
                </a:lnTo>
                <a:lnTo>
                  <a:pt x="20724" y="21600"/>
                </a:lnTo>
                <a:lnTo>
                  <a:pt x="0" y="21600"/>
                </a:lnTo>
                <a:lnTo>
                  <a:pt x="876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12"/>
          <p:cNvGrpSpPr/>
          <p:nvPr/>
        </p:nvGrpSpPr>
        <p:grpSpPr>
          <a:xfrm>
            <a:off x="2867040" y="1789200"/>
            <a:ext cx="5781240" cy="131400"/>
            <a:chOff x="2867040" y="1789200"/>
            <a:chExt cx="5781240" cy="131400"/>
          </a:xfrm>
        </p:grpSpPr>
        <p:sp>
          <p:nvSpPr>
            <p:cNvPr id="532" name="Line 13"/>
            <p:cNvSpPr/>
            <p:nvPr/>
          </p:nvSpPr>
          <p:spPr>
            <a:xfrm>
              <a:off x="2867040" y="1852560"/>
              <a:ext cx="568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8544240" y="1789200"/>
              <a:ext cx="10404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Line 15"/>
          <p:cNvSpPr/>
          <p:nvPr/>
        </p:nvSpPr>
        <p:spPr>
          <a:xfrm>
            <a:off x="2873520" y="1808280"/>
            <a:ext cx="46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97120" y="1889280"/>
            <a:ext cx="5461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282276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90672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498960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607212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1"/>
          <p:cNvSpPr/>
          <p:nvPr/>
        </p:nvSpPr>
        <p:spPr>
          <a:xfrm>
            <a:off x="715500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2"/>
          <p:cNvSpPr/>
          <p:nvPr/>
        </p:nvSpPr>
        <p:spPr>
          <a:xfrm>
            <a:off x="8239320" y="19828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3"/>
          <p:cNvSpPr/>
          <p:nvPr/>
        </p:nvSpPr>
        <p:spPr>
          <a:xfrm>
            <a:off x="4081320" y="1820880"/>
            <a:ext cx="504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4"/>
          <p:cNvSpPr/>
          <p:nvPr/>
        </p:nvSpPr>
        <p:spPr>
          <a:xfrm>
            <a:off x="5124600" y="1833480"/>
            <a:ext cx="46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25"/>
          <p:cNvSpPr/>
          <p:nvPr/>
        </p:nvSpPr>
        <p:spPr>
          <a:xfrm>
            <a:off x="6226200" y="1833480"/>
            <a:ext cx="46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6"/>
          <p:cNvSpPr/>
          <p:nvPr/>
        </p:nvSpPr>
        <p:spPr>
          <a:xfrm>
            <a:off x="7305840" y="1833480"/>
            <a:ext cx="28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7"/>
          <p:cNvSpPr/>
          <p:nvPr/>
        </p:nvSpPr>
        <p:spPr>
          <a:xfrm>
            <a:off x="8383680" y="1833480"/>
            <a:ext cx="46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29" descr=""/>
          <p:cNvPicPr/>
          <p:nvPr/>
        </p:nvPicPr>
        <p:blipFill>
          <a:blip r:embed="rId1"/>
          <a:stretch/>
        </p:blipFill>
        <p:spPr>
          <a:xfrm>
            <a:off x="1789200" y="5205240"/>
            <a:ext cx="1461960" cy="1067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0" descr=""/>
          <p:cNvPicPr/>
          <p:nvPr/>
        </p:nvPicPr>
        <p:blipFill>
          <a:blip r:embed="rId2"/>
          <a:stretch/>
        </p:blipFill>
        <p:spPr>
          <a:xfrm>
            <a:off x="1455840" y="2801880"/>
            <a:ext cx="1020600" cy="14414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1"/>
          <p:cNvSpPr/>
          <p:nvPr/>
        </p:nvSpPr>
        <p:spPr>
          <a:xfrm>
            <a:off x="1360080" y="4247280"/>
            <a:ext cx="125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Charles Coulo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 flipV="1">
            <a:off x="733320" y="2354040"/>
            <a:ext cx="477360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3" descr=""/>
          <p:cNvPicPr/>
          <p:nvPr/>
        </p:nvPicPr>
        <p:blipFill>
          <a:blip r:embed="rId3"/>
          <a:stretch/>
        </p:blipFill>
        <p:spPr>
          <a:xfrm>
            <a:off x="593640" y="5045040"/>
            <a:ext cx="787320" cy="1228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4" descr=""/>
          <p:cNvPicPr/>
          <p:nvPr/>
        </p:nvPicPr>
        <p:blipFill>
          <a:blip r:embed="rId4"/>
          <a:stretch/>
        </p:blipFill>
        <p:spPr>
          <a:xfrm>
            <a:off x="3571920" y="5151600"/>
            <a:ext cx="1033560" cy="1089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5" descr=""/>
          <p:cNvPicPr/>
          <p:nvPr/>
        </p:nvPicPr>
        <p:blipFill>
          <a:blip r:embed="rId5"/>
          <a:stretch/>
        </p:blipFill>
        <p:spPr>
          <a:xfrm>
            <a:off x="2587680" y="2805120"/>
            <a:ext cx="995400" cy="1447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6"/>
          <p:cNvSpPr/>
          <p:nvPr/>
        </p:nvSpPr>
        <p:spPr>
          <a:xfrm>
            <a:off x="2682360" y="4268160"/>
            <a:ext cx="85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K. F. Gau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7"/>
          <p:cNvSpPr/>
          <p:nvPr/>
        </p:nvSpPr>
        <p:spPr>
          <a:xfrm flipV="1">
            <a:off x="1922400" y="2347920"/>
            <a:ext cx="4125960" cy="463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38" descr=""/>
          <p:cNvPicPr/>
          <p:nvPr/>
        </p:nvPicPr>
        <p:blipFill>
          <a:blip r:embed="rId6"/>
          <a:stretch/>
        </p:blipFill>
        <p:spPr>
          <a:xfrm>
            <a:off x="217440" y="2803680"/>
            <a:ext cx="1143000" cy="1450800"/>
          </a:xfrm>
          <a:prstGeom prst="rect">
            <a:avLst/>
          </a:prstGeom>
          <a:ln w="0">
            <a:noFill/>
          </a:ln>
        </p:spPr>
      </p:pic>
      <p:sp>
        <p:nvSpPr>
          <p:cNvPr id="557" name="Line 39"/>
          <p:cNvSpPr/>
          <p:nvPr/>
        </p:nvSpPr>
        <p:spPr>
          <a:xfrm flipV="1">
            <a:off x="3076560" y="2368440"/>
            <a:ext cx="3137040" cy="41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40" descr=""/>
          <p:cNvPicPr/>
          <p:nvPr/>
        </p:nvPicPr>
        <p:blipFill>
          <a:blip r:embed="rId7"/>
          <a:stretch/>
        </p:blipFill>
        <p:spPr>
          <a:xfrm>
            <a:off x="5051520" y="5127480"/>
            <a:ext cx="985680" cy="1121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1" descr=""/>
          <p:cNvPicPr/>
          <p:nvPr/>
        </p:nvPicPr>
        <p:blipFill>
          <a:blip r:embed="rId8"/>
          <a:stretch/>
        </p:blipFill>
        <p:spPr>
          <a:xfrm>
            <a:off x="3798720" y="2849400"/>
            <a:ext cx="801720" cy="14065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2"/>
          <p:cNvSpPr/>
          <p:nvPr/>
        </p:nvSpPr>
        <p:spPr>
          <a:xfrm>
            <a:off x="310680" y="424440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B. 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3"/>
          <p:cNvSpPr/>
          <p:nvPr/>
        </p:nvSpPr>
        <p:spPr>
          <a:xfrm>
            <a:off x="3822840" y="426348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G.S. O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4" descr=""/>
          <p:cNvPicPr/>
          <p:nvPr/>
        </p:nvPicPr>
        <p:blipFill>
          <a:blip r:embed="rId9"/>
          <a:stretch/>
        </p:blipFill>
        <p:spPr>
          <a:xfrm>
            <a:off x="4726080" y="2851200"/>
            <a:ext cx="982440" cy="14065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5"/>
          <p:cNvSpPr/>
          <p:nvPr/>
        </p:nvSpPr>
        <p:spPr>
          <a:xfrm>
            <a:off x="4743360" y="424440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G. R. Kirch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46"/>
          <p:cNvSpPr/>
          <p:nvPr/>
        </p:nvSpPr>
        <p:spPr>
          <a:xfrm flipV="1">
            <a:off x="4218120" y="2374560"/>
            <a:ext cx="206208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47"/>
          <p:cNvSpPr/>
          <p:nvPr/>
        </p:nvSpPr>
        <p:spPr>
          <a:xfrm flipV="1">
            <a:off x="5226120" y="2406240"/>
            <a:ext cx="1162080" cy="412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48" descr=""/>
          <p:cNvPicPr/>
          <p:nvPr/>
        </p:nvPicPr>
        <p:blipFill>
          <a:blip r:embed="rId10"/>
          <a:stretch/>
        </p:blipFill>
        <p:spPr>
          <a:xfrm>
            <a:off x="5877000" y="2847960"/>
            <a:ext cx="909720" cy="14256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9"/>
          <p:cNvSpPr/>
          <p:nvPr/>
        </p:nvSpPr>
        <p:spPr>
          <a:xfrm>
            <a:off x="5871240" y="4253760"/>
            <a:ext cx="102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A. M. Amp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50"/>
          <p:cNvSpPr/>
          <p:nvPr/>
        </p:nvSpPr>
        <p:spPr>
          <a:xfrm flipV="1">
            <a:off x="6342120" y="2401920"/>
            <a:ext cx="206280" cy="411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51" descr=""/>
          <p:cNvPicPr/>
          <p:nvPr/>
        </p:nvPicPr>
        <p:blipFill>
          <a:blip r:embed="rId11"/>
          <a:stretch/>
        </p:blipFill>
        <p:spPr>
          <a:xfrm>
            <a:off x="6931080" y="2863800"/>
            <a:ext cx="793800" cy="142236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2"/>
          <p:cNvSpPr/>
          <p:nvPr/>
        </p:nvSpPr>
        <p:spPr>
          <a:xfrm>
            <a:off x="6967080" y="4261680"/>
            <a:ext cx="87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M. Fara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53"/>
          <p:cNvSpPr/>
          <p:nvPr/>
        </p:nvSpPr>
        <p:spPr>
          <a:xfrm flipH="1" flipV="1">
            <a:off x="6762600" y="2422080"/>
            <a:ext cx="501840" cy="3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4" descr=""/>
          <p:cNvPicPr/>
          <p:nvPr/>
        </p:nvPicPr>
        <p:blipFill>
          <a:blip r:embed="rId12"/>
          <a:stretch/>
        </p:blipFill>
        <p:spPr>
          <a:xfrm>
            <a:off x="6486480" y="4876920"/>
            <a:ext cx="2067120" cy="1349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5" descr=""/>
          <p:cNvPicPr/>
          <p:nvPr/>
        </p:nvPicPr>
        <p:blipFill>
          <a:blip r:embed="rId13"/>
          <a:stretch/>
        </p:blipFill>
        <p:spPr>
          <a:xfrm>
            <a:off x="7872480" y="2867040"/>
            <a:ext cx="976320" cy="14176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6"/>
          <p:cNvSpPr/>
          <p:nvPr/>
        </p:nvSpPr>
        <p:spPr>
          <a:xfrm>
            <a:off x="7982640" y="42807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a"/>
                </a:solidFill>
                <a:latin typeface="Comic Sans MS"/>
              </a:rPr>
              <a:t>J. K. Max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7"/>
          <p:cNvSpPr/>
          <p:nvPr/>
        </p:nvSpPr>
        <p:spPr>
          <a:xfrm flipH="1" flipV="1">
            <a:off x="7110360" y="2415960"/>
            <a:ext cx="1295280" cy="463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V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268200" y="1083240"/>
            <a:ext cx="85708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uando una carga se desplaza por un campo eléctrico convierte energía de una forma a otra. Una carga moviéndose a través de una batería convierte energía química en eléctrica. Una carga desplazándose en el vacío convierte energía potencial en energía ciné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cantidad de energía puede ser expres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193320" y="90072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295200" y="3431160"/>
            <a:ext cx="85438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-&gt; donde U es la energía en joule (Del apellido de Jacobo Prescott Joule, físico inglés, 1818-1889) , Q es la carga en coulo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energía de una empresa de distribución eléctrica es medida en kWh (1kWh = 3.6 millones de joule --&gt; 1 joule = 1 watt-s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Hoy en día existe cada vez mayor conciencia de la necesidad del uso racional de la energ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7"/>
              <p:cNvSpPr txBox="1"/>
              <p:nvPr/>
            </p:nvSpPr>
            <p:spPr>
              <a:xfrm>
                <a:off x="3462480" y="2832120"/>
                <a:ext cx="14652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Object 8"/>
              <p:cNvSpPr txBox="1"/>
              <p:nvPr/>
            </p:nvSpPr>
            <p:spPr>
              <a:xfrm>
                <a:off x="1941480" y="5321160"/>
                <a:ext cx="4861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I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268200" y="1140480"/>
            <a:ext cx="8136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an cantidad de agua puede fluir por una cañería de gran diámetro. Una cañería de diámetro pequeño conectada a una fuente de agua a presión constante, entrega menor cantidad de agua que una cañería de diámetro mayor. Mientras más pequeño el diámetro, mayor la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sistencia</a:t>
            </a:r>
            <a:r>
              <a:rPr b="1" lang="es-ES_tradnl" sz="1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agua. El fenómeno es análogo en el caso eléctrico, considerando diámetro y largo del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186480" y="900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Re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7"/>
          <p:cNvSpPr/>
          <p:nvPr/>
        </p:nvSpPr>
        <p:spPr>
          <a:xfrm rot="5378400">
            <a:off x="2158560" y="3000240"/>
            <a:ext cx="147600" cy="81756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2827440" y="3291840"/>
            <a:ext cx="903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Long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9"/>
          <p:cNvSpPr/>
          <p:nvPr/>
        </p:nvSpPr>
        <p:spPr>
          <a:xfrm rot="5404200">
            <a:off x="2682360" y="2205000"/>
            <a:ext cx="117360" cy="187308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10"/>
          <p:cNvSpPr/>
          <p:nvPr/>
        </p:nvSpPr>
        <p:spPr>
          <a:xfrm rot="5378400">
            <a:off x="6185880" y="2923920"/>
            <a:ext cx="147600" cy="81756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11"/>
          <p:cNvSpPr/>
          <p:nvPr/>
        </p:nvSpPr>
        <p:spPr>
          <a:xfrm rot="5378400">
            <a:off x="5043600" y="2892960"/>
            <a:ext cx="355680" cy="81756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6075360" y="3415680"/>
            <a:ext cx="1468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diá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320760" y="36518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or su parte, los materiales se caracterizan por su resistividad en buenos o malos conductores. De esta forma se pueden fabricar elementos denominados resistencias. Modelos de resistencia (esponja, estrech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628560" y="5163120"/>
            <a:ext cx="7798320" cy="1141560"/>
            <a:chOff x="628560" y="5163120"/>
            <a:chExt cx="7798320" cy="1141560"/>
          </a:xfrm>
        </p:grpSpPr>
        <p:sp>
          <p:nvSpPr>
            <p:cNvPr id="970" name="Freeform 15"/>
            <p:cNvSpPr/>
            <p:nvPr/>
          </p:nvSpPr>
          <p:spPr>
            <a:xfrm>
              <a:off x="628560" y="5354640"/>
              <a:ext cx="931680" cy="34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AutoShape 16"/>
            <p:cNvSpPr/>
            <p:nvPr/>
          </p:nvSpPr>
          <p:spPr>
            <a:xfrm rot="5378400">
              <a:off x="2283120" y="5346720"/>
              <a:ext cx="355680" cy="33552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AutoShape 17"/>
            <p:cNvSpPr/>
            <p:nvPr/>
          </p:nvSpPr>
          <p:spPr>
            <a:xfrm rot="5378400">
              <a:off x="2450160" y="5420160"/>
              <a:ext cx="355680" cy="185760"/>
            </a:xfrm>
            <a:prstGeom prst="can">
              <a:avLst>
                <a:gd name="adj" fmla="val 29712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AutoShape 18"/>
            <p:cNvSpPr/>
            <p:nvPr/>
          </p:nvSpPr>
          <p:spPr>
            <a:xfrm rot="5378400">
              <a:off x="2576160" y="5429160"/>
              <a:ext cx="355680" cy="17136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AutoShape 19"/>
            <p:cNvSpPr/>
            <p:nvPr/>
          </p:nvSpPr>
          <p:spPr>
            <a:xfrm rot="5378400">
              <a:off x="2696400" y="5420160"/>
              <a:ext cx="355680" cy="185760"/>
            </a:xfrm>
            <a:prstGeom prst="can">
              <a:avLst>
                <a:gd name="adj" fmla="val 2971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AutoShape 20"/>
            <p:cNvSpPr/>
            <p:nvPr/>
          </p:nvSpPr>
          <p:spPr>
            <a:xfrm rot="5378400">
              <a:off x="2810880" y="5429160"/>
              <a:ext cx="355680" cy="17136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AutoShape 21"/>
            <p:cNvSpPr/>
            <p:nvPr/>
          </p:nvSpPr>
          <p:spPr>
            <a:xfrm rot="5378400">
              <a:off x="2930760" y="5420160"/>
              <a:ext cx="355680" cy="185760"/>
            </a:xfrm>
            <a:prstGeom prst="can">
              <a:avLst>
                <a:gd name="adj" fmla="val 29712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AutoShape 22"/>
            <p:cNvSpPr/>
            <p:nvPr/>
          </p:nvSpPr>
          <p:spPr>
            <a:xfrm rot="5378400">
              <a:off x="3033360" y="5442120"/>
              <a:ext cx="355680" cy="17136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AutoShape 23"/>
            <p:cNvSpPr/>
            <p:nvPr/>
          </p:nvSpPr>
          <p:spPr>
            <a:xfrm rot="5378400">
              <a:off x="3177000" y="5432760"/>
              <a:ext cx="355680" cy="185760"/>
            </a:xfrm>
            <a:prstGeom prst="can">
              <a:avLst>
                <a:gd name="adj" fmla="val 29712"/>
              </a:avLst>
            </a:prstGeom>
            <a:solidFill>
              <a:srgbClr val="c7a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AutoShape 24"/>
            <p:cNvSpPr/>
            <p:nvPr/>
          </p:nvSpPr>
          <p:spPr>
            <a:xfrm rot="5378400">
              <a:off x="3326400" y="5395320"/>
              <a:ext cx="355680" cy="26496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25"/>
            <p:cNvSpPr/>
            <p:nvPr/>
          </p:nvSpPr>
          <p:spPr>
            <a:xfrm>
              <a:off x="2086200" y="5526000"/>
              <a:ext cx="21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26"/>
            <p:cNvSpPr/>
            <p:nvPr/>
          </p:nvSpPr>
          <p:spPr>
            <a:xfrm>
              <a:off x="3610800" y="5526000"/>
              <a:ext cx="21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637200" y="5871600"/>
              <a:ext cx="902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Símb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28"/>
            <p:cNvSpPr/>
            <p:nvPr/>
          </p:nvSpPr>
          <p:spPr>
            <a:xfrm>
              <a:off x="2409120" y="5804640"/>
              <a:ext cx="11955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Resistencia con códi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AutoShape 29"/>
            <p:cNvSpPr/>
            <p:nvPr/>
          </p:nvSpPr>
          <p:spPr>
            <a:xfrm rot="5378400">
              <a:off x="4569480" y="5266800"/>
              <a:ext cx="355680" cy="61704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AutoShape 30"/>
            <p:cNvSpPr/>
            <p:nvPr/>
          </p:nvSpPr>
          <p:spPr>
            <a:xfrm rot="5378400">
              <a:off x="5212800" y="5259960"/>
              <a:ext cx="131760" cy="59076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AutoShape 31"/>
            <p:cNvSpPr/>
            <p:nvPr/>
          </p:nvSpPr>
          <p:spPr>
            <a:xfrm rot="5378400">
              <a:off x="5615280" y="5260320"/>
              <a:ext cx="355680" cy="61668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2"/>
            <p:cNvSpPr/>
            <p:nvPr/>
          </p:nvSpPr>
          <p:spPr>
            <a:xfrm>
              <a:off x="4960440" y="5396040"/>
              <a:ext cx="172800" cy="34740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AutoShape 33"/>
            <p:cNvSpPr/>
            <p:nvPr/>
          </p:nvSpPr>
          <p:spPr>
            <a:xfrm rot="5378400">
              <a:off x="7119000" y="5096160"/>
              <a:ext cx="687600" cy="82620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AutoShape 34"/>
            <p:cNvSpPr/>
            <p:nvPr/>
          </p:nvSpPr>
          <p:spPr>
            <a:xfrm rot="5378400">
              <a:off x="6792840" y="5225400"/>
              <a:ext cx="131760" cy="59040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AutoShape 35"/>
            <p:cNvSpPr/>
            <p:nvPr/>
          </p:nvSpPr>
          <p:spPr>
            <a:xfrm rot="5378400">
              <a:off x="7164360" y="5163840"/>
              <a:ext cx="571320" cy="679680"/>
            </a:xfrm>
            <a:prstGeom prst="can">
              <a:avLst>
                <a:gd name="adj" fmla="val 13083"/>
              </a:avLst>
            </a:prstGeom>
            <a:solidFill>
              <a:srgbClr val="c7a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AutoShape 36"/>
            <p:cNvSpPr/>
            <p:nvPr/>
          </p:nvSpPr>
          <p:spPr>
            <a:xfrm rot="5378400">
              <a:off x="8020440" y="5172480"/>
              <a:ext cx="115920" cy="696240"/>
            </a:xfrm>
            <a:prstGeom prst="can">
              <a:avLst>
                <a:gd name="adj" fmla="val 13083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Text Box 37"/>
            <p:cNvSpPr/>
            <p:nvPr/>
          </p:nvSpPr>
          <p:spPr>
            <a:xfrm>
              <a:off x="4535280" y="5822280"/>
              <a:ext cx="15415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Modelo de agua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Estrech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38"/>
            <p:cNvSpPr/>
            <p:nvPr/>
          </p:nvSpPr>
          <p:spPr>
            <a:xfrm>
              <a:off x="6741000" y="5844600"/>
              <a:ext cx="15429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Modelo de agua 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Esponj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51"/>
          <p:cNvSpPr/>
          <p:nvPr/>
        </p:nvSpPr>
        <p:spPr>
          <a:xfrm>
            <a:off x="228600" y="838080"/>
            <a:ext cx="4495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320760" y="861120"/>
            <a:ext cx="81360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s-ES_tradnl" sz="2400" spc="-1" strike="noStrike">
                <a:solidFill>
                  <a:srgbClr val="663300"/>
                </a:solidFill>
                <a:latin typeface="Comic Sans MS"/>
              </a:rPr>
              <a:t>C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s-ES_tradnl" sz="2400" spc="-1" strike="noStrike">
                <a:solidFill>
                  <a:srgbClr val="00cc99"/>
                </a:solidFill>
                <a:latin typeface="Comic Sans MS"/>
              </a:rPr>
              <a:t>V</a:t>
            </a:r>
            <a:r>
              <a:rPr b="1" lang="es-ES_tradnl" sz="2400" spc="-1" strike="noStrike">
                <a:solidFill>
                  <a:srgbClr val="3366ff"/>
                </a:solidFill>
                <a:latin typeface="Comic Sans MS"/>
              </a:rPr>
              <a:t>A</a:t>
            </a:r>
            <a:r>
              <a:rPr b="1" lang="es-ES_tradnl" sz="2400" spc="-1" strike="noStrike">
                <a:solidFill>
                  <a:srgbClr val="ff00ff"/>
                </a:solidFill>
                <a:latin typeface="Comic Sans MS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G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an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t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relación entre el voltaje y la corriente a través de una resistencia está dada por la Ley de Ohm (relaciones proporcionales en ambos model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3071880" y="2314440"/>
                <a:ext cx="1260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9" name="Group 6"/>
          <p:cNvGrpSpPr/>
          <p:nvPr/>
        </p:nvGrpSpPr>
        <p:grpSpPr>
          <a:xfrm>
            <a:off x="7896240" y="2200320"/>
            <a:ext cx="895320" cy="942840"/>
            <a:chOff x="7896240" y="2200320"/>
            <a:chExt cx="895320" cy="942840"/>
          </a:xfrm>
        </p:grpSpPr>
        <p:sp>
          <p:nvSpPr>
            <p:cNvPr id="1000" name="Oval 7"/>
            <p:cNvSpPr/>
            <p:nvPr/>
          </p:nvSpPr>
          <p:spPr>
            <a:xfrm>
              <a:off x="7896240" y="2228760"/>
              <a:ext cx="895320" cy="914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8"/>
            <p:cNvSpPr/>
            <p:nvPr/>
          </p:nvSpPr>
          <p:spPr>
            <a:xfrm>
              <a:off x="7930800" y="2647800"/>
              <a:ext cx="80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8335080" y="2647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Object 10"/>
                <p:cNvSpPr txBox="1"/>
                <p:nvPr/>
              </p:nvSpPr>
              <p:spPr>
                <a:xfrm>
                  <a:off x="8204760" y="2200320"/>
                  <a:ext cx="3830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4" name="Object 11"/>
                <p:cNvSpPr txBox="1"/>
                <p:nvPr/>
              </p:nvSpPr>
              <p:spPr>
                <a:xfrm>
                  <a:off x="8043840" y="2617920"/>
                  <a:ext cx="3186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5" name="Object 12"/>
                <p:cNvSpPr txBox="1"/>
                <p:nvPr/>
              </p:nvSpPr>
              <p:spPr>
                <a:xfrm>
                  <a:off x="8327520" y="2617920"/>
                  <a:ext cx="3834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6" name="Text Box 13"/>
          <p:cNvSpPr/>
          <p:nvPr/>
        </p:nvSpPr>
        <p:spPr>
          <a:xfrm>
            <a:off x="285840" y="3667680"/>
            <a:ext cx="813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odemos utilizar la  ley de Ohm para derivar la caída de tensión en un circuito con dos resistencias conectadas en ser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4"/>
          <p:cNvSpPr/>
          <p:nvPr/>
        </p:nvSpPr>
        <p:spPr>
          <a:xfrm>
            <a:off x="205560" y="3186720"/>
            <a:ext cx="40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Resistencias en Conexión S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Group 15"/>
          <p:cNvGrpSpPr/>
          <p:nvPr/>
        </p:nvGrpSpPr>
        <p:grpSpPr>
          <a:xfrm>
            <a:off x="544680" y="4339440"/>
            <a:ext cx="8246520" cy="1783440"/>
            <a:chOff x="544680" y="4339440"/>
            <a:chExt cx="8246520" cy="1783440"/>
          </a:xfrm>
        </p:grpSpPr>
        <p:grpSp>
          <p:nvGrpSpPr>
            <p:cNvPr id="1009" name="Group 16"/>
            <p:cNvGrpSpPr/>
            <p:nvPr/>
          </p:nvGrpSpPr>
          <p:grpSpPr>
            <a:xfrm>
              <a:off x="626400" y="4763880"/>
              <a:ext cx="996120" cy="313200"/>
              <a:chOff x="626400" y="4763880"/>
              <a:chExt cx="996120" cy="313200"/>
            </a:xfrm>
          </p:grpSpPr>
          <p:sp>
            <p:nvSpPr>
              <p:cNvPr id="1010" name="AutoShape 17"/>
              <p:cNvSpPr/>
              <p:nvPr/>
            </p:nvSpPr>
            <p:spPr>
              <a:xfrm rot="5378400">
                <a:off x="690480" y="4818960"/>
                <a:ext cx="300240" cy="19260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18"/>
              <p:cNvSpPr/>
              <p:nvPr/>
            </p:nvSpPr>
            <p:spPr>
              <a:xfrm rot="5378400">
                <a:off x="78660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19"/>
              <p:cNvSpPr/>
              <p:nvPr/>
            </p:nvSpPr>
            <p:spPr>
              <a:xfrm rot="5378400">
                <a:off x="858960" y="48661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AutoShape 20"/>
              <p:cNvSpPr/>
              <p:nvPr/>
            </p:nvSpPr>
            <p:spPr>
              <a:xfrm rot="5378400">
                <a:off x="92808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AutoShape 21"/>
              <p:cNvSpPr/>
              <p:nvPr/>
            </p:nvSpPr>
            <p:spPr>
              <a:xfrm rot="5378400">
                <a:off x="993600" y="48661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22"/>
              <p:cNvSpPr/>
              <p:nvPr/>
            </p:nvSpPr>
            <p:spPr>
              <a:xfrm rot="5378400">
                <a:off x="106272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AutoShape 23"/>
              <p:cNvSpPr/>
              <p:nvPr/>
            </p:nvSpPr>
            <p:spPr>
              <a:xfrm rot="5378400">
                <a:off x="1121400" y="48769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AutoShape 24"/>
              <p:cNvSpPr/>
              <p:nvPr/>
            </p:nvSpPr>
            <p:spPr>
              <a:xfrm rot="5378400">
                <a:off x="1204200" y="487116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7ae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25"/>
              <p:cNvSpPr/>
              <p:nvPr/>
            </p:nvSpPr>
            <p:spPr>
              <a:xfrm rot="5378400">
                <a:off x="1289880" y="4849920"/>
                <a:ext cx="300240" cy="152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Line 26"/>
              <p:cNvSpPr/>
              <p:nvPr/>
            </p:nvSpPr>
            <p:spPr>
              <a:xfrm>
                <a:off x="626400" y="492480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27"/>
              <p:cNvSpPr/>
              <p:nvPr/>
            </p:nvSpPr>
            <p:spPr>
              <a:xfrm>
                <a:off x="1501560" y="492480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Text Box 28"/>
            <p:cNvSpPr/>
            <p:nvPr/>
          </p:nvSpPr>
          <p:spPr>
            <a:xfrm>
              <a:off x="544680" y="5174640"/>
              <a:ext cx="1195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9"/>
            <p:cNvSpPr/>
            <p:nvPr/>
          </p:nvSpPr>
          <p:spPr>
            <a:xfrm>
              <a:off x="1529280" y="4933800"/>
              <a:ext cx="49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Group 30"/>
            <p:cNvGrpSpPr/>
            <p:nvPr/>
          </p:nvGrpSpPr>
          <p:grpSpPr>
            <a:xfrm>
              <a:off x="1963080" y="4763880"/>
              <a:ext cx="996120" cy="313200"/>
              <a:chOff x="1963080" y="4763880"/>
              <a:chExt cx="996120" cy="313200"/>
            </a:xfrm>
          </p:grpSpPr>
          <p:sp>
            <p:nvSpPr>
              <p:cNvPr id="1024" name="AutoShape 31"/>
              <p:cNvSpPr/>
              <p:nvPr/>
            </p:nvSpPr>
            <p:spPr>
              <a:xfrm rot="5378400">
                <a:off x="2027160" y="4818960"/>
                <a:ext cx="300240" cy="19260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AutoShape 32"/>
              <p:cNvSpPr/>
              <p:nvPr/>
            </p:nvSpPr>
            <p:spPr>
              <a:xfrm rot="5378400">
                <a:off x="212328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AutoShape 33"/>
              <p:cNvSpPr/>
              <p:nvPr/>
            </p:nvSpPr>
            <p:spPr>
              <a:xfrm rot="5378400">
                <a:off x="2195640" y="48661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AutoShape 34"/>
              <p:cNvSpPr/>
              <p:nvPr/>
            </p:nvSpPr>
            <p:spPr>
              <a:xfrm rot="5378400">
                <a:off x="226476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35"/>
              <p:cNvSpPr/>
              <p:nvPr/>
            </p:nvSpPr>
            <p:spPr>
              <a:xfrm rot="5378400">
                <a:off x="2330280" y="48661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AutoShape 36"/>
              <p:cNvSpPr/>
              <p:nvPr/>
            </p:nvSpPr>
            <p:spPr>
              <a:xfrm rot="5378400">
                <a:off x="2399400" y="486072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AutoShape 37"/>
              <p:cNvSpPr/>
              <p:nvPr/>
            </p:nvSpPr>
            <p:spPr>
              <a:xfrm rot="5378400">
                <a:off x="2458080" y="487692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AutoShape 38"/>
              <p:cNvSpPr/>
              <p:nvPr/>
            </p:nvSpPr>
            <p:spPr>
              <a:xfrm rot="5378400">
                <a:off x="2540880" y="487116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7ae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AutoShape 39"/>
              <p:cNvSpPr/>
              <p:nvPr/>
            </p:nvSpPr>
            <p:spPr>
              <a:xfrm rot="5378400">
                <a:off x="2626560" y="4849920"/>
                <a:ext cx="300240" cy="152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Line 40"/>
              <p:cNvSpPr/>
              <p:nvPr/>
            </p:nvSpPr>
            <p:spPr>
              <a:xfrm>
                <a:off x="1963080" y="492480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Line 41"/>
              <p:cNvSpPr/>
              <p:nvPr/>
            </p:nvSpPr>
            <p:spPr>
              <a:xfrm>
                <a:off x="2838240" y="492480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Text Box 42"/>
            <p:cNvSpPr/>
            <p:nvPr/>
          </p:nvSpPr>
          <p:spPr>
            <a:xfrm>
              <a:off x="1881000" y="5174640"/>
              <a:ext cx="11955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6" name="Object 43"/>
                <p:cNvSpPr txBox="1"/>
                <p:nvPr/>
              </p:nvSpPr>
              <p:spPr>
                <a:xfrm>
                  <a:off x="1641960" y="4525920"/>
                  <a:ext cx="2577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7" name="Line 44"/>
            <p:cNvSpPr/>
            <p:nvPr/>
          </p:nvSpPr>
          <p:spPr>
            <a:xfrm>
              <a:off x="1813680" y="4822920"/>
              <a:ext cx="182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8" name="Object 45"/>
                <p:cNvSpPr txBox="1"/>
                <p:nvPr/>
              </p:nvSpPr>
              <p:spPr>
                <a:xfrm>
                  <a:off x="3558600" y="4452840"/>
                  <a:ext cx="124992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9" name="Object 46"/>
                <p:cNvSpPr txBox="1"/>
                <p:nvPr/>
              </p:nvSpPr>
              <p:spPr>
                <a:xfrm>
                  <a:off x="4940640" y="4743360"/>
                  <a:ext cx="38505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0" name="Object 47"/>
                <p:cNvSpPr txBox="1"/>
                <p:nvPr/>
              </p:nvSpPr>
              <p:spPr>
                <a:xfrm>
                  <a:off x="4986000" y="5126040"/>
                  <a:ext cx="2388240" cy="99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</m:t>
                              </m:r>
                            </m:sub>
                          </m:sSub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1" name="Text Box 48"/>
            <p:cNvSpPr/>
            <p:nvPr/>
          </p:nvSpPr>
          <p:spPr>
            <a:xfrm>
              <a:off x="5714280" y="4339440"/>
              <a:ext cx="11955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Ley de mallas de Kirchh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49"/>
            <p:cNvSpPr/>
            <p:nvPr/>
          </p:nvSpPr>
          <p:spPr>
            <a:xfrm>
              <a:off x="3533760" y="5765040"/>
              <a:ext cx="1195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Ley de O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3" name="Picture 50" descr="resistencia1"/>
          <p:cNvPicPr/>
          <p:nvPr/>
        </p:nvPicPr>
        <p:blipFill>
          <a:blip r:embed="rId1"/>
          <a:stretch/>
        </p:blipFill>
        <p:spPr>
          <a:xfrm>
            <a:off x="1066680" y="5486400"/>
            <a:ext cx="13906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X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4"/>
          <p:cNvSpPr/>
          <p:nvPr/>
        </p:nvSpPr>
        <p:spPr>
          <a:xfrm>
            <a:off x="250920" y="1496160"/>
            <a:ext cx="813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odemos utilizar la ley de Ohm para derivar la caída de tensión en un circuito con dos resistencias conectadas en paral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"/>
          <p:cNvSpPr/>
          <p:nvPr/>
        </p:nvSpPr>
        <p:spPr>
          <a:xfrm>
            <a:off x="115560" y="1014840"/>
            <a:ext cx="449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Resistencias en Conexión Para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6"/>
          <p:cNvGrpSpPr/>
          <p:nvPr/>
        </p:nvGrpSpPr>
        <p:grpSpPr>
          <a:xfrm>
            <a:off x="387360" y="2163600"/>
            <a:ext cx="6513120" cy="1692000"/>
            <a:chOff x="387360" y="2163600"/>
            <a:chExt cx="6513120" cy="1692000"/>
          </a:xfrm>
        </p:grpSpPr>
        <p:grpSp>
          <p:nvGrpSpPr>
            <p:cNvPr id="1049" name="Group 7"/>
            <p:cNvGrpSpPr/>
            <p:nvPr/>
          </p:nvGrpSpPr>
          <p:grpSpPr>
            <a:xfrm>
              <a:off x="750600" y="2592000"/>
              <a:ext cx="995760" cy="313560"/>
              <a:chOff x="750600" y="2592000"/>
              <a:chExt cx="995760" cy="313560"/>
            </a:xfrm>
          </p:grpSpPr>
          <p:sp>
            <p:nvSpPr>
              <p:cNvPr id="1050" name="AutoShape 8"/>
              <p:cNvSpPr/>
              <p:nvPr/>
            </p:nvSpPr>
            <p:spPr>
              <a:xfrm rot="5378400">
                <a:off x="814320" y="2647080"/>
                <a:ext cx="300600" cy="19260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AutoShape 9"/>
              <p:cNvSpPr/>
              <p:nvPr/>
            </p:nvSpPr>
            <p:spPr>
              <a:xfrm rot="5378400">
                <a:off x="910800" y="2689200"/>
                <a:ext cx="300600" cy="106560"/>
              </a:xfrm>
              <a:prstGeom prst="can">
                <a:avLst>
                  <a:gd name="adj" fmla="val 29712"/>
                </a:avLst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10"/>
              <p:cNvSpPr/>
              <p:nvPr/>
            </p:nvSpPr>
            <p:spPr>
              <a:xfrm rot="5378400">
                <a:off x="982440" y="2694240"/>
                <a:ext cx="30060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11"/>
              <p:cNvSpPr/>
              <p:nvPr/>
            </p:nvSpPr>
            <p:spPr>
              <a:xfrm rot="5378400">
                <a:off x="1052280" y="2689200"/>
                <a:ext cx="300600" cy="106560"/>
              </a:xfrm>
              <a:prstGeom prst="can">
                <a:avLst>
                  <a:gd name="adj" fmla="val 29712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12"/>
              <p:cNvSpPr/>
              <p:nvPr/>
            </p:nvSpPr>
            <p:spPr>
              <a:xfrm rot="5378400">
                <a:off x="1117440" y="2694240"/>
                <a:ext cx="30060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13"/>
              <p:cNvSpPr/>
              <p:nvPr/>
            </p:nvSpPr>
            <p:spPr>
              <a:xfrm rot="5378400">
                <a:off x="1186560" y="2689200"/>
                <a:ext cx="300600" cy="106560"/>
              </a:xfrm>
              <a:prstGeom prst="can">
                <a:avLst>
                  <a:gd name="adj" fmla="val 2971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14"/>
              <p:cNvSpPr/>
              <p:nvPr/>
            </p:nvSpPr>
            <p:spPr>
              <a:xfrm rot="5378400">
                <a:off x="1245240" y="2705040"/>
                <a:ext cx="30060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AutoShape 15"/>
              <p:cNvSpPr/>
              <p:nvPr/>
            </p:nvSpPr>
            <p:spPr>
              <a:xfrm rot="5378400">
                <a:off x="1328040" y="2699640"/>
                <a:ext cx="300600" cy="106560"/>
              </a:xfrm>
              <a:prstGeom prst="can">
                <a:avLst>
                  <a:gd name="adj" fmla="val 29712"/>
                </a:avLst>
              </a:prstGeom>
              <a:solidFill>
                <a:srgbClr val="c7ae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AutoShape 16"/>
              <p:cNvSpPr/>
              <p:nvPr/>
            </p:nvSpPr>
            <p:spPr>
              <a:xfrm rot="5378400">
                <a:off x="1413720" y="2678400"/>
                <a:ext cx="300600" cy="15192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17"/>
              <p:cNvSpPr/>
              <p:nvPr/>
            </p:nvSpPr>
            <p:spPr>
              <a:xfrm>
                <a:off x="750600" y="275328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Line 18"/>
              <p:cNvSpPr/>
              <p:nvPr/>
            </p:nvSpPr>
            <p:spPr>
              <a:xfrm>
                <a:off x="1625400" y="275328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Text Box 19"/>
            <p:cNvSpPr/>
            <p:nvPr/>
          </p:nvSpPr>
          <p:spPr>
            <a:xfrm>
              <a:off x="1161000" y="2469600"/>
              <a:ext cx="11955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20"/>
            <p:cNvSpPr/>
            <p:nvPr/>
          </p:nvSpPr>
          <p:spPr>
            <a:xfrm>
              <a:off x="1741320" y="27622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Group 21"/>
            <p:cNvGrpSpPr/>
            <p:nvPr/>
          </p:nvGrpSpPr>
          <p:grpSpPr>
            <a:xfrm>
              <a:off x="768240" y="3354120"/>
              <a:ext cx="995760" cy="313200"/>
              <a:chOff x="768240" y="3354120"/>
              <a:chExt cx="995760" cy="313200"/>
            </a:xfrm>
          </p:grpSpPr>
          <p:sp>
            <p:nvSpPr>
              <p:cNvPr id="1064" name="AutoShape 22"/>
              <p:cNvSpPr/>
              <p:nvPr/>
            </p:nvSpPr>
            <p:spPr>
              <a:xfrm rot="5378400">
                <a:off x="832320" y="3409200"/>
                <a:ext cx="300240" cy="19260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23"/>
              <p:cNvSpPr/>
              <p:nvPr/>
            </p:nvSpPr>
            <p:spPr>
              <a:xfrm rot="5378400">
                <a:off x="928440" y="345096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24"/>
              <p:cNvSpPr/>
              <p:nvPr/>
            </p:nvSpPr>
            <p:spPr>
              <a:xfrm rot="5378400">
                <a:off x="1000440" y="345636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AutoShape 25"/>
              <p:cNvSpPr/>
              <p:nvPr/>
            </p:nvSpPr>
            <p:spPr>
              <a:xfrm rot="5378400">
                <a:off x="1069920" y="345096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AutoShape 26"/>
              <p:cNvSpPr/>
              <p:nvPr/>
            </p:nvSpPr>
            <p:spPr>
              <a:xfrm rot="5378400">
                <a:off x="1135440" y="345636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AutoShape 27"/>
              <p:cNvSpPr/>
              <p:nvPr/>
            </p:nvSpPr>
            <p:spPr>
              <a:xfrm rot="5378400">
                <a:off x="1204200" y="345096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8"/>
              <p:cNvSpPr/>
              <p:nvPr/>
            </p:nvSpPr>
            <p:spPr>
              <a:xfrm rot="5378400">
                <a:off x="1263240" y="3467160"/>
                <a:ext cx="300240" cy="9828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9"/>
              <p:cNvSpPr/>
              <p:nvPr/>
            </p:nvSpPr>
            <p:spPr>
              <a:xfrm rot="5378400">
                <a:off x="1345680" y="3461400"/>
                <a:ext cx="300240" cy="106560"/>
              </a:xfrm>
              <a:prstGeom prst="can">
                <a:avLst>
                  <a:gd name="adj" fmla="val 29712"/>
                </a:avLst>
              </a:prstGeom>
              <a:solidFill>
                <a:srgbClr val="c7ae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30"/>
              <p:cNvSpPr/>
              <p:nvPr/>
            </p:nvSpPr>
            <p:spPr>
              <a:xfrm rot="5378400">
                <a:off x="1431360" y="3440520"/>
                <a:ext cx="300240" cy="151920"/>
              </a:xfrm>
              <a:prstGeom prst="can">
                <a:avLst>
                  <a:gd name="adj" fmla="val 29254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31"/>
              <p:cNvSpPr/>
              <p:nvPr/>
            </p:nvSpPr>
            <p:spPr>
              <a:xfrm>
                <a:off x="768240" y="351504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Line 32"/>
              <p:cNvSpPr/>
              <p:nvPr/>
            </p:nvSpPr>
            <p:spPr>
              <a:xfrm>
                <a:off x="1643040" y="3515040"/>
                <a:ext cx="1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Text Box 33"/>
            <p:cNvSpPr/>
            <p:nvPr/>
          </p:nvSpPr>
          <p:spPr>
            <a:xfrm>
              <a:off x="1195920" y="3612600"/>
              <a:ext cx="1195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90"/>
                  </a:solidFill>
                  <a:latin typeface="Comic Sans MS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6" name="Object 34"/>
                <p:cNvSpPr txBox="1"/>
                <p:nvPr/>
              </p:nvSpPr>
              <p:spPr>
                <a:xfrm>
                  <a:off x="1171080" y="2163600"/>
                  <a:ext cx="2872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77" name="Line 35"/>
            <p:cNvSpPr/>
            <p:nvPr/>
          </p:nvSpPr>
          <p:spPr>
            <a:xfrm>
              <a:off x="952920" y="2460600"/>
              <a:ext cx="183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8" name="Object 36"/>
                <p:cNvSpPr txBox="1"/>
                <p:nvPr/>
              </p:nvSpPr>
              <p:spPr>
                <a:xfrm>
                  <a:off x="2727360" y="2338560"/>
                  <a:ext cx="1403640" cy="11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9" name="Object 37"/>
                <p:cNvSpPr txBox="1"/>
                <p:nvPr/>
              </p:nvSpPr>
              <p:spPr>
                <a:xfrm>
                  <a:off x="4512240" y="2459160"/>
                  <a:ext cx="2388240" cy="99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</m:t>
                              </m:r>
                            </m:sub>
                          </m:sSub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0" name="Line 38"/>
            <p:cNvSpPr/>
            <p:nvPr/>
          </p:nvSpPr>
          <p:spPr>
            <a:xfrm>
              <a:off x="756360" y="276228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39"/>
            <p:cNvSpPr/>
            <p:nvPr/>
          </p:nvSpPr>
          <p:spPr>
            <a:xfrm>
              <a:off x="1741320" y="3162240"/>
              <a:ext cx="36900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40"/>
            <p:cNvSpPr/>
            <p:nvPr/>
          </p:nvSpPr>
          <p:spPr>
            <a:xfrm>
              <a:off x="387360" y="3143160"/>
              <a:ext cx="36900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3" name="Object 41"/>
                <p:cNvSpPr txBox="1"/>
                <p:nvPr/>
              </p:nvSpPr>
              <p:spPr>
                <a:xfrm>
                  <a:off x="1165320" y="2925720"/>
                  <a:ext cx="3355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84" name="Line 42"/>
            <p:cNvSpPr/>
            <p:nvPr/>
          </p:nvSpPr>
          <p:spPr>
            <a:xfrm>
              <a:off x="970200" y="3222720"/>
              <a:ext cx="182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5" name="Object 43"/>
                <p:cNvSpPr txBox="1"/>
                <p:nvPr/>
              </p:nvSpPr>
              <p:spPr>
                <a:xfrm>
                  <a:off x="2100240" y="2792520"/>
                  <a:ext cx="2577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6" name="Line 44"/>
            <p:cNvSpPr/>
            <p:nvPr/>
          </p:nvSpPr>
          <p:spPr>
            <a:xfrm>
              <a:off x="1867320" y="3032280"/>
              <a:ext cx="182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Text Box 45"/>
          <p:cNvSpPr/>
          <p:nvPr/>
        </p:nvSpPr>
        <p:spPr>
          <a:xfrm>
            <a:off x="320760" y="4348800"/>
            <a:ext cx="8136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Suponiendo un valor constante para la resistencia, la potencia disipada por ésta puede se determinada combinando la fórmula de potencia y ley de Oh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6"/>
          <p:cNvSpPr/>
          <p:nvPr/>
        </p:nvSpPr>
        <p:spPr>
          <a:xfrm>
            <a:off x="216360" y="4018320"/>
            <a:ext cx="30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Disipación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47"/>
              <p:cNvSpPr txBox="1"/>
              <p:nvPr/>
            </p:nvSpPr>
            <p:spPr>
              <a:xfrm>
                <a:off x="2844720" y="5199120"/>
                <a:ext cx="2259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"/>
          <p:cNvSpPr/>
          <p:nvPr/>
        </p:nvSpPr>
        <p:spPr>
          <a:xfrm>
            <a:off x="3800520" y="1287360"/>
            <a:ext cx="534348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X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5"/>
          <p:cNvSpPr/>
          <p:nvPr/>
        </p:nvSpPr>
        <p:spPr>
          <a:xfrm>
            <a:off x="0" y="1371960"/>
            <a:ext cx="396252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figura muestra la variación espacial del potencial para distintos circu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Notar diferencia al considerar conductores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 qué caso no existe variación de voltaje al circular corr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187560" y="937080"/>
            <a:ext cx="60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mic Sans MS"/>
              </a:rPr>
              <a:t>Variaciones de voltaje en un circuito resis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Picture 7" descr=""/>
          <p:cNvPicPr/>
          <p:nvPr/>
        </p:nvPicPr>
        <p:blipFill>
          <a:blip r:embed="rId1"/>
          <a:stretch/>
        </p:blipFill>
        <p:spPr>
          <a:xfrm>
            <a:off x="3886200" y="1278000"/>
            <a:ext cx="5105520" cy="5065560"/>
          </a:xfrm>
          <a:prstGeom prst="rect">
            <a:avLst/>
          </a:prstGeom>
          <a:ln w="0">
            <a:noFill/>
          </a:ln>
        </p:spPr>
      </p:pic>
      <p:sp>
        <p:nvSpPr>
          <p:cNvPr id="1096" name="Text Box 8"/>
          <p:cNvSpPr/>
          <p:nvPr/>
        </p:nvSpPr>
        <p:spPr>
          <a:xfrm>
            <a:off x="4594320" y="3405960"/>
            <a:ext cx="1197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Pot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9"/>
          <p:cNvSpPr/>
          <p:nvPr/>
        </p:nvSpPr>
        <p:spPr>
          <a:xfrm flipV="1">
            <a:off x="4371840" y="2985840"/>
            <a:ext cx="320760" cy="360360"/>
          </a:xfrm>
          <a:prstGeom prst="line">
            <a:avLst/>
          </a:prstGeom>
          <a:ln w="3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0"/>
          <p:cNvSpPr/>
          <p:nvPr/>
        </p:nvSpPr>
        <p:spPr>
          <a:xfrm>
            <a:off x="5756400" y="3393360"/>
            <a:ext cx="11952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onductor id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1"/>
          <p:cNvSpPr/>
          <p:nvPr/>
        </p:nvSpPr>
        <p:spPr>
          <a:xfrm>
            <a:off x="7095960" y="3377520"/>
            <a:ext cx="1197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onductor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2"/>
          <p:cNvSpPr/>
          <p:nvPr/>
        </p:nvSpPr>
        <p:spPr>
          <a:xfrm>
            <a:off x="7201080" y="6171120"/>
            <a:ext cx="2019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X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237960" y="1270440"/>
            <a:ext cx="52484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conectar dos resistencias en serie, utilizando la ley de Ohm se observa que las resistencias generan una división del voltaje de la fuente que las suministra --&gt; el voltaje total no es cambi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216000" y="94356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mic Sans MS"/>
              </a:rPr>
              <a:t>Divisores de 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6"/>
          <p:cNvSpPr/>
          <p:nvPr/>
        </p:nvSpPr>
        <p:spPr>
          <a:xfrm rot="5439000">
            <a:off x="6642720" y="1427760"/>
            <a:ext cx="1009800" cy="31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7"/>
          <p:cNvSpPr/>
          <p:nvPr/>
        </p:nvSpPr>
        <p:spPr>
          <a:xfrm rot="5439000">
            <a:off x="6664680" y="2340720"/>
            <a:ext cx="1009440" cy="31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8"/>
          <p:cNvSpPr/>
          <p:nvPr/>
        </p:nvSpPr>
        <p:spPr>
          <a:xfrm>
            <a:off x="6129360" y="1765440"/>
            <a:ext cx="428760" cy="5014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5743440" y="1786680"/>
            <a:ext cx="1197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0"/>
          <p:cNvSpPr/>
          <p:nvPr/>
        </p:nvSpPr>
        <p:spPr>
          <a:xfrm>
            <a:off x="5765760" y="2080440"/>
            <a:ext cx="1197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1"/>
          <p:cNvSpPr/>
          <p:nvPr/>
        </p:nvSpPr>
        <p:spPr>
          <a:xfrm>
            <a:off x="7137360" y="2046240"/>
            <a:ext cx="74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2"/>
          <p:cNvSpPr/>
          <p:nvPr/>
        </p:nvSpPr>
        <p:spPr>
          <a:xfrm flipV="1">
            <a:off x="6353280" y="1066320"/>
            <a:ext cx="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3"/>
          <p:cNvSpPr/>
          <p:nvPr/>
        </p:nvSpPr>
        <p:spPr>
          <a:xfrm flipV="1">
            <a:off x="6351480" y="2260080"/>
            <a:ext cx="0" cy="70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14"/>
          <p:cNvSpPr/>
          <p:nvPr/>
        </p:nvSpPr>
        <p:spPr>
          <a:xfrm>
            <a:off x="6327720" y="1065240"/>
            <a:ext cx="79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5"/>
          <p:cNvSpPr/>
          <p:nvPr/>
        </p:nvSpPr>
        <p:spPr>
          <a:xfrm>
            <a:off x="6350040" y="2965320"/>
            <a:ext cx="8301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Object 16"/>
              <p:cNvSpPr txBox="1"/>
              <p:nvPr/>
            </p:nvSpPr>
            <p:spPr>
              <a:xfrm>
                <a:off x="7299360" y="1306440"/>
                <a:ext cx="447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7"/>
              <p:cNvSpPr txBox="1"/>
              <p:nvPr/>
            </p:nvSpPr>
            <p:spPr>
              <a:xfrm>
                <a:off x="7351560" y="2308320"/>
                <a:ext cx="484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8"/>
              <p:cNvSpPr txBox="1"/>
              <p:nvPr/>
            </p:nvSpPr>
            <p:spPr>
              <a:xfrm>
                <a:off x="6438960" y="1305000"/>
                <a:ext cx="382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8" name="Line 19"/>
          <p:cNvSpPr/>
          <p:nvPr/>
        </p:nvSpPr>
        <p:spPr>
          <a:xfrm>
            <a:off x="7172280" y="2957400"/>
            <a:ext cx="747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0"/>
          <p:cNvSpPr/>
          <p:nvPr/>
        </p:nvSpPr>
        <p:spPr>
          <a:xfrm>
            <a:off x="7454880" y="1939320"/>
            <a:ext cx="1195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1"/>
          <p:cNvSpPr/>
          <p:nvPr/>
        </p:nvSpPr>
        <p:spPr>
          <a:xfrm>
            <a:off x="7440480" y="2797920"/>
            <a:ext cx="1197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Object 22"/>
              <p:cNvSpPr txBox="1"/>
              <p:nvPr/>
            </p:nvSpPr>
            <p:spPr>
              <a:xfrm>
                <a:off x="7880400" y="2122560"/>
                <a:ext cx="609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Object 23"/>
              <p:cNvSpPr txBox="1"/>
              <p:nvPr/>
            </p:nvSpPr>
            <p:spPr>
              <a:xfrm>
                <a:off x="2863800" y="2573280"/>
                <a:ext cx="2536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3" name="Oval 24"/>
          <p:cNvSpPr/>
          <p:nvPr/>
        </p:nvSpPr>
        <p:spPr>
          <a:xfrm>
            <a:off x="7115040" y="1981080"/>
            <a:ext cx="9540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5"/>
          <p:cNvSpPr/>
          <p:nvPr/>
        </p:nvSpPr>
        <p:spPr>
          <a:xfrm>
            <a:off x="7126200" y="2921040"/>
            <a:ext cx="9540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6"/>
          <p:cNvSpPr/>
          <p:nvPr/>
        </p:nvSpPr>
        <p:spPr>
          <a:xfrm>
            <a:off x="179640" y="3721680"/>
            <a:ext cx="292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mic Sans MS"/>
              </a:rPr>
              <a:t>Equivalente Theven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Picture 27" descr=""/>
          <p:cNvPicPr/>
          <p:nvPr/>
        </p:nvPicPr>
        <p:blipFill>
          <a:blip r:embed="rId1"/>
          <a:stretch/>
        </p:blipFill>
        <p:spPr>
          <a:xfrm>
            <a:off x="4861080" y="4049640"/>
            <a:ext cx="4200480" cy="1965240"/>
          </a:xfrm>
          <a:prstGeom prst="rect">
            <a:avLst/>
          </a:prstGeom>
          <a:ln w="0">
            <a:noFill/>
          </a:ln>
        </p:spPr>
      </p:pic>
      <p:sp>
        <p:nvSpPr>
          <p:cNvPr id="1127" name="Text Box 28"/>
          <p:cNvSpPr/>
          <p:nvPr/>
        </p:nvSpPr>
        <p:spPr>
          <a:xfrm>
            <a:off x="5232240" y="6044400"/>
            <a:ext cx="3168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Ejemplo de Equivalent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9"/>
          <p:cNvSpPr/>
          <p:nvPr/>
        </p:nvSpPr>
        <p:spPr>
          <a:xfrm>
            <a:off x="237960" y="4055040"/>
            <a:ext cx="447696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os modelos equivalentes Thevenin permiten representar un sistema complejo a través de una fuente de voltaje y una resistencia Thevenin. Con ello se facilita el análisis de efecto de cargas, conexión a otros circuitos,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0"/>
          <p:cNvSpPr/>
          <p:nvPr/>
        </p:nvSpPr>
        <p:spPr>
          <a:xfrm>
            <a:off x="7346880" y="5760000"/>
            <a:ext cx="2019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"/>
          <p:cNvSpPr/>
          <p:nvPr/>
        </p:nvSpPr>
        <p:spPr>
          <a:xfrm>
            <a:off x="458640" y="180360"/>
            <a:ext cx="873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Fundamentos de Corriente Continua 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y Componentes (X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237960" y="919800"/>
            <a:ext cx="83743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os equivalentes permiten representar en forma simplificada cualquier colección de fuentes y resistencias, sin importar el orden en la conexión serie de dos compon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Group 5"/>
          <p:cNvGrpSpPr/>
          <p:nvPr/>
        </p:nvGrpSpPr>
        <p:grpSpPr>
          <a:xfrm>
            <a:off x="3409920" y="1941480"/>
            <a:ext cx="4782960" cy="1323720"/>
            <a:chOff x="3409920" y="1941480"/>
            <a:chExt cx="4782960" cy="1323720"/>
          </a:xfrm>
        </p:grpSpPr>
        <p:sp>
          <p:nvSpPr>
            <p:cNvPr id="1134" name="Rectangle 6"/>
            <p:cNvSpPr/>
            <p:nvPr/>
          </p:nvSpPr>
          <p:spPr>
            <a:xfrm>
              <a:off x="3409920" y="1950840"/>
              <a:ext cx="4775760" cy="1300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5" name="Picture 7" descr=""/>
            <p:cNvPicPr/>
            <p:nvPr/>
          </p:nvPicPr>
          <p:blipFill>
            <a:blip r:embed="rId1"/>
            <a:stretch/>
          </p:blipFill>
          <p:spPr>
            <a:xfrm>
              <a:off x="3431520" y="1941480"/>
              <a:ext cx="4761360" cy="13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Text Box 8"/>
          <p:cNvSpPr/>
          <p:nvPr/>
        </p:nvSpPr>
        <p:spPr>
          <a:xfrm>
            <a:off x="4092480" y="3263040"/>
            <a:ext cx="3168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Ejemplo de Ap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3450240"/>
            <a:ext cx="8740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equivalente puede calcularse de dos form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) midiendo el voltaje en vacío Voc y la corriente de cortocircuito Is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10"/>
              <p:cNvSpPr txBox="1"/>
              <p:nvPr/>
            </p:nvSpPr>
            <p:spPr>
              <a:xfrm>
                <a:off x="4800600" y="4086360"/>
                <a:ext cx="1422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11"/>
              <p:cNvSpPr txBox="1"/>
              <p:nvPr/>
            </p:nvSpPr>
            <p:spPr>
              <a:xfrm>
                <a:off x="6400800" y="3962520"/>
                <a:ext cx="19969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0" name="Text Box 12"/>
          <p:cNvSpPr/>
          <p:nvPr/>
        </p:nvSpPr>
        <p:spPr>
          <a:xfrm>
            <a:off x="519120" y="4564800"/>
            <a:ext cx="8372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b) Cálculo de componentes a través del análisis de la red (Calculando corriente al cortocircuitar A con B, Cortocircuitando fuentes de voltaje para cálculo de resist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276840" y="55566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Comic Sans MS"/>
              </a:rPr>
              <a:t>Simbolog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Group 14"/>
          <p:cNvGrpSpPr/>
          <p:nvPr/>
        </p:nvGrpSpPr>
        <p:grpSpPr>
          <a:xfrm>
            <a:off x="1857240" y="5658840"/>
            <a:ext cx="6802200" cy="666720"/>
            <a:chOff x="1857240" y="5658840"/>
            <a:chExt cx="6802200" cy="666720"/>
          </a:xfrm>
        </p:grpSpPr>
        <p:sp>
          <p:nvSpPr>
            <p:cNvPr id="1143" name="Oval 15"/>
            <p:cNvSpPr/>
            <p:nvPr/>
          </p:nvSpPr>
          <p:spPr>
            <a:xfrm>
              <a:off x="2242080" y="5767560"/>
              <a:ext cx="428040" cy="501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16"/>
            <p:cNvSpPr/>
            <p:nvPr/>
          </p:nvSpPr>
          <p:spPr>
            <a:xfrm>
              <a:off x="1857240" y="5788800"/>
              <a:ext cx="11955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90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17"/>
            <p:cNvSpPr/>
            <p:nvPr/>
          </p:nvSpPr>
          <p:spPr>
            <a:xfrm>
              <a:off x="1878840" y="6082560"/>
              <a:ext cx="11955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90"/>
                  </a:solidFill>
                  <a:latin typeface="Comic Sans MS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18"/>
            <p:cNvSpPr/>
            <p:nvPr/>
          </p:nvSpPr>
          <p:spPr>
            <a:xfrm>
              <a:off x="3313800" y="5742000"/>
              <a:ext cx="427680" cy="501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19"/>
            <p:cNvSpPr/>
            <p:nvPr/>
          </p:nvSpPr>
          <p:spPr>
            <a:xfrm flipV="1">
              <a:off x="3527640" y="5857920"/>
              <a:ext cx="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0"/>
            <p:cNvSpPr/>
            <p:nvPr/>
          </p:nvSpPr>
          <p:spPr>
            <a:xfrm>
              <a:off x="4548960" y="612792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21"/>
            <p:cNvSpPr/>
            <p:nvPr/>
          </p:nvSpPr>
          <p:spPr>
            <a:xfrm>
              <a:off x="4547520" y="571500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22"/>
            <p:cNvSpPr/>
            <p:nvPr/>
          </p:nvSpPr>
          <p:spPr>
            <a:xfrm flipH="1">
              <a:off x="4440240" y="6137280"/>
              <a:ext cx="2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23"/>
            <p:cNvSpPr/>
            <p:nvPr/>
          </p:nvSpPr>
          <p:spPr>
            <a:xfrm flipH="1">
              <a:off x="4438800" y="5967360"/>
              <a:ext cx="20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24"/>
            <p:cNvSpPr/>
            <p:nvPr/>
          </p:nvSpPr>
          <p:spPr>
            <a:xfrm flipH="1">
              <a:off x="4345200" y="5877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25"/>
            <p:cNvSpPr/>
            <p:nvPr/>
          </p:nvSpPr>
          <p:spPr>
            <a:xfrm flipH="1">
              <a:off x="4356720" y="60548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Text Box 26"/>
            <p:cNvSpPr/>
            <p:nvPr/>
          </p:nvSpPr>
          <p:spPr>
            <a:xfrm>
              <a:off x="4101840" y="5658840"/>
              <a:ext cx="1195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90"/>
                  </a:solidFill>
                  <a:latin typeface="Comic Sans MS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27"/>
            <p:cNvSpPr/>
            <p:nvPr/>
          </p:nvSpPr>
          <p:spPr>
            <a:xfrm>
              <a:off x="5166000" y="5805360"/>
              <a:ext cx="931680" cy="343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28"/>
            <p:cNvSpPr/>
            <p:nvPr/>
          </p:nvSpPr>
          <p:spPr>
            <a:xfrm>
              <a:off x="6635880" y="59166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Oval 29"/>
            <p:cNvSpPr/>
            <p:nvPr/>
          </p:nvSpPr>
          <p:spPr>
            <a:xfrm>
              <a:off x="6590520" y="5880240"/>
              <a:ext cx="9504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30"/>
            <p:cNvSpPr/>
            <p:nvPr/>
          </p:nvSpPr>
          <p:spPr>
            <a:xfrm>
              <a:off x="6289920" y="59259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31"/>
            <p:cNvSpPr/>
            <p:nvPr/>
          </p:nvSpPr>
          <p:spPr>
            <a:xfrm flipV="1">
              <a:off x="6644520" y="59367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32"/>
            <p:cNvSpPr/>
            <p:nvPr/>
          </p:nvSpPr>
          <p:spPr>
            <a:xfrm>
              <a:off x="7525440" y="6157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7645680" y="5851440"/>
              <a:ext cx="9504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34"/>
            <p:cNvSpPr/>
            <p:nvPr/>
          </p:nvSpPr>
          <p:spPr>
            <a:xfrm>
              <a:off x="7617600" y="6207120"/>
              <a:ext cx="17712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35"/>
            <p:cNvSpPr/>
            <p:nvPr/>
          </p:nvSpPr>
          <p:spPr>
            <a:xfrm flipV="1">
              <a:off x="7700040" y="590832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36"/>
            <p:cNvSpPr/>
            <p:nvPr/>
          </p:nvSpPr>
          <p:spPr>
            <a:xfrm>
              <a:off x="7664760" y="6270480"/>
              <a:ext cx="820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AutoShape 37"/>
            <p:cNvSpPr/>
            <p:nvPr/>
          </p:nvSpPr>
          <p:spPr>
            <a:xfrm flipV="1">
              <a:off x="8422200" y="6062760"/>
              <a:ext cx="237240" cy="179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38"/>
            <p:cNvSpPr/>
            <p:nvPr/>
          </p:nvSpPr>
          <p:spPr>
            <a:xfrm flipV="1">
              <a:off x="8543880" y="579240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Text Box 39"/>
          <p:cNvSpPr/>
          <p:nvPr/>
        </p:nvSpPr>
        <p:spPr>
          <a:xfrm>
            <a:off x="6594480" y="3229560"/>
            <a:ext cx="2019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4"/>
          <p:cNvSpPr/>
          <p:nvPr/>
        </p:nvSpPr>
        <p:spPr>
          <a:xfrm>
            <a:off x="0" y="1270440"/>
            <a:ext cx="861048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traste con corriente continua que sólo circula en un sent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-&gt; flujo de agua en un 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rriente alterna fluye hacia delante y hacia atrás: agua debajo de un puente (isla Teja en Valdivia?), aire al respi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corriente alterna es preferida en el transporte y distribución de energía eléctrica y adecuada para la representación de señales de audio, generar ondas de radio y codificar infor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odelo de agua para un generador de corriente alterna corresponde a un pistón con agua, operado por una rueda por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vástago o biela (ver figur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-&gt; rueda girando a velocidad consta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tabLst>
                <a:tab algn="l" pos="0"/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-&gt; movimiento sinusoidal del pist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185760" y="90072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Corriente al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2" name="Picture 6" descr=""/>
          <p:cNvPicPr/>
          <p:nvPr/>
        </p:nvPicPr>
        <p:blipFill>
          <a:blip r:embed="rId1"/>
          <a:stretch/>
        </p:blipFill>
        <p:spPr>
          <a:xfrm>
            <a:off x="4876920" y="4349880"/>
            <a:ext cx="4357440" cy="1968480"/>
          </a:xfrm>
          <a:prstGeom prst="rect">
            <a:avLst/>
          </a:prstGeom>
          <a:ln w="0">
            <a:noFill/>
          </a:ln>
        </p:spPr>
      </p:pic>
      <p:sp>
        <p:nvSpPr>
          <p:cNvPr id="1173" name="Text Box 7"/>
          <p:cNvSpPr/>
          <p:nvPr/>
        </p:nvSpPr>
        <p:spPr>
          <a:xfrm>
            <a:off x="7564320" y="612504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8"/>
          <p:cNvSpPr/>
          <p:nvPr/>
        </p:nvSpPr>
        <p:spPr>
          <a:xfrm>
            <a:off x="4960800" y="4063320"/>
            <a:ext cx="3927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Modelo de Agua, Generador de corriente al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-76320" y="788040"/>
            <a:ext cx="8918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 posible combinar corriente alterna y continua, como asimismo un número arbitrario de corrientes alternas (distintas frecuencias) (superposició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5"/>
          <p:cNvSpPr/>
          <p:nvPr/>
        </p:nvSpPr>
        <p:spPr>
          <a:xfrm>
            <a:off x="7564320" y="612504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-86760" y="172620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Voltajes al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-42840" y="1994400"/>
            <a:ext cx="88851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Si hacemos circular corriente alterna a través de una resistencia observaremos un voltaje alterno. Los valores instantáneos de este voltaje siguen la ley de Ohm (V=IR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8"/>
          <p:cNvSpPr/>
          <p:nvPr/>
        </p:nvSpPr>
        <p:spPr>
          <a:xfrm>
            <a:off x="7165800" y="3164040"/>
            <a:ext cx="303480" cy="314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9"/>
          <p:cNvSpPr/>
          <p:nvPr/>
        </p:nvSpPr>
        <p:spPr>
          <a:xfrm flipV="1">
            <a:off x="7335720" y="3207960"/>
            <a:ext cx="0" cy="23652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Group 10"/>
          <p:cNvGrpSpPr/>
          <p:nvPr/>
        </p:nvGrpSpPr>
        <p:grpSpPr>
          <a:xfrm>
            <a:off x="7613640" y="2883960"/>
            <a:ext cx="723960" cy="237240"/>
            <a:chOff x="7613640" y="2883960"/>
            <a:chExt cx="723960" cy="237240"/>
          </a:xfrm>
        </p:grpSpPr>
        <p:sp>
          <p:nvSpPr>
            <p:cNvPr id="1184" name="AutoShape 11"/>
            <p:cNvSpPr/>
            <p:nvPr/>
          </p:nvSpPr>
          <p:spPr>
            <a:xfrm rot="5378400">
              <a:off x="7655400" y="2928600"/>
              <a:ext cx="227520" cy="14004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AutoShape 12"/>
            <p:cNvSpPr/>
            <p:nvPr/>
          </p:nvSpPr>
          <p:spPr>
            <a:xfrm rot="5378400">
              <a:off x="7725240" y="2959200"/>
              <a:ext cx="227520" cy="77400"/>
            </a:xfrm>
            <a:prstGeom prst="can">
              <a:avLst>
                <a:gd name="adj" fmla="val 29712"/>
              </a:avLst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AutoShape 13"/>
            <p:cNvSpPr/>
            <p:nvPr/>
          </p:nvSpPr>
          <p:spPr>
            <a:xfrm rot="5378400">
              <a:off x="7777800" y="2962800"/>
              <a:ext cx="227520" cy="7128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AutoShape 14"/>
            <p:cNvSpPr/>
            <p:nvPr/>
          </p:nvSpPr>
          <p:spPr>
            <a:xfrm rot="5378400">
              <a:off x="7827840" y="2959200"/>
              <a:ext cx="227520" cy="77400"/>
            </a:xfrm>
            <a:prstGeom prst="can">
              <a:avLst>
                <a:gd name="adj" fmla="val 2971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AutoShape 15"/>
            <p:cNvSpPr/>
            <p:nvPr/>
          </p:nvSpPr>
          <p:spPr>
            <a:xfrm rot="5378400">
              <a:off x="7875720" y="2962800"/>
              <a:ext cx="227520" cy="7128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AutoShape 16"/>
            <p:cNvSpPr/>
            <p:nvPr/>
          </p:nvSpPr>
          <p:spPr>
            <a:xfrm rot="5378400">
              <a:off x="7925760" y="2959200"/>
              <a:ext cx="227520" cy="77400"/>
            </a:xfrm>
            <a:prstGeom prst="can">
              <a:avLst>
                <a:gd name="adj" fmla="val 29712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AutoShape 17"/>
            <p:cNvSpPr/>
            <p:nvPr/>
          </p:nvSpPr>
          <p:spPr>
            <a:xfrm rot="5378400">
              <a:off x="7968600" y="2971080"/>
              <a:ext cx="227520" cy="7128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AutoShape 18"/>
            <p:cNvSpPr/>
            <p:nvPr/>
          </p:nvSpPr>
          <p:spPr>
            <a:xfrm rot="5378400">
              <a:off x="8028360" y="2967120"/>
              <a:ext cx="227520" cy="77400"/>
            </a:xfrm>
            <a:prstGeom prst="can">
              <a:avLst>
                <a:gd name="adj" fmla="val 29712"/>
              </a:avLst>
            </a:prstGeom>
            <a:solidFill>
              <a:srgbClr val="c7a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AutoShape 19"/>
            <p:cNvSpPr/>
            <p:nvPr/>
          </p:nvSpPr>
          <p:spPr>
            <a:xfrm rot="5378400">
              <a:off x="8091000" y="2951640"/>
              <a:ext cx="227520" cy="110520"/>
            </a:xfrm>
            <a:prstGeom prst="can">
              <a:avLst>
                <a:gd name="adj" fmla="val 29254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0"/>
            <p:cNvSpPr/>
            <p:nvPr/>
          </p:nvSpPr>
          <p:spPr>
            <a:xfrm>
              <a:off x="7613640" y="3006000"/>
              <a:ext cx="8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21"/>
            <p:cNvSpPr/>
            <p:nvPr/>
          </p:nvSpPr>
          <p:spPr>
            <a:xfrm>
              <a:off x="8249760" y="3006000"/>
              <a:ext cx="8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Text Box 22"/>
          <p:cNvSpPr/>
          <p:nvPr/>
        </p:nvSpPr>
        <p:spPr>
          <a:xfrm>
            <a:off x="7423200" y="3153600"/>
            <a:ext cx="1197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23"/>
          <p:cNvSpPr/>
          <p:nvPr/>
        </p:nvSpPr>
        <p:spPr>
          <a:xfrm flipV="1">
            <a:off x="7319880" y="3015720"/>
            <a:ext cx="4680" cy="15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24"/>
          <p:cNvSpPr/>
          <p:nvPr/>
        </p:nvSpPr>
        <p:spPr>
          <a:xfrm flipV="1">
            <a:off x="7318440" y="3503520"/>
            <a:ext cx="6120" cy="15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25"/>
          <p:cNvSpPr/>
          <p:nvPr/>
        </p:nvSpPr>
        <p:spPr>
          <a:xfrm flipH="1">
            <a:off x="7335720" y="301464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26"/>
          <p:cNvSpPr/>
          <p:nvPr/>
        </p:nvSpPr>
        <p:spPr>
          <a:xfrm flipV="1">
            <a:off x="8562960" y="2998800"/>
            <a:ext cx="4680" cy="65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27"/>
          <p:cNvSpPr/>
          <p:nvPr/>
        </p:nvSpPr>
        <p:spPr>
          <a:xfrm flipH="1">
            <a:off x="8285040" y="301320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Line 28"/>
          <p:cNvSpPr/>
          <p:nvPr/>
        </p:nvSpPr>
        <p:spPr>
          <a:xfrm flipH="1">
            <a:off x="7333920" y="363060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Object 29"/>
              <p:cNvSpPr txBox="1"/>
              <p:nvPr/>
            </p:nvSpPr>
            <p:spPr>
              <a:xfrm>
                <a:off x="1022400" y="4500720"/>
                <a:ext cx="1690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03" name="Picture 30" descr=""/>
          <p:cNvPicPr/>
          <p:nvPr/>
        </p:nvPicPr>
        <p:blipFill>
          <a:blip r:embed="rId1"/>
          <a:stretch/>
        </p:blipFill>
        <p:spPr>
          <a:xfrm>
            <a:off x="5164200" y="4348080"/>
            <a:ext cx="3797280" cy="176688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31"/>
          <p:cNvSpPr/>
          <p:nvPr/>
        </p:nvSpPr>
        <p:spPr>
          <a:xfrm>
            <a:off x="7948440" y="5298840"/>
            <a:ext cx="11955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2"/>
          <p:cNvSpPr/>
          <p:nvPr/>
        </p:nvSpPr>
        <p:spPr>
          <a:xfrm rot="16200000">
            <a:off x="4717080" y="511668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3"/>
          <p:cNvSpPr/>
          <p:nvPr/>
        </p:nvSpPr>
        <p:spPr>
          <a:xfrm>
            <a:off x="5249880" y="4114080"/>
            <a:ext cx="392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Voltaje a través de la resistencia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4"/>
          <p:cNvSpPr/>
          <p:nvPr/>
        </p:nvSpPr>
        <p:spPr>
          <a:xfrm>
            <a:off x="0" y="3047040"/>
            <a:ext cx="70502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frecuencia </a:t>
            </a: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 expresada en el número de ciclos completos del voltaje por segundo (unidad utilizada Hertz (hercio) Hz del apellido de Enrique Rodolfo Hertz, físico alemán, 1857-1894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5"/>
          <p:cNvSpPr/>
          <p:nvPr/>
        </p:nvSpPr>
        <p:spPr>
          <a:xfrm>
            <a:off x="0" y="4799520"/>
            <a:ext cx="5257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 frecuencia </a:t>
            </a: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 expresada en el número de ciclos completos del voltaje por segundo (unidad utilizada Hertz (hercio) Hz del apellido de Enrique Rodolfo Hertz, físico alemán, 1857-1894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Object 36"/>
              <p:cNvSpPr txBox="1"/>
              <p:nvPr/>
            </p:nvSpPr>
            <p:spPr>
              <a:xfrm>
                <a:off x="3274920" y="4494240"/>
                <a:ext cx="1005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tretch/>
        </p:blipFill>
        <p:spPr>
          <a:xfrm>
            <a:off x="5338800" y="4881600"/>
            <a:ext cx="3538440" cy="142092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3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120600" y="788040"/>
            <a:ext cx="8372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 posible combinar corriente alterna y continua, como asimismo un número arbitrario de corrientes alternas (distintas frecuencias) (superposició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154080" y="2259720"/>
            <a:ext cx="49989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otencia a través de una resistencia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7507440" y="2044080"/>
            <a:ext cx="1804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Fuente de Voltaje Al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8182080" y="1514520"/>
            <a:ext cx="446040" cy="4428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8169120" y="1594440"/>
            <a:ext cx="4827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0"/>
                </a:solidFill>
                <a:latin typeface="Comic Sans MS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176040" y="3248640"/>
            <a:ext cx="49993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dea de valor efectivo (rm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9" name="Picture 11" descr=""/>
          <p:cNvPicPr/>
          <p:nvPr/>
        </p:nvPicPr>
        <p:blipFill>
          <a:blip r:embed="rId2"/>
          <a:stretch/>
        </p:blipFill>
        <p:spPr>
          <a:xfrm>
            <a:off x="297000" y="4878360"/>
            <a:ext cx="3881160" cy="1424160"/>
          </a:xfrm>
          <a:prstGeom prst="rect">
            <a:avLst/>
          </a:prstGeom>
          <a:ln w="0">
            <a:noFill/>
          </a:ln>
        </p:spPr>
      </p:pic>
      <p:sp>
        <p:nvSpPr>
          <p:cNvPr id="1220" name="Text Box 12"/>
          <p:cNvSpPr/>
          <p:nvPr/>
        </p:nvSpPr>
        <p:spPr>
          <a:xfrm>
            <a:off x="2629080" y="5708160"/>
            <a:ext cx="11952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 rot="16200000">
            <a:off x="-110160" y="559944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r>
              <a:rPr b="0" lang="es-ES" sz="1200" spc="-1" strike="noStrike" baseline="30000">
                <a:solidFill>
                  <a:srgbClr val="00009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Object 14"/>
              <p:cNvSpPr txBox="1"/>
              <p:nvPr/>
            </p:nvSpPr>
            <p:spPr>
              <a:xfrm>
                <a:off x="4132440" y="3178080"/>
                <a:ext cx="12207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3" name="Text Box 15"/>
          <p:cNvSpPr/>
          <p:nvPr/>
        </p:nvSpPr>
        <p:spPr>
          <a:xfrm>
            <a:off x="866880" y="6003720"/>
            <a:ext cx="11952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P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7505640" y="613800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7966080" y="5717880"/>
            <a:ext cx="11955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 rot="16200000">
            <a:off x="4863240" y="548028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2790720" y="613476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277920" y="4553640"/>
            <a:ext cx="392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Valor efectivo (rms) en función de la pot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5214960" y="4608000"/>
            <a:ext cx="39290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Relación entre valor efectivo (rm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y forma de onda 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50120" y="6190560"/>
            <a:ext cx="17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 IEEE, Gross, End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304920" y="870120"/>
            <a:ext cx="8321400" cy="53593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120600" y="943560"/>
            <a:ext cx="83725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s fuentes de voltaje sinusoidales son particularmente importantes debido a su uso extensivo en sistemas eléctricos de potencia. Sin embargo, especialmente en el ámbito de control, sistemas digitales y análisis de señales son utilizadas otras formas de onda alternas o variables (onda cuadrada, triangular, diente de sierra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117360" y="2672280"/>
            <a:ext cx="47498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scripción de la forma de onda (valor pico-pico, rms, valor pico, valor mínimo, valor de polarización, etc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Picture 6" descr=""/>
          <p:cNvPicPr/>
          <p:nvPr/>
        </p:nvPicPr>
        <p:blipFill>
          <a:blip r:embed="rId1"/>
          <a:stretch/>
        </p:blipFill>
        <p:spPr>
          <a:xfrm>
            <a:off x="4964040" y="2668680"/>
            <a:ext cx="3967200" cy="1685880"/>
          </a:xfrm>
          <a:prstGeom prst="rect">
            <a:avLst/>
          </a:prstGeom>
          <a:ln w="0">
            <a:noFill/>
          </a:ln>
        </p:spPr>
      </p:pic>
      <p:sp>
        <p:nvSpPr>
          <p:cNvPr id="1235" name="Text Box 7"/>
          <p:cNvSpPr/>
          <p:nvPr/>
        </p:nvSpPr>
        <p:spPr>
          <a:xfrm>
            <a:off x="7564320" y="269928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6792840" y="4074840"/>
            <a:ext cx="1197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9"/>
          <p:cNvSpPr/>
          <p:nvPr/>
        </p:nvSpPr>
        <p:spPr>
          <a:xfrm rot="16200000">
            <a:off x="4786920" y="329580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0"/>
          <p:cNvSpPr/>
          <p:nvPr/>
        </p:nvSpPr>
        <p:spPr>
          <a:xfrm>
            <a:off x="5018040" y="2453400"/>
            <a:ext cx="3927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Onda Cuadr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Picture 11" descr=""/>
          <p:cNvPicPr/>
          <p:nvPr/>
        </p:nvPicPr>
        <p:blipFill>
          <a:blip r:embed="rId2"/>
          <a:stretch/>
        </p:blipFill>
        <p:spPr>
          <a:xfrm>
            <a:off x="361800" y="4564080"/>
            <a:ext cx="4129200" cy="173052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2" descr=""/>
          <p:cNvPicPr/>
          <p:nvPr/>
        </p:nvPicPr>
        <p:blipFill>
          <a:blip r:embed="rId3"/>
          <a:stretch/>
        </p:blipFill>
        <p:spPr>
          <a:xfrm>
            <a:off x="4964040" y="4624560"/>
            <a:ext cx="3973680" cy="1663560"/>
          </a:xfrm>
          <a:prstGeom prst="rect">
            <a:avLst/>
          </a:prstGeom>
          <a:ln w="0">
            <a:noFill/>
          </a:ln>
        </p:spPr>
      </p:pic>
      <p:sp>
        <p:nvSpPr>
          <p:cNvPr id="1241" name="Freeform 13"/>
          <p:cNvSpPr/>
          <p:nvPr/>
        </p:nvSpPr>
        <p:spPr>
          <a:xfrm>
            <a:off x="1152360" y="5211720"/>
            <a:ext cx="2862360" cy="1041480"/>
          </a:xfrm>
          <a:prstGeom prst="pie">
            <a:avLst/>
          </a:prstGeom>
          <a:noFill/>
          <a:ln w="3240">
            <a:solidFill>
              <a:srgbClr val="0000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14"/>
          <p:cNvSpPr/>
          <p:nvPr/>
        </p:nvSpPr>
        <p:spPr>
          <a:xfrm>
            <a:off x="5715000" y="5262480"/>
            <a:ext cx="2589120" cy="463680"/>
          </a:xfrm>
          <a:prstGeom prst="pie">
            <a:avLst/>
          </a:prstGeom>
          <a:noFill/>
          <a:ln w="3240">
            <a:solidFill>
              <a:srgbClr val="0000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5"/>
          <p:cNvSpPr/>
          <p:nvPr/>
        </p:nvSpPr>
        <p:spPr>
          <a:xfrm>
            <a:off x="6765840" y="6040080"/>
            <a:ext cx="11955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6"/>
          <p:cNvSpPr/>
          <p:nvPr/>
        </p:nvSpPr>
        <p:spPr>
          <a:xfrm>
            <a:off x="2330280" y="6024240"/>
            <a:ext cx="11955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7"/>
          <p:cNvSpPr/>
          <p:nvPr/>
        </p:nvSpPr>
        <p:spPr>
          <a:xfrm rot="16200000">
            <a:off x="4772880" y="511992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8"/>
          <p:cNvSpPr/>
          <p:nvPr/>
        </p:nvSpPr>
        <p:spPr>
          <a:xfrm rot="16200000">
            <a:off x="173880" y="5069160"/>
            <a:ext cx="12952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0"/>
                </a:solidFill>
                <a:latin typeface="Comic Sans MS"/>
              </a:rPr>
              <a:t>Vol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19"/>
          <p:cNvSpPr/>
          <p:nvPr/>
        </p:nvSpPr>
        <p:spPr>
          <a:xfrm>
            <a:off x="523800" y="4331520"/>
            <a:ext cx="392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Onda Trian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0"/>
          <p:cNvSpPr/>
          <p:nvPr/>
        </p:nvSpPr>
        <p:spPr>
          <a:xfrm>
            <a:off x="5048280" y="4393440"/>
            <a:ext cx="392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Onda Diente de Si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"/>
          <p:cNvSpPr/>
          <p:nvPr/>
        </p:nvSpPr>
        <p:spPr>
          <a:xfrm>
            <a:off x="249120" y="1018080"/>
            <a:ext cx="88948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ineación de dos placas conductoras en paralelo separadas por un material aislante --&gt; condens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Imposibilidad de hacer circular corriente continua en forma permanente --&gt; circulación por espacio de tiempo corto o circulación de corriente alter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Se mantiene balance interno de carga entre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Q: cantidad de cargas balanceadas, “almacenadas” en el disposi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 (Farad, Faradio, del apellido de Miguel Faraday, químico y físico inglés, 1791-1867): Capacidad del condensador que queda expres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5"/>
          <p:cNvSpPr/>
          <p:nvPr/>
        </p:nvSpPr>
        <p:spPr>
          <a:xfrm>
            <a:off x="145800" y="900720"/>
            <a:ext cx="18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Condens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6"/>
              <p:cNvSpPr txBox="1"/>
              <p:nvPr/>
            </p:nvSpPr>
            <p:spPr>
              <a:xfrm>
                <a:off x="1400040" y="4095720"/>
                <a:ext cx="984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7"/>
              <p:cNvSpPr txBox="1"/>
              <p:nvPr/>
            </p:nvSpPr>
            <p:spPr>
              <a:xfrm>
                <a:off x="3425760" y="3889440"/>
                <a:ext cx="18734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5" name="AutoShape 8"/>
          <p:cNvSpPr/>
          <p:nvPr/>
        </p:nvSpPr>
        <p:spPr>
          <a:xfrm>
            <a:off x="2720880" y="4087800"/>
            <a:ext cx="546120" cy="347760"/>
          </a:xfrm>
          <a:prstGeom prst="rightArrow">
            <a:avLst>
              <a:gd name="adj1" fmla="val 50000"/>
              <a:gd name="adj2" fmla="val 39260"/>
            </a:avLst>
          </a:prstGeom>
          <a:solidFill>
            <a:srgbClr val="ffffff"/>
          </a:solidFill>
          <a:ln w="3240">
            <a:solidFill>
              <a:srgbClr val="00008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9"/>
          <p:cNvSpPr/>
          <p:nvPr/>
        </p:nvSpPr>
        <p:spPr>
          <a:xfrm>
            <a:off x="1590840" y="5808600"/>
            <a:ext cx="288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10"/>
          <p:cNvSpPr/>
          <p:nvPr/>
        </p:nvSpPr>
        <p:spPr>
          <a:xfrm>
            <a:off x="1592280" y="557388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11"/>
          <p:cNvSpPr/>
          <p:nvPr/>
        </p:nvSpPr>
        <p:spPr>
          <a:xfrm flipH="1">
            <a:off x="1399680" y="5735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12"/>
          <p:cNvSpPr/>
          <p:nvPr/>
        </p:nvSpPr>
        <p:spPr>
          <a:xfrm flipH="1">
            <a:off x="1399680" y="581184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13"/>
          <p:cNvSpPr/>
          <p:nvPr/>
        </p:nvSpPr>
        <p:spPr>
          <a:xfrm>
            <a:off x="2232000" y="581976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14"/>
          <p:cNvSpPr/>
          <p:nvPr/>
        </p:nvSpPr>
        <p:spPr>
          <a:xfrm>
            <a:off x="2230560" y="558468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15"/>
          <p:cNvSpPr/>
          <p:nvPr/>
        </p:nvSpPr>
        <p:spPr>
          <a:xfrm flipH="1">
            <a:off x="2028960" y="5746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Freeform 16"/>
          <p:cNvSpPr/>
          <p:nvPr/>
        </p:nvSpPr>
        <p:spPr>
          <a:xfrm>
            <a:off x="2033640" y="5811840"/>
            <a:ext cx="37944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7"/>
          <p:cNvSpPr/>
          <p:nvPr/>
        </p:nvSpPr>
        <p:spPr>
          <a:xfrm>
            <a:off x="2898720" y="5824440"/>
            <a:ext cx="3240" cy="1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18"/>
          <p:cNvSpPr/>
          <p:nvPr/>
        </p:nvSpPr>
        <p:spPr>
          <a:xfrm>
            <a:off x="2900520" y="558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19"/>
          <p:cNvSpPr/>
          <p:nvPr/>
        </p:nvSpPr>
        <p:spPr>
          <a:xfrm flipH="1">
            <a:off x="2706840" y="57513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20"/>
          <p:cNvSpPr/>
          <p:nvPr/>
        </p:nvSpPr>
        <p:spPr>
          <a:xfrm flipH="1">
            <a:off x="2706840" y="5827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21"/>
          <p:cNvSpPr/>
          <p:nvPr/>
        </p:nvSpPr>
        <p:spPr>
          <a:xfrm flipV="1">
            <a:off x="2747880" y="5557680"/>
            <a:ext cx="322200" cy="40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2"/>
          <p:cNvSpPr/>
          <p:nvPr/>
        </p:nvSpPr>
        <p:spPr>
          <a:xfrm>
            <a:off x="247680" y="4826880"/>
            <a:ext cx="8372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Simbología y Un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Object 23"/>
              <p:cNvSpPr txBox="1"/>
              <p:nvPr/>
            </p:nvSpPr>
            <p:spPr>
              <a:xfrm>
                <a:off x="3924360" y="5499000"/>
                <a:ext cx="890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F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24"/>
              <p:cNvSpPr txBox="1"/>
              <p:nvPr/>
            </p:nvSpPr>
            <p:spPr>
              <a:xfrm>
                <a:off x="6478560" y="3816360"/>
                <a:ext cx="1344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2" name="AutoShape 25"/>
          <p:cNvSpPr/>
          <p:nvPr/>
        </p:nvSpPr>
        <p:spPr>
          <a:xfrm>
            <a:off x="5511960" y="4098960"/>
            <a:ext cx="546120" cy="347760"/>
          </a:xfrm>
          <a:prstGeom prst="rightArrow">
            <a:avLst>
              <a:gd name="adj1" fmla="val 50000"/>
              <a:gd name="adj2" fmla="val 39260"/>
            </a:avLst>
          </a:prstGeom>
          <a:solidFill>
            <a:srgbClr val="ffffff"/>
          </a:solidFill>
          <a:ln w="3240">
            <a:solidFill>
              <a:srgbClr val="00008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237960" y="2153880"/>
            <a:ext cx="83725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odelo de agua supone un pistón movible conectado a través de un resorte en uno de sus extremos. El agua no circula cruzando el pistón. Movimiento de pistón se traduce en cambio de presión --&gt; afecta flujo de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"/>
          <p:cNvSpPr/>
          <p:nvPr/>
        </p:nvSpPr>
        <p:spPr>
          <a:xfrm>
            <a:off x="2502000" y="4436280"/>
            <a:ext cx="3927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Modelo de Agua, Condens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AutoShape 6"/>
          <p:cNvSpPr/>
          <p:nvPr/>
        </p:nvSpPr>
        <p:spPr>
          <a:xfrm rot="16200000">
            <a:off x="4112280" y="2456280"/>
            <a:ext cx="978120" cy="2770200"/>
          </a:xfrm>
          <a:prstGeom prst="can">
            <a:avLst>
              <a:gd name="adj" fmla="val 1248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AutoShape 7"/>
          <p:cNvSpPr/>
          <p:nvPr/>
        </p:nvSpPr>
        <p:spPr>
          <a:xfrm rot="16200000">
            <a:off x="3859920" y="3511800"/>
            <a:ext cx="925560" cy="654120"/>
          </a:xfrm>
          <a:prstGeom prst="can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AutoShape 8"/>
          <p:cNvSpPr/>
          <p:nvPr/>
        </p:nvSpPr>
        <p:spPr>
          <a:xfrm rot="16200000">
            <a:off x="2829600" y="3405960"/>
            <a:ext cx="308160" cy="843120"/>
          </a:xfrm>
          <a:prstGeom prst="can">
            <a:avLst>
              <a:gd name="adj" fmla="val 1248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9"/>
          <p:cNvSpPr/>
          <p:nvPr/>
        </p:nvSpPr>
        <p:spPr>
          <a:xfrm>
            <a:off x="5632560" y="3375000"/>
            <a:ext cx="333360" cy="9525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AutoShape 10"/>
          <p:cNvSpPr/>
          <p:nvPr/>
        </p:nvSpPr>
        <p:spPr>
          <a:xfrm rot="16200000">
            <a:off x="5827680" y="3600000"/>
            <a:ext cx="307800" cy="450720"/>
          </a:xfrm>
          <a:prstGeom prst="can">
            <a:avLst>
              <a:gd name="adj" fmla="val 3571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Freeform 11"/>
          <p:cNvSpPr/>
          <p:nvPr/>
        </p:nvSpPr>
        <p:spPr>
          <a:xfrm>
            <a:off x="5786280" y="3375000"/>
            <a:ext cx="203400" cy="939960"/>
          </a:xfrm>
          <a:prstGeom prst="pie">
            <a:avLst/>
          </a:pr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12"/>
          <p:cNvGrpSpPr/>
          <p:nvPr/>
        </p:nvGrpSpPr>
        <p:grpSpPr>
          <a:xfrm>
            <a:off x="4632840" y="3719520"/>
            <a:ext cx="518760" cy="184320"/>
            <a:chOff x="4632840" y="3719520"/>
            <a:chExt cx="518760" cy="184320"/>
          </a:xfrm>
        </p:grpSpPr>
        <p:sp>
          <p:nvSpPr>
            <p:cNvPr id="1284" name="Freeform 13"/>
            <p:cNvSpPr/>
            <p:nvPr/>
          </p:nvSpPr>
          <p:spPr>
            <a:xfrm flipH="1" rot="5400000">
              <a:off x="5061240" y="3726360"/>
              <a:ext cx="9684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14"/>
            <p:cNvSpPr/>
            <p:nvPr/>
          </p:nvSpPr>
          <p:spPr>
            <a:xfrm flipH="1" flipV="1" rot="5400000">
              <a:off x="4941360" y="376596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" name="Group 15"/>
            <p:cNvGrpSpPr/>
            <p:nvPr/>
          </p:nvGrpSpPr>
          <p:grpSpPr>
            <a:xfrm>
              <a:off x="4868640" y="3721320"/>
              <a:ext cx="165600" cy="177840"/>
              <a:chOff x="4868640" y="3721320"/>
              <a:chExt cx="165600" cy="177840"/>
            </a:xfrm>
          </p:grpSpPr>
          <p:sp>
            <p:nvSpPr>
              <p:cNvPr id="1287" name="Freeform 16"/>
              <p:cNvSpPr/>
              <p:nvPr/>
            </p:nvSpPr>
            <p:spPr>
              <a:xfrm flipH="1" rot="5400000">
                <a:off x="4902480" y="3767400"/>
                <a:ext cx="17784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Freeform 17"/>
              <p:cNvSpPr/>
              <p:nvPr/>
            </p:nvSpPr>
            <p:spPr>
              <a:xfrm flipH="1" flipV="1" rot="5400000">
                <a:off x="4822560" y="3767400"/>
                <a:ext cx="17784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Freeform 18"/>
            <p:cNvSpPr/>
            <p:nvPr/>
          </p:nvSpPr>
          <p:spPr>
            <a:xfrm flipH="1" rot="5400000">
              <a:off x="4784400" y="377100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19"/>
            <p:cNvSpPr/>
            <p:nvPr/>
          </p:nvSpPr>
          <p:spPr>
            <a:xfrm flipH="1" flipV="1" rot="5400000">
              <a:off x="4703400" y="3771000"/>
              <a:ext cx="177840" cy="8460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20"/>
            <p:cNvSpPr/>
            <p:nvPr/>
          </p:nvSpPr>
          <p:spPr>
            <a:xfrm flipH="1" rot="5400000">
              <a:off x="4665600" y="377244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Freeform 21"/>
            <p:cNvSpPr/>
            <p:nvPr/>
          </p:nvSpPr>
          <p:spPr>
            <a:xfrm flipH="1" rot="5400000">
              <a:off x="4625640" y="3732840"/>
              <a:ext cx="9684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Group 22"/>
          <p:cNvGrpSpPr/>
          <p:nvPr/>
        </p:nvGrpSpPr>
        <p:grpSpPr>
          <a:xfrm>
            <a:off x="4986720" y="3703680"/>
            <a:ext cx="518760" cy="183600"/>
            <a:chOff x="4986720" y="3703680"/>
            <a:chExt cx="518760" cy="183600"/>
          </a:xfrm>
        </p:grpSpPr>
        <p:sp>
          <p:nvSpPr>
            <p:cNvPr id="1294" name="Freeform 23"/>
            <p:cNvSpPr/>
            <p:nvPr/>
          </p:nvSpPr>
          <p:spPr>
            <a:xfrm flipH="1" rot="5400000">
              <a:off x="5415120" y="3710160"/>
              <a:ext cx="9648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24"/>
            <p:cNvSpPr/>
            <p:nvPr/>
          </p:nvSpPr>
          <p:spPr>
            <a:xfrm flipH="1" flipV="1" rot="5400000">
              <a:off x="5295240" y="3749400"/>
              <a:ext cx="17748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6" name="Group 25"/>
            <p:cNvGrpSpPr/>
            <p:nvPr/>
          </p:nvGrpSpPr>
          <p:grpSpPr>
            <a:xfrm>
              <a:off x="5222520" y="3705480"/>
              <a:ext cx="165600" cy="177480"/>
              <a:chOff x="5222520" y="3705480"/>
              <a:chExt cx="165600" cy="177480"/>
            </a:xfrm>
          </p:grpSpPr>
          <p:sp>
            <p:nvSpPr>
              <p:cNvPr id="1297" name="Freeform 26"/>
              <p:cNvSpPr/>
              <p:nvPr/>
            </p:nvSpPr>
            <p:spPr>
              <a:xfrm flipH="1" rot="5400000">
                <a:off x="5256360" y="3751200"/>
                <a:ext cx="17748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Freeform 27"/>
              <p:cNvSpPr/>
              <p:nvPr/>
            </p:nvSpPr>
            <p:spPr>
              <a:xfrm flipH="1" flipV="1" rot="5400000">
                <a:off x="5176440" y="3750840"/>
                <a:ext cx="17748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Freeform 28"/>
            <p:cNvSpPr/>
            <p:nvPr/>
          </p:nvSpPr>
          <p:spPr>
            <a:xfrm flipH="1" rot="5400000">
              <a:off x="5138280" y="3754800"/>
              <a:ext cx="17748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29"/>
            <p:cNvSpPr/>
            <p:nvPr/>
          </p:nvSpPr>
          <p:spPr>
            <a:xfrm flipH="1" flipV="1" rot="5400000">
              <a:off x="5057640" y="3754800"/>
              <a:ext cx="177480" cy="8460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30"/>
            <p:cNvSpPr/>
            <p:nvPr/>
          </p:nvSpPr>
          <p:spPr>
            <a:xfrm flipH="1" rot="5400000">
              <a:off x="5019480" y="3755880"/>
              <a:ext cx="17748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31"/>
            <p:cNvSpPr/>
            <p:nvPr/>
          </p:nvSpPr>
          <p:spPr>
            <a:xfrm flipH="1" rot="5400000">
              <a:off x="4979520" y="3716640"/>
              <a:ext cx="9648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Group 32"/>
          <p:cNvGrpSpPr/>
          <p:nvPr/>
        </p:nvGrpSpPr>
        <p:grpSpPr>
          <a:xfrm>
            <a:off x="5351760" y="3701880"/>
            <a:ext cx="518760" cy="184320"/>
            <a:chOff x="5351760" y="3701880"/>
            <a:chExt cx="518760" cy="184320"/>
          </a:xfrm>
        </p:grpSpPr>
        <p:sp>
          <p:nvSpPr>
            <p:cNvPr id="1304" name="Freeform 33"/>
            <p:cNvSpPr/>
            <p:nvPr/>
          </p:nvSpPr>
          <p:spPr>
            <a:xfrm flipH="1" rot="5400000">
              <a:off x="5780160" y="3708720"/>
              <a:ext cx="9684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Freeform 34"/>
            <p:cNvSpPr/>
            <p:nvPr/>
          </p:nvSpPr>
          <p:spPr>
            <a:xfrm flipH="1" flipV="1" rot="5400000">
              <a:off x="5660280" y="374832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6" name="Group 35"/>
            <p:cNvGrpSpPr/>
            <p:nvPr/>
          </p:nvGrpSpPr>
          <p:grpSpPr>
            <a:xfrm>
              <a:off x="5587560" y="3703680"/>
              <a:ext cx="165600" cy="177840"/>
              <a:chOff x="5587560" y="3703680"/>
              <a:chExt cx="165600" cy="177840"/>
            </a:xfrm>
          </p:grpSpPr>
          <p:sp>
            <p:nvSpPr>
              <p:cNvPr id="1307" name="Freeform 36"/>
              <p:cNvSpPr/>
              <p:nvPr/>
            </p:nvSpPr>
            <p:spPr>
              <a:xfrm flipH="1" rot="5400000">
                <a:off x="5621400" y="3749760"/>
                <a:ext cx="17784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Freeform 37"/>
              <p:cNvSpPr/>
              <p:nvPr/>
            </p:nvSpPr>
            <p:spPr>
              <a:xfrm flipH="1" flipV="1" rot="5400000">
                <a:off x="5541480" y="3749760"/>
                <a:ext cx="177840" cy="85680"/>
              </a:xfrm>
              <a:prstGeom prst="pie">
                <a:avLst/>
              </a:pr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Freeform 38"/>
            <p:cNvSpPr/>
            <p:nvPr/>
          </p:nvSpPr>
          <p:spPr>
            <a:xfrm flipH="1" rot="5400000">
              <a:off x="5503320" y="375336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Freeform 39"/>
            <p:cNvSpPr/>
            <p:nvPr/>
          </p:nvSpPr>
          <p:spPr>
            <a:xfrm flipH="1" flipV="1" rot="5400000">
              <a:off x="5422320" y="3753360"/>
              <a:ext cx="177840" cy="8460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Freeform 40"/>
            <p:cNvSpPr/>
            <p:nvPr/>
          </p:nvSpPr>
          <p:spPr>
            <a:xfrm flipH="1" rot="5400000">
              <a:off x="5384520" y="3754800"/>
              <a:ext cx="177840" cy="849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Freeform 41"/>
            <p:cNvSpPr/>
            <p:nvPr/>
          </p:nvSpPr>
          <p:spPr>
            <a:xfrm flipH="1" rot="5400000">
              <a:off x="5344560" y="3715200"/>
              <a:ext cx="96840" cy="83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Text Box 42"/>
          <p:cNvSpPr/>
          <p:nvPr/>
        </p:nvSpPr>
        <p:spPr>
          <a:xfrm>
            <a:off x="282600" y="4879080"/>
            <a:ext cx="83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condensador ideal no disipa energía --&gt; almacena una energía U en forma de campo eléctr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Object 43"/>
              <p:cNvSpPr txBox="1"/>
              <p:nvPr/>
            </p:nvSpPr>
            <p:spPr>
              <a:xfrm>
                <a:off x="3825720" y="5383080"/>
                <a:ext cx="13208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5" name="Text Box 44"/>
          <p:cNvSpPr/>
          <p:nvPr/>
        </p:nvSpPr>
        <p:spPr>
          <a:xfrm>
            <a:off x="295200" y="1062720"/>
            <a:ext cx="8372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álculo de la Capac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6" name="Object 45"/>
              <p:cNvSpPr txBox="1"/>
              <p:nvPr/>
            </p:nvSpPr>
            <p:spPr>
              <a:xfrm>
                <a:off x="3578400" y="1330200"/>
                <a:ext cx="11966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κ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7" name="AutoShape 46"/>
          <p:cNvSpPr/>
          <p:nvPr/>
        </p:nvSpPr>
        <p:spPr>
          <a:xfrm>
            <a:off x="5686560" y="941400"/>
            <a:ext cx="355320" cy="1235160"/>
          </a:xfrm>
          <a:prstGeom prst="cube">
            <a:avLst>
              <a:gd name="adj" fmla="val 8259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AutoShape 47"/>
          <p:cNvSpPr/>
          <p:nvPr/>
        </p:nvSpPr>
        <p:spPr>
          <a:xfrm>
            <a:off x="5873760" y="927000"/>
            <a:ext cx="355680" cy="1235160"/>
          </a:xfrm>
          <a:prstGeom prst="cube">
            <a:avLst>
              <a:gd name="adj" fmla="val 8259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48"/>
          <p:cNvSpPr/>
          <p:nvPr/>
        </p:nvSpPr>
        <p:spPr>
          <a:xfrm>
            <a:off x="6091200" y="1555920"/>
            <a:ext cx="60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49"/>
          <p:cNvSpPr/>
          <p:nvPr/>
        </p:nvSpPr>
        <p:spPr>
          <a:xfrm>
            <a:off x="5235480" y="1566720"/>
            <a:ext cx="4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50"/>
          <p:cNvSpPr/>
          <p:nvPr/>
        </p:nvSpPr>
        <p:spPr>
          <a:xfrm>
            <a:off x="7400880" y="3854520"/>
            <a:ext cx="3240" cy="15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51"/>
          <p:cNvSpPr/>
          <p:nvPr/>
        </p:nvSpPr>
        <p:spPr>
          <a:xfrm>
            <a:off x="7402680" y="361944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52"/>
          <p:cNvSpPr/>
          <p:nvPr/>
        </p:nvSpPr>
        <p:spPr>
          <a:xfrm flipH="1">
            <a:off x="7210440" y="37814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53"/>
          <p:cNvSpPr/>
          <p:nvPr/>
        </p:nvSpPr>
        <p:spPr>
          <a:xfrm flipH="1">
            <a:off x="7210440" y="3857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4"/>
          <p:cNvSpPr/>
          <p:nvPr/>
        </p:nvSpPr>
        <p:spPr>
          <a:xfrm>
            <a:off x="7370640" y="3583800"/>
            <a:ext cx="258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458640" y="275400"/>
            <a:ext cx="873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rriente Alterna y Componentes (V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"/>
          <p:cNvSpPr/>
          <p:nvPr/>
        </p:nvSpPr>
        <p:spPr>
          <a:xfrm>
            <a:off x="236520" y="1148400"/>
            <a:ext cx="8372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576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ircuito que combinan capacidades y resistencias son usados frecuentemente en electricidad --&gt; filtros para separar señales en función de frecuencia, Circuitos de respuesta rápida o lenta, CA a 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Picture 5" descr=""/>
          <p:cNvPicPr/>
          <p:nvPr/>
        </p:nvPicPr>
        <p:blipFill>
          <a:blip r:embed="rId1"/>
          <a:stretch/>
        </p:blipFill>
        <p:spPr>
          <a:xfrm>
            <a:off x="357120" y="2127240"/>
            <a:ext cx="3629160" cy="1630440"/>
          </a:xfrm>
          <a:prstGeom prst="rect">
            <a:avLst/>
          </a:prstGeom>
          <a:ln w="0">
            <a:noFill/>
          </a:ln>
        </p:spPr>
      </p:pic>
      <p:sp>
        <p:nvSpPr>
          <p:cNvPr id="1330" name="Text Box 6"/>
          <p:cNvSpPr/>
          <p:nvPr/>
        </p:nvSpPr>
        <p:spPr>
          <a:xfrm>
            <a:off x="213480" y="900720"/>
            <a:ext cx="157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Circuito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7"/>
          <p:cNvSpPr/>
          <p:nvPr/>
        </p:nvSpPr>
        <p:spPr>
          <a:xfrm>
            <a:off x="719280" y="6171480"/>
            <a:ext cx="392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Modelo de Agua, Circuito 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8"/>
          <p:cNvSpPr/>
          <p:nvPr/>
        </p:nvSpPr>
        <p:spPr>
          <a:xfrm>
            <a:off x="5214960" y="6144480"/>
            <a:ext cx="392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0"/>
                </a:solidFill>
                <a:latin typeface="Comic Sans MS"/>
              </a:rPr>
              <a:t>Comportamiento de Circuito 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9"/>
          <p:cNvSpPr/>
          <p:nvPr/>
        </p:nvSpPr>
        <p:spPr>
          <a:xfrm>
            <a:off x="0" y="6199920"/>
            <a:ext cx="15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Comic Sans MS"/>
              </a:rPr>
              <a:t>Ref: White, Do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Picture 10" descr=""/>
          <p:cNvPicPr/>
          <p:nvPr/>
        </p:nvPicPr>
        <p:blipFill>
          <a:blip r:embed="rId2"/>
          <a:stretch/>
        </p:blipFill>
        <p:spPr>
          <a:xfrm>
            <a:off x="569880" y="4178160"/>
            <a:ext cx="3230640" cy="16383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1" descr=""/>
          <p:cNvPicPr/>
          <p:nvPr/>
        </p:nvPicPr>
        <p:blipFill>
          <a:blip r:embed="rId3"/>
          <a:stretch/>
        </p:blipFill>
        <p:spPr>
          <a:xfrm>
            <a:off x="5288040" y="1905120"/>
            <a:ext cx="3184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1 Marcador de fecha"/>
          <p:cNvSpPr/>
          <p:nvPr/>
        </p:nvSpPr>
        <p:spPr>
          <a:xfrm>
            <a:off x="685800" y="6477120"/>
            <a:ext cx="35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2"/>
          <p:cNvSpPr/>
          <p:nvPr/>
        </p:nvSpPr>
        <p:spPr>
          <a:xfrm>
            <a:off x="628560" y="209160"/>
            <a:ext cx="7737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Efectos fisiológicos de la electr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"/>
          <p:cNvSpPr/>
          <p:nvPr/>
        </p:nvSpPr>
        <p:spPr>
          <a:xfrm>
            <a:off x="295200" y="893880"/>
            <a:ext cx="846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Dendencia: nivel de corriente circulante, nivel de tensión, duración, impedancia del cuerpo en el camino de circulación (muy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"/>
          <p:cNvSpPr/>
          <p:nvPr/>
        </p:nvSpPr>
        <p:spPr>
          <a:xfrm>
            <a:off x="303120" y="1672920"/>
            <a:ext cx="8688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mpedancia media del cuerpo humano: 1000 Ohm --&gt; 220 V --&gt; 20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0" name="Object 6"/>
          <p:cNvGraphicFramePr/>
          <p:nvPr/>
        </p:nvGraphicFramePr>
        <p:xfrm>
          <a:off x="58680" y="2228760"/>
          <a:ext cx="854568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228760"/>
                    <a:ext cx="85456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2" name="Object 7"/>
          <p:cNvGraphicFramePr/>
          <p:nvPr/>
        </p:nvGraphicFramePr>
        <p:xfrm>
          <a:off x="73080" y="4578480"/>
          <a:ext cx="8545320" cy="171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4578480"/>
                    <a:ext cx="85453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Text Box 8"/>
          <p:cNvSpPr/>
          <p:nvPr/>
        </p:nvSpPr>
        <p:spPr>
          <a:xfrm>
            <a:off x="8153280" y="6262200"/>
            <a:ext cx="119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Comic Sans MS"/>
              </a:rPr>
              <a:t> UN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7350120" y="6190560"/>
            <a:ext cx="17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 IEEE, Gross, End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163440" y="1136520"/>
            <a:ext cx="8801280" cy="4846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7350120" y="6190560"/>
            <a:ext cx="17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 IEEE, Gross, End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314280" y="1422360"/>
            <a:ext cx="8454960" cy="44229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7402680" y="6209640"/>
            <a:ext cx="17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 IEEE, Gross, End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87280" y="1055520"/>
            <a:ext cx="8272440" cy="5142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7402680" y="6209640"/>
            <a:ext cx="17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Fuente : IEEE, Gross, End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3" descr=""/>
          <p:cNvPicPr/>
          <p:nvPr/>
        </p:nvPicPr>
        <p:blipFill>
          <a:blip r:embed="rId1"/>
          <a:stretch/>
        </p:blipFill>
        <p:spPr>
          <a:xfrm>
            <a:off x="431640" y="1173240"/>
            <a:ext cx="8363160" cy="48927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407880" y="1500120"/>
            <a:ext cx="818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os primeros interruptores de potencia, para niveles de voltaje alto y corrientes bajas,  se desarrollaron a principios de este siglo (1902). Estos sistemas se basaban en tubos al vacío, así como tubos de descarga de gases (gases nobles y vapor de mercurio como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Thyratron, Excitron, Ignitron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 para niveles de corriente mayores. En 1914 se desarrollaron interruptores controlables y en 1922 se establecieron las bases de los circuitos utilizados en la actu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677880" y="3753000"/>
            <a:ext cx="7704000" cy="210960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2109600"/>
              <a:gd name="textAreaBottom" fmla="*/ 2109960 h 21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64" y="0"/>
                </a:lnTo>
                <a:lnTo>
                  <a:pt x="21600" y="10800"/>
                </a:lnTo>
                <a:lnTo>
                  <a:pt x="21164" y="21600"/>
                </a:lnTo>
                <a:lnTo>
                  <a:pt x="0" y="21600"/>
                </a:lnTo>
                <a:lnTo>
                  <a:pt x="436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"/>
          <p:cNvGrpSpPr/>
          <p:nvPr/>
        </p:nvGrpSpPr>
        <p:grpSpPr>
          <a:xfrm>
            <a:off x="1025640" y="5278320"/>
            <a:ext cx="7117560" cy="144360"/>
            <a:chOff x="1025640" y="5278320"/>
            <a:chExt cx="7117560" cy="144360"/>
          </a:xfrm>
        </p:grpSpPr>
        <p:sp>
          <p:nvSpPr>
            <p:cNvPr id="594" name="Line 5"/>
            <p:cNvSpPr/>
            <p:nvPr/>
          </p:nvSpPr>
          <p:spPr>
            <a:xfrm>
              <a:off x="1025640" y="5348160"/>
              <a:ext cx="69984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6"/>
            <p:cNvSpPr/>
            <p:nvPr/>
          </p:nvSpPr>
          <p:spPr>
            <a:xfrm>
              <a:off x="8015400" y="5278320"/>
              <a:ext cx="1278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Line 7"/>
          <p:cNvSpPr/>
          <p:nvPr/>
        </p:nvSpPr>
        <p:spPr>
          <a:xfrm>
            <a:off x="1020600" y="5310360"/>
            <a:ext cx="5040" cy="8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7754760" y="5315040"/>
            <a:ext cx="32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846000" y="5391000"/>
            <a:ext cx="544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971640" y="545940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9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7430040" y="54579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´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947880" y="3908520"/>
            <a:ext cx="604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876960" y="3927600"/>
            <a:ext cx="808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Arc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Mercu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4"/>
          <p:cNvSpPr/>
          <p:nvPr/>
        </p:nvSpPr>
        <p:spPr>
          <a:xfrm>
            <a:off x="2295360" y="5318280"/>
            <a:ext cx="0" cy="8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3616200" y="5340240"/>
            <a:ext cx="180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6256440" y="5318280"/>
            <a:ext cx="1440" cy="8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4915080" y="5327640"/>
            <a:ext cx="288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520040" y="5327640"/>
            <a:ext cx="32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6029280" y="4627440"/>
            <a:ext cx="1290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7724880" y="5451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946800" y="4503600"/>
            <a:ext cx="53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ec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u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2189520" y="545004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´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3507120" y="54403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´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813920" y="54435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´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6164640" y="544680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´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6"/>
          <p:cNvSpPr/>
          <p:nvPr/>
        </p:nvSpPr>
        <p:spPr>
          <a:xfrm>
            <a:off x="2192400" y="4649760"/>
            <a:ext cx="0" cy="642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7"/>
          <p:cNvSpPr/>
          <p:nvPr/>
        </p:nvSpPr>
        <p:spPr>
          <a:xfrm>
            <a:off x="1652400" y="3916440"/>
            <a:ext cx="109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principi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semic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d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8"/>
          <p:cNvSpPr/>
          <p:nvPr/>
        </p:nvSpPr>
        <p:spPr>
          <a:xfrm>
            <a:off x="3405240" y="4640400"/>
            <a:ext cx="0" cy="6429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2976480" y="3932280"/>
            <a:ext cx="884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inv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ran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0"/>
          <p:cNvSpPr/>
          <p:nvPr/>
        </p:nvSpPr>
        <p:spPr>
          <a:xfrm>
            <a:off x="1987920" y="498492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1"/>
          <p:cNvSpPr/>
          <p:nvPr/>
        </p:nvSpPr>
        <p:spPr>
          <a:xfrm>
            <a:off x="3177000" y="497664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2"/>
          <p:cNvSpPr/>
          <p:nvPr/>
        </p:nvSpPr>
        <p:spPr>
          <a:xfrm>
            <a:off x="4243320" y="43830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3"/>
          <p:cNvSpPr/>
          <p:nvPr/>
        </p:nvSpPr>
        <p:spPr>
          <a:xfrm>
            <a:off x="3997440" y="3935520"/>
            <a:ext cx="52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Di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4"/>
          <p:cNvSpPr/>
          <p:nvPr/>
        </p:nvSpPr>
        <p:spPr>
          <a:xfrm>
            <a:off x="4015080" y="49672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35"/>
          <p:cNvSpPr/>
          <p:nvPr/>
        </p:nvSpPr>
        <p:spPr>
          <a:xfrm>
            <a:off x="4624560" y="4794120"/>
            <a:ext cx="0" cy="493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6"/>
          <p:cNvSpPr/>
          <p:nvPr/>
        </p:nvSpPr>
        <p:spPr>
          <a:xfrm>
            <a:off x="4305600" y="4361040"/>
            <a:ext cx="65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ir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S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7"/>
          <p:cNvSpPr/>
          <p:nvPr/>
        </p:nvSpPr>
        <p:spPr>
          <a:xfrm>
            <a:off x="4395960" y="4981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38"/>
          <p:cNvSpPr/>
          <p:nvPr/>
        </p:nvSpPr>
        <p:spPr>
          <a:xfrm>
            <a:off x="5046840" y="439740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9"/>
          <p:cNvSpPr/>
          <p:nvPr/>
        </p:nvSpPr>
        <p:spPr>
          <a:xfrm>
            <a:off x="4739040" y="3949560"/>
            <a:ext cx="65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ir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G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40"/>
          <p:cNvSpPr/>
          <p:nvPr/>
        </p:nvSpPr>
        <p:spPr>
          <a:xfrm>
            <a:off x="4818240" y="4981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41"/>
          <p:cNvSpPr/>
          <p:nvPr/>
        </p:nvSpPr>
        <p:spPr>
          <a:xfrm>
            <a:off x="5362560" y="4610160"/>
            <a:ext cx="0" cy="67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2"/>
          <p:cNvSpPr/>
          <p:nvPr/>
        </p:nvSpPr>
        <p:spPr>
          <a:xfrm>
            <a:off x="5148360" y="4362480"/>
            <a:ext cx="4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ri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3"/>
          <p:cNvSpPr/>
          <p:nvPr/>
        </p:nvSpPr>
        <p:spPr>
          <a:xfrm>
            <a:off x="5134320" y="498312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44"/>
          <p:cNvSpPr/>
          <p:nvPr/>
        </p:nvSpPr>
        <p:spPr>
          <a:xfrm>
            <a:off x="5536080" y="4467240"/>
            <a:ext cx="915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ecn. e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Plást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microest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45"/>
          <p:cNvSpPr/>
          <p:nvPr/>
        </p:nvSpPr>
        <p:spPr>
          <a:xfrm>
            <a:off x="6735600" y="439884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6"/>
          <p:cNvSpPr/>
          <p:nvPr/>
        </p:nvSpPr>
        <p:spPr>
          <a:xfrm>
            <a:off x="6393960" y="3951360"/>
            <a:ext cx="718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ir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Ind. 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7"/>
          <p:cNvSpPr/>
          <p:nvPr/>
        </p:nvSpPr>
        <p:spPr>
          <a:xfrm>
            <a:off x="6507360" y="498312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8"/>
          <p:cNvSpPr/>
          <p:nvPr/>
        </p:nvSpPr>
        <p:spPr>
          <a:xfrm>
            <a:off x="7051680" y="4846680"/>
            <a:ext cx="0" cy="444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9"/>
          <p:cNvSpPr/>
          <p:nvPr/>
        </p:nvSpPr>
        <p:spPr>
          <a:xfrm>
            <a:off x="6866640" y="4503600"/>
            <a:ext cx="4075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F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823440" y="498492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51"/>
          <p:cNvSpPr/>
          <p:nvPr/>
        </p:nvSpPr>
        <p:spPr>
          <a:xfrm>
            <a:off x="7353360" y="4400640"/>
            <a:ext cx="0" cy="89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52"/>
          <p:cNvSpPr/>
          <p:nvPr/>
        </p:nvSpPr>
        <p:spPr>
          <a:xfrm>
            <a:off x="7126560" y="3952800"/>
            <a:ext cx="72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Tir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disp. lu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3"/>
          <p:cNvSpPr/>
          <p:nvPr/>
        </p:nvSpPr>
        <p:spPr>
          <a:xfrm>
            <a:off x="7125120" y="498492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4"/>
          <p:cNvSpPr/>
          <p:nvPr/>
        </p:nvSpPr>
        <p:spPr>
          <a:xfrm>
            <a:off x="7750080" y="4848120"/>
            <a:ext cx="0" cy="444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5"/>
          <p:cNvSpPr/>
          <p:nvPr/>
        </p:nvSpPr>
        <p:spPr>
          <a:xfrm>
            <a:off x="7569360" y="458136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mic Sans MS"/>
              </a:rPr>
              <a:t>G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6"/>
          <p:cNvSpPr/>
          <p:nvPr/>
        </p:nvSpPr>
        <p:spPr>
          <a:xfrm>
            <a:off x="7521840" y="498636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´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7"/>
          <p:cNvSpPr/>
          <p:nvPr/>
        </p:nvSpPr>
        <p:spPr>
          <a:xfrm>
            <a:off x="172440" y="959400"/>
            <a:ext cx="52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a"/>
                </a:solidFill>
                <a:latin typeface="Comic Sans MS"/>
              </a:rPr>
              <a:t>Desarrollo de la 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58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Reseña Histórica (V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79280" y="976680"/>
            <a:ext cx="57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Cuál es la finalidad de los modelos de agu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Introducción a los Modelos de Agua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500040" y="1451160"/>
            <a:ext cx="8318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objetivo de este tipo de modelos es el de ayudar al estudiante a desarrollar un primer entendimiento físico e intuitivo de conceptos de la electrónica, tales como: corriente continua, corriente alterna, elementos pasivos, elementos activos, circuitos lógicos,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introducen leyes básicas en electricidad, describiendo paralelamente un modelo hidráulico equivalente con el fin de facilitar su compre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4738680" y="4629240"/>
            <a:ext cx="1235160" cy="8478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333440" y="4591080"/>
            <a:ext cx="136440" cy="885960"/>
          </a:xfrm>
          <a:prstGeom prst="can">
            <a:avLst>
              <a:gd name="adj" fmla="val 130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2033640" y="4503600"/>
            <a:ext cx="514440" cy="10051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9"/>
          <p:cNvSpPr/>
          <p:nvPr/>
        </p:nvSpPr>
        <p:spPr>
          <a:xfrm>
            <a:off x="6581880" y="4618080"/>
            <a:ext cx="1295280" cy="873000"/>
          </a:xfrm>
          <a:prstGeom prst="flowChartAlternateProcess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5495760" y="4630680"/>
            <a:ext cx="1828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1"/>
          <p:cNvSpPr/>
          <p:nvPr/>
        </p:nvSpPr>
        <p:spPr>
          <a:xfrm>
            <a:off x="6710400" y="4745160"/>
            <a:ext cx="1027080" cy="620640"/>
          </a:xfrm>
          <a:prstGeom prst="flowChartAlternateProcess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2"/>
          <p:cNvSpPr/>
          <p:nvPr/>
        </p:nvSpPr>
        <p:spPr>
          <a:xfrm>
            <a:off x="7667640" y="4935600"/>
            <a:ext cx="270000" cy="317520"/>
          </a:xfrm>
          <a:prstGeom prst="downArrow">
            <a:avLst>
              <a:gd name="adj1" fmla="val 41306"/>
              <a:gd name="adj2" fmla="val 4939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717920" y="5787000"/>
            <a:ext cx="61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0"/>
                </a:solidFill>
                <a:latin typeface="Comic Sans MS"/>
              </a:rPr>
              <a:t>Analogía de modelo eléctrico con modelo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28T20:20:52Z</cp:lastPrinted>
  <dcterms:modified xsi:type="dcterms:W3CDTF">2008-09-03T01:30:04Z</dcterms:modified>
  <cp:revision>39</cp:revision>
  <dc:subject/>
  <dc:title>PowerPoint Presentation</dc:title>
</cp:coreProperties>
</file>