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dt" idx="13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14"/>
          </p:nvPr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 type="sldNum" idx="15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A8B8C5B-DCD5-4D95-84C0-38AD28BD8E67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91C357C-B088-4436-9316-574BFC1F0856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5360" cy="347652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6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dt" idx="10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dt" idx="1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dt" idx="12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2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dt" idx="3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dt" idx="4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dt" idx="5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dt" idx="6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dt" idx="7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dt" idx="8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dt" idx="9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6"/>
          <p:cNvSpPr/>
          <p:nvPr/>
        </p:nvSpPr>
        <p:spPr>
          <a:xfrm>
            <a:off x="805680" y="2513160"/>
            <a:ext cx="32148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2.1. Definici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2.2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ódigo de Etica IE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2.3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studio de Ca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2289960" y="1289880"/>
            <a:ext cx="391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0"/>
                </a:solidFill>
                <a:uFillTx/>
                <a:latin typeface="Comic Sans MS"/>
              </a:rPr>
              <a:t>CONTENIDO</a:t>
            </a:r>
            <a:r>
              <a:rPr b="1" lang="es-ES_tradnl" sz="2400" spc="-1" strike="noStrike" u="sng">
                <a:solidFill>
                  <a:srgbClr val="000090"/>
                </a:solidFill>
                <a:uFillTx/>
                <a:latin typeface="Comic Sans MS"/>
              </a:rPr>
              <a:t> CAPITU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0"/>
                </a:solidFill>
                <a:uFillTx/>
                <a:latin typeface="Comic Sans MS"/>
              </a:rPr>
              <a:t>Etica en Ingenie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6095880" y="6019920"/>
            <a:ext cx="3048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Ref: IEEE, White-Doering,Mitcham-García de la Huer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9"/>
          <p:cNvSpPr/>
          <p:nvPr/>
        </p:nvSpPr>
        <p:spPr>
          <a:xfrm>
            <a:off x="380880" y="4644720"/>
            <a:ext cx="7925040" cy="8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Intelectual Orgánico, Universal</a:t>
            </a: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 Intelectual Especí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Ingeniería </a:t>
            </a:r>
            <a:r>
              <a:rPr b="0" lang="es-ES_tradnl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 práctica transformadora del mundo </a:t>
            </a:r>
            <a:r>
              <a:rPr b="0" lang="es-ES_tradnl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3"/>
          <p:cNvSpPr/>
          <p:nvPr/>
        </p:nvSpPr>
        <p:spPr>
          <a:xfrm>
            <a:off x="542880" y="259560"/>
            <a:ext cx="77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2.1 Defin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8"/>
          <p:cNvSpPr/>
          <p:nvPr/>
        </p:nvSpPr>
        <p:spPr>
          <a:xfrm>
            <a:off x="1295280" y="4114440"/>
            <a:ext cx="573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Teoría moral aplicada al ejercicio profesional de las ingenierí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9"/>
          <p:cNvSpPr/>
          <p:nvPr/>
        </p:nvSpPr>
        <p:spPr>
          <a:xfrm>
            <a:off x="282240" y="97668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Qué es la </a:t>
            </a: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é</a:t>
            </a: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tic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10"/>
          <p:cNvSpPr/>
          <p:nvPr/>
        </p:nvSpPr>
        <p:spPr>
          <a:xfrm>
            <a:off x="1523880" y="4952880"/>
            <a:ext cx="573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Reglas o estándares que rigen a los miembros de una prof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12"/>
          <p:cNvSpPr/>
          <p:nvPr/>
        </p:nvSpPr>
        <p:spPr>
          <a:xfrm>
            <a:off x="1295280" y="2361960"/>
            <a:ext cx="573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Parte de la filosofía que trata de la moral y de las obligaciones del homb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13"/>
          <p:cNvSpPr/>
          <p:nvPr/>
        </p:nvSpPr>
        <p:spPr>
          <a:xfrm>
            <a:off x="8001000" y="1143000"/>
            <a:ext cx="533520" cy="4724280"/>
          </a:xfrm>
          <a:prstGeom prst="downArrow">
            <a:avLst>
              <a:gd name="adj1" fmla="val 39880"/>
              <a:gd name="adj2" fmla="val 57721"/>
            </a:avLst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14"/>
          <p:cNvSpPr/>
          <p:nvPr/>
        </p:nvSpPr>
        <p:spPr>
          <a:xfrm>
            <a:off x="7565760" y="914040"/>
            <a:ext cx="13251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Comic Sans MS"/>
              </a:rPr>
              <a:t>Concep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5"/>
          <p:cNvSpPr/>
          <p:nvPr/>
        </p:nvSpPr>
        <p:spPr>
          <a:xfrm>
            <a:off x="7699320" y="5820120"/>
            <a:ext cx="9684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Comic Sans MS"/>
              </a:rPr>
              <a:t>Prác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16"/>
          <p:cNvSpPr/>
          <p:nvPr/>
        </p:nvSpPr>
        <p:spPr>
          <a:xfrm>
            <a:off x="1066680" y="1447560"/>
            <a:ext cx="573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Comic Sans MS"/>
              </a:rPr>
              <a:t>Estudio de la naturaleza y significado de la actividad hum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7"/>
          <p:cNvSpPr/>
          <p:nvPr/>
        </p:nvSpPr>
        <p:spPr>
          <a:xfrm>
            <a:off x="304920" y="3200040"/>
            <a:ext cx="7772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Estudio de la naturaleza general de la moral y de las decisiones morales específicas de los individuos en su relación con o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542880" y="259560"/>
            <a:ext cx="77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2.1 Defin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257040" y="97668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Necesidad de la</a:t>
            </a: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é</a:t>
            </a: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tic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838080" y="1659240"/>
            <a:ext cx="754380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Por qué son necesarios ante todo los códigos moral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Qué función cumpl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cc3300"/>
                </a:solidFill>
                <a:latin typeface="Comic Sans MS"/>
              </a:rPr>
              <a:t>Seres humanos se enfrentan a cursos de acción alterna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Respeto debido a una orden al interior de un grupo jerárquico (lealtad corporativa, secreto, obedienci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vs.</a:t>
            </a: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Reglas o estándares que rigen a los miembros de una prof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00cc99"/>
                </a:solidFill>
                <a:latin typeface="Comic Sans MS"/>
              </a:rPr>
              <a:t>La ética surge de la libertad hum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1026"/>
          <p:cNvSpPr/>
          <p:nvPr/>
        </p:nvSpPr>
        <p:spPr>
          <a:xfrm>
            <a:off x="542880" y="259560"/>
            <a:ext cx="77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2.2 Código de Etica IEEE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1028"/>
          <p:cNvSpPr/>
          <p:nvPr/>
        </p:nvSpPr>
        <p:spPr>
          <a:xfrm>
            <a:off x="304920" y="970200"/>
            <a:ext cx="8458200" cy="52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Nosotros, los miembros del IEEE, habiendo tomado conciencia del importante efecto que nuestra tecnología tiene sobre la calidad de vida en el mundo entero, y en aceptación de una obligación personal para con nuestra profesión, con los miembros de nuestra institución y con la comunidad a la cual servimos, por medio de este documento nos comprometemos a observar la conducta ética y profesional más elevada, y acordamo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Aceptar la responsabilidad de tomar decisiones de ingeniería que guarden coherencia con la seguridad, la salud y el bienestar del público, así como a revelar los factores que puedan poner en peligro al público o al medio ambient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evitar conflictos de intereses reales o percibidos, cuando sea posible, y a ponerlos en conocimiento de las partes afectadas cuando estos exista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ser honestos y realistas al presentar reclamos o estimados basados en la información disponibl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Rechazar los sobornos en todas sus forma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Mejorar la comprensión de la tecnología, su aplicación adecuada y sus probables consecuencia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542880" y="259560"/>
            <a:ext cx="77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2.2 Código de Etica IEEE (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380880" y="1499760"/>
            <a:ext cx="8382240" cy="40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. Mantener y mejorar nuestra competencia técnica y desempeñar tareas tecnológicas para otros solamente si estamos adecuadamente calificados por una capacitación o por la experiencia, o luego de haber hecho conocer plenamente nuestras limitaciones al respect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7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Buscar, aceptar y ofrecer una crítica honesta del trabajo técnico; aceptar y corregir los errores; y a dar a otros los créditos correspondientes por sus contribucion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8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Tratar con imparcialidad a todas las personas sin importar su raza, religión, género, discapacidad, edad o nacionalidad de orige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. Evitar hacer daño a otros, a su propiedad, su reputación o empleo por acciones falsas o maliciosa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10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Ayudar a los colegas y compañeros de trabajo en su desarrollo profesional y a apoyarlos en el cumplimiento de este código de étic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3:57:06Z</dcterms:created>
  <dc:creator>Patricio Parada Salgado</dc:creator>
  <dc:description/>
  <dc:language>en-US</dc:language>
  <cp:lastModifiedBy>rpalma</cp:lastModifiedBy>
  <cp:lastPrinted>2001-08-14T20:08:28Z</cp:lastPrinted>
  <dcterms:modified xsi:type="dcterms:W3CDTF">2009-11-10T21:24:17Z</dcterms:modified>
  <cp:revision>31</cp:revision>
  <dc:subject/>
  <dc:title>PowerPoint Presentation</dc:title>
</cp:coreProperties>
</file>