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13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15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8E56FC-2503-4635-82CC-56581179057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F206A2-5900-4E75-A4B5-7059F198897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6"/>
          <p:cNvSpPr/>
          <p:nvPr/>
        </p:nvSpPr>
        <p:spPr>
          <a:xfrm>
            <a:off x="805680" y="2513160"/>
            <a:ext cx="3214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2.1. Defin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ódigo de Etica 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udio de 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289960" y="1289880"/>
            <a:ext cx="391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 CAPITU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Etica e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095880" y="60199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Ref: IEEE, White-Doering,Mitcham-García de la Huer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380880" y="4644720"/>
            <a:ext cx="79250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Intelectual Orgánico, Universal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Intelectual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Ingeniería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práctica transformadora del mundo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295280" y="411444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eoría moral aplicada al ejercicio profesional de las ingeni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282240" y="97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la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523880" y="495288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1295280" y="23619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arte de la filosofía que trata de la moral y de las obligaciones del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8001000" y="1143000"/>
            <a:ext cx="533520" cy="4724280"/>
          </a:xfrm>
          <a:prstGeom prst="downArrow">
            <a:avLst>
              <a:gd name="adj1" fmla="val 39880"/>
              <a:gd name="adj2" fmla="val 57721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7565760" y="914040"/>
            <a:ext cx="132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7699320" y="5820120"/>
            <a:ext cx="96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1066680" y="14475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omic Sans MS"/>
              </a:rPr>
              <a:t>Estudio de la naturaleza y significado de la activid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304920" y="3200040"/>
            <a:ext cx="777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Estudio de la naturaleza general de la moral y de las decisiones morales específicas de los individuos en su relación con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57040" y="9766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Necesidad de la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838080" y="1659240"/>
            <a:ext cx="7543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or qué son necesarios ante todo los códigos mor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función cumpl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Comic Sans MS"/>
              </a:rPr>
              <a:t>Seres humanos se enfrentan a cursos de acción altern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speto debido a una orden al interior de un grupo jerárquico (lealtad corporativa, secreto, obedienc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s.</a:t>
            </a: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cc99"/>
                </a:solidFill>
                <a:latin typeface="Comic Sans MS"/>
              </a:rPr>
              <a:t>La ética surge de la libert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26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304920" y="970200"/>
            <a:ext cx="8458200" cy="52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osotros, los miembros del IEEE, habiendo tomado conciencia del importante efecto que nuestra tecnología tiene sobre la calidad de vida en el mundo entero, y en aceptación de una obligación personal para con nuestra profesión, con los miembros de nuestra institución y con la comunidad a la cual servimos, por medio de este documento nos comprometemos a observar la conducta ética y profesional más elevada, y acorda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ceptar la responsabilidad de tomar decisiones de ingeniería que guarden coherencia con la seguridad, la salud y el bienestar del público, así como a revelar los factores que puedan poner en peligro al público o al medio amb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vitar conflictos de intereses reales o percibidos, cuando sea posible, y a ponerlos en conocimiento de las partes afectadas cuando estos exis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ser honestos y realistas al presentar reclamos o estimados basados en la información disponi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Rechazar los sobornos en todas sus form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Mejorar la comprensión de la tecnología, su aplicación adecuada y sus probables consecuenci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80880" y="1499760"/>
            <a:ext cx="838224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Mantener y mejorar nuestra competencia técnica y desempeñar tareas tecnológicas para otros solamente si estamos adecuadamente calificados por una capacitación o por la experiencia, o luego de haber hecho conocer plenamente nuestras limitaciones al respect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Buscar, aceptar y ofrecer una crítica honesta del trabajo técnico; aceptar y corregir los errores; y a dar a otros los créditos correspondientes por sus contribuc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Tratar con imparcialidad a todas las personas sin importar su raza, religión, género, discapacidad, edad o nacionalidad de orig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Evitar hacer daño a otros, a su propiedad, su reputación o empleo por acciones falsas o malicios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yudar a los colegas y compañeros de trabajo en su desarrollo profesional y a apoyarlos en el cumplimiento de este código de ét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palma</cp:lastModifiedBy>
  <cp:lastPrinted>2001-08-14T20:08:28Z</cp:lastPrinted>
  <dcterms:modified xsi:type="dcterms:W3CDTF">2009-11-10T21:24:17Z</dcterms:modified>
  <cp:revision>31</cp:revision>
  <dc:subject/>
  <dc:title>PowerPoint Presentation</dc:title>
</cp:coreProperties>
</file>