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3DB-392E-40DC-A31C-BF4B65A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E2B-1A0A-484B-8561-6FE2E6B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A40-8179-4A23-8A25-94866BE9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B2A-69E4-4547-B38D-D3D992E4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DC61-E978-4AD9-8800-50D2A72C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6ADAB-33BF-4746-938D-C753998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AD6B1-D0E5-4CA0-96B9-D7EB4E19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C1E2A-2D2D-4E14-A76F-06CF58C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C9E22-1522-4757-9903-58D113AC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D5DD9-BFB5-4BF4-A676-A22B503E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387D2-22A6-489D-95D0-BA84289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D74-ABFB-47BB-A12E-5A49717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4618-CA04-49F7-BBB4-0A9731C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62B0-6E32-47CE-B556-7D4B389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1BD5-1FD1-4A3E-A0D3-7910B0B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93EDC-EA50-43B1-950F-D5C55AB2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9C8E2-08C6-4226-BFF2-CEF7D98E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565-65CC-42A1-9B25-B58FB57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BFA-5653-4345-859C-8CE9E6CE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A46-F091-40D3-B262-CDE098E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DF5-9569-4B55-A61F-E3D0C54A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5BC-8352-4201-B81F-6D5E54DB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103-F06F-451D-98B5-05C5A52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CBA-16BC-4C50-9DA4-9E8C592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1BA4-D3CE-4761-8A1A-BFCE24E60E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390E-15CF-4FDB-8CA2-5653CC0197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manda cre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rte uso de combustibles fósi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curso limi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tamin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ecesidad de formas alternativas de obtener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227640" y="333360"/>
          <a:ext cx="259236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333360"/>
                    <a:ext cx="259236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05520" y="2743200"/>
          <a:ext cx="304776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2743200"/>
                    <a:ext cx="30477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05520" y="3962520"/>
          <a:ext cx="1447560" cy="52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144756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105520" y="4724280"/>
          <a:ext cx="3504960" cy="119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05520" y="4724280"/>
                    <a:ext cx="35049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62120" y="2895480"/>
            <a:ext cx="3962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ircuito equival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tencia peak (Wp): máxima potencia que puede suministrar el módulo cuando se expone a condiciones de prueba standard (STC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000 [W/m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] de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5ºC de tempera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Factor de Llenado (FF): Cuociente entre la máxima potencia y el producto V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o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</a:rPr>
              <a:t>sc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4038480"/>
          <a:ext cx="17524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4038480"/>
                    <a:ext cx="17524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990720" y="3048120"/>
            <a:ext cx="40384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819520"/>
          <a:ext cx="464796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4647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6520" y="4419720"/>
          <a:ext cx="3130560" cy="96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419720"/>
                    <a:ext cx="3130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ficiencia en función del 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666880"/>
            <a:ext cx="4952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456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tructura básica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3809880" cy="198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343400" y="4267080"/>
            <a:ext cx="38098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Mono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Policrist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licio Amor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lícula Delgada (Thin Fil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1000" y="1971720"/>
            <a:ext cx="255276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2027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476360" y="494172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00"/>
                </a:solidFill>
                <a:latin typeface="Arial"/>
              </a:rPr>
              <a:t>Eficiencias de celd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Monocristalina:12-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Policristalina:11-1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Amorfa:6-7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cc00"/>
                </a:solidFill>
                <a:latin typeface="Arial"/>
              </a:rPr>
              <a:t>telururo de cadmio:7-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Sistemas Fotovoltaicos Autónom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ntro de las principales componentes de un sistema fotovoltaico se encuent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gulador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vers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6699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gas AC y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ergí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Fuente inagotable de energí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 contamina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venta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Baja densidad de energía por unidad de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otencial energético depende de localidad geográf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quipo necesario requiere fuerte inversión ini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Connection diagram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egurar suministro de energía durante las noches y en días de poca insol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ntener el voltaje de operación casi cons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deraciones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: porcentaje de capacidad nominal que se extrae de la batería sin afectar su vida út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rrección de temperatura: el rendimiento de la batería disminuye con la tempera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nominal: Es la máxima cantidad de energía que puede extraerse de una bate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fundidad de descarga estacional: compensa el desperdicio de energía y reduce la demanda de corriente del conjunto fotovolta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pos de 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oco profundo: Soportan descargas diarias de hasta un 25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 ciclo profundo:  Soportan descargas diarias de hasta un 80% de la capac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terías en los sistemas fotovolta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ualmente se usan baterías de la familia de las de plomo-áci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n recargables, fáciles de mantener, relativamente económicas y disponibles en varios tamañ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terías de electrolito líquido producen gases explosivos de hidrógeno y oxíg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4920" y="118584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 en uno o más paneles conectados (en serie y/o paralelo) tal que se obtenga la tensión y corriente dese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anel consiste en un grupo encapsulado de celdas solares fabricadas principalmente usando células de Silicio mono y policristal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27640" y="260280"/>
          <a:ext cx="2660760" cy="182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7640" y="260280"/>
                    <a:ext cx="26607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8172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otencia de salida de un módulo fotovoltaico queda determinada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sistencia de la carga conectada al mód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Irradianci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Temperatura de la cel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Rendimiento de las cel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476280"/>
          <a:ext cx="792000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76280"/>
                    <a:ext cx="792000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rradiancia solar extraterrestre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1360 [W/m</a:t>
            </a:r>
            <a:r>
              <a:rPr b="0" lang="es-CL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] (cuerpo negro a 5900 °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teracción con la atmósfera terrest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enta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539640" y="476280"/>
          <a:ext cx="7993080" cy="608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6280"/>
                    <a:ext cx="799308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Reguladores de car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a las baterías de sobrecargas o descargas exces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gen contra flujos inversos de corr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úan de acuerdo al nivel de tensión que detectan en las bate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Inver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nsforman la corriente continua en alter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inversores comunes funcionan a 12, 24, 48 ó 120 V con salidas de 120ó 240 V a 50 ó 60 H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de onda de salida depende de varios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Procedimiento de 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 Cálculo de consumos: Determinar la carga total (AC y CC) conectada a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. Selección de la tensión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3. Determinación del recurso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. Determinación de la corriente y ángulo de inclinación del sistema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5. Cálculo de la capacidad del sistema acumul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. Cálculo del conjunto fotovolta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Radiación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espectro-solar-01a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7696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incipi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 producir electricidad solar, es necesario contar con un panel solar compuesto por una o más celdas solares (semiconductor, juntura p-n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la luz del sol incide sobre una celda solar, el material de la misma absorbe algunas fotones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ada fotón contiene una pequeña cantidad de energía (~6,63 X 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34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J/s)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Cuando un fotón es absorbido, se da inicio a un proceso de liberación de un electrón en el material de la celda solar.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Dado que ambos lados de una celda solar están eléctricamente conectados por un cable, una corriente fluirá en el momento en que el fotón es absorbido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La celda solar genera, entonces, electricidad, que puede ser utilizada inmediatamente o almacenada en una bater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nteracción de la luz con la mate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xisten ciertos materiales que al absorber un determinado tipo de radiación electromagnética generan en su interior pares de cargas positivas y negativas. Si la radiación electromagnética es la solar y el material es un semiconductor tal como el silicio (Si), los pares de carga son electrones (e-) y huecos (h+) que una vez producidos se mueven en forma aleatoria en el volumen del sólido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ergía de un fotó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=hf=hc/</a:t>
            </a:r>
            <a:r>
              <a:rPr b="0" lang="el-GR" sz="2000" spc="-1" strike="noStrike">
                <a:solidFill>
                  <a:srgbClr val="ffffff"/>
                </a:solidFill>
                <a:latin typeface="Tahoma"/>
                <a:ea typeface="Tahoma"/>
              </a:rPr>
              <a:t>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hoque fotón con electrón: si la energía del fotón es suficiente, el electrón puede saltar de la banda de valencia a la de con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Semiconducto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diodo de jun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639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:c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: Radiación solar [W/m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orriente de saturación del di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q: carga del electrón (1.6*10</a:t>
            </a:r>
            <a:r>
              <a:rPr b="0" lang="es-CL" sz="2400" spc="-1" strike="noStrike" baseline="30000">
                <a:solidFill>
                  <a:srgbClr val="ffffff"/>
                </a:solidFill>
                <a:latin typeface="Tahoma"/>
              </a:rPr>
              <a:t>-19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: Cte de Boltzman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: Temperatura absoluta [ºK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743200" y="2438280"/>
          <a:ext cx="304812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30481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uncionamiento de la celda sol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racterística V-I de la celda so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riente de cortocircuito (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oltaje en circuito abierto (I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7400" y="3733920"/>
          <a:ext cx="1447920" cy="52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733920"/>
                    <a:ext cx="1447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1080" y="5181480"/>
          <a:ext cx="3505320" cy="11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5181480"/>
                    <a:ext cx="35053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19:00:16Z</dcterms:created>
  <dc:creator>Claudia Rahmann</dc:creator>
  <dc:description/>
  <dc:language>en-US</dc:language>
  <cp:lastModifiedBy>Rodrigo Palma</cp:lastModifiedBy>
  <dcterms:modified xsi:type="dcterms:W3CDTF">2005-10-12T13:05:00Z</dcterms:modified>
  <cp:revision>38</cp:revision>
  <dc:subject/>
  <dc:title>Tecnología actual de las celdas y módulos fotovoltaicos</dc:title>
</cp:coreProperties>
</file>