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007-90FB-4E78-8BBF-10BB07A3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6E9-C8F1-4E3F-BD16-2A664C4F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32E-979E-4A9C-875D-F6F8C0C4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7A1-3A8A-47EB-A46F-EF6460C1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163FB-C428-4351-99D1-5E911446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A1A77-9D0A-4887-9548-DF05D155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D9F81-A3EF-47B1-84EA-F488F0AD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E9529-5140-4A40-B41A-1C36AD39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E19E-A943-40BC-8872-B300D7F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CF5DB-5996-43AE-8798-CAB9A5D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B248D-3397-41A2-8F61-A7F67A3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126-8EBF-40C6-A161-91E779D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51883-F20A-41FB-B307-BBA3D46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F4C71-4594-4EF5-9F12-2695205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9A086-BC33-4CF2-8545-3D4097D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5B6CA-84BE-48AE-8989-9C1EF451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8455-0F43-4D30-875B-039E8E5D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943-2420-4805-A33C-8EA9C52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452-2E86-4F62-9E3E-ADDFAA87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F25A-2ED5-4548-88C0-9D3A8A05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3C3-B17C-43CB-9D94-6022EA78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27C-0DEB-4237-B3C4-2DE6C20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E0A-615F-4B95-8E4C-83EEE9C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E2B-F5DE-4360-B008-4AE1FE43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6F4-C282-4A82-9E7F-99E134A9A5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F44-1791-4754-8FFB-D6529EC445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manda cre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rte uso de combustibles fósi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curso limi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tamin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 de formas alternativas de obtener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27640" y="333360"/>
          <a:ext cx="259236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333360"/>
                    <a:ext cx="25923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05520" y="2743200"/>
          <a:ext cx="30477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743200"/>
                    <a:ext cx="30477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05520" y="3962520"/>
          <a:ext cx="1447560" cy="52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1447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4724280"/>
          <a:ext cx="3504960" cy="11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4724280"/>
                    <a:ext cx="35049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62120" y="2895480"/>
            <a:ext cx="3962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ircuito equival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tencia peak (Wp): máxima potencia que puede suministrar el módulo cuando se expone a condiciones de prueba standard (ST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000 [W/m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] de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5ºC de temp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actor de Llenado (FF): Cuociente entre la máxima potencia y el producto V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o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s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4038480"/>
          <a:ext cx="17524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4038480"/>
                    <a:ext cx="1752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90720" y="3048120"/>
            <a:ext cx="4038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819520"/>
          <a:ext cx="46479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4647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4419720"/>
          <a:ext cx="313056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419720"/>
                    <a:ext cx="3130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 en función del 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56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básica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809880" cy="198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38098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Mono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Poli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Amor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lícula Delgada (Thin Fil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1000" y="1971720"/>
            <a:ext cx="255276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2027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Eficiencias de celd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Monocristalina:12-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Policristalina:11-1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Amorfa:6-7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telururo de cadmio:7-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Sistemas Fotovoltaicos Autóno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ntro de las principales componentes de un sistema fotovoltaico se encuent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gulador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ver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gas AC y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ergí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nte inagotable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 contamina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ja densidad de energía por unidad de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tencial energético depende de localidad geo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po necesario requiere fuerte inversión in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Connection diagram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egurar suministro de energía durante las noches y en días de poca inso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ntener el voltaje de operación casi cons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deraciones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: porcentaje de capacidad nominal que se extrae de la batería sin afectar su vida út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rrección de temperatura: el rendimiento de la batería disminuye con la temper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nominal: Es la máxima cantidad de energía que puede extraerse de una 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 estacional: compensa el desperdicio de energía y reduce la demanda de corriente del conjunto fotovolta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oco profundo: Soportan descargas diarias de hasta un 25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rofundo:  Soportan descargas diarias de hasta un 80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s en los sistemas fotovolta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ualmente se usan baterías de la familia de las de plomo-á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n recargables, fáciles de mantener, relativamente económicas y disponibles en varios tam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terías de electrolito líquido producen gases explosivos de hidrógeno y oxíg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4920" y="11858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 en uno o más paneles conectados (en serie y/o paralelo) tal que se obtenga la tensión y corriente dese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panel consiste en un grupo encapsulado de celdas solares fabricadas principalmente usando células de Silicio mono y policristal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27640" y="260280"/>
          <a:ext cx="2660760" cy="18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260280"/>
                    <a:ext cx="26607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81723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de salida de un módulo fotovoltaico queda determinada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sistencia de la carga conectada al mód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Temperatura de la ce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ndimiento de las cel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76280"/>
          <a:ext cx="7920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6280"/>
                    <a:ext cx="79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rradiancia solar extraterrestre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1360 [W/m</a:t>
            </a:r>
            <a:r>
              <a:rPr b="0" lang="es-CL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] (cuerpo negro a 5900 °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acción con la atmósfera terrest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enta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9640" y="476280"/>
          <a:ext cx="7993080" cy="608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6280"/>
                    <a:ext cx="799308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Reguladores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a las baterías de sobrecargas o descargas exces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contra flujos inversos de corr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úan de acuerdo al nivel de tensión que detectan en las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Inver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forman la corriente continua en alt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inversores comunes funcionan a 12, 24, 48 ó 120 V con salidas de 120ó 240 V a 50 ó 60 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forma de onda de salida depende de varios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Procedimiento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 Cálculo de consumos: Determinar la carga total (AC y CC) conectada a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. Selección de la tensión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3. Determinación del recurso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. Determinación de la corriente y ángulo de inclinación del sistema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5. Cálculo de la capacidad del sistema acumul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. Cálculo del 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espectro-solar-01a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incip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producir electricidad solar, es necesario contar con un panel solar compuesto por una o más celdas solares (semiconductor, juntura p-n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la luz del sol incide sobre una celda solar, el material de la misma absorbe algunas fotones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ada fotón contiene una pequeña cantidad de energía (~6,63 X 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34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J/s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un fotón es absorbido, se da inicio a un proceso de liberación de un electrón en el material de la celda solar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ado que ambos lados de una celda solar están eléctricamente conectados por un cable, una corriente fluirá en el momento en que el fotón es absorbido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La celda solar genera, entonces, electricidad, que puede ser utilizada inmediatamente o almacenada en una bater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acción de la luz con la ma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xisten ciertos materiales que al absorber un determinado tipo de radiación electromagnética generan en su interior pares de cargas positivas y negativas. Si la radiación electromagnética es la solar y el material es un semiconductor tal como el silicio (Si), los pares de carga son electrones (e-) y huecos (h+) que una vez producidos se mueven en forma aleatoria en el volumen del sólido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ergía de un fot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=hf=hc/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hoque fotón con electrón: si la energía del fotón es suficiente, el electrón puede saltar de la banda de valencia a la de con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Semiconduct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diodo de ju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639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:c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: Radiación solar [W/m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orriente de saturación del di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q: carga del electrón (1.6*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19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: Cte de Boltzman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: Temperatura absoluta [ºK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43200" y="2438280"/>
          <a:ext cx="304812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30481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riente de cortocircuito (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oltaje en circuito abierto (I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3733920"/>
          <a:ext cx="1447920" cy="52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733920"/>
                    <a:ext cx="1447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1080" y="5181480"/>
          <a:ext cx="3505320" cy="11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181480"/>
                    <a:ext cx="35053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9:00:16Z</dcterms:created>
  <dc:creator>Claudia Rahmann</dc:creator>
  <dc:description/>
  <dc:language>en-US</dc:language>
  <cp:lastModifiedBy>Rodrigo Palma</cp:lastModifiedBy>
  <dcterms:modified xsi:type="dcterms:W3CDTF">2005-10-12T13:05:00Z</dcterms:modified>
  <cp:revision>38</cp:revision>
  <dc:subject/>
  <dc:title>Tecnología actual de las celdas y módulos fotovoltaicos</dc:title>
</cp:coreProperties>
</file>