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E1A-728F-4B3D-8967-2A7430BC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B2F-B685-4725-A5AF-7BB2B38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F0F-54C3-43E8-B3AB-15920F90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681-254A-48D8-97E9-19F39433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7001-CD65-48D2-84B9-7BB64ABC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31A68-FF23-4179-A5D4-292E9910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DF54-EBAA-4994-987B-E6F84324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CADDA-C5B3-4D1D-8F4F-4F2A1980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CD153-DE5F-49D6-BC3E-4BF80D65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B12E-E85E-4E60-9700-B541BA67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9C704-99EA-4445-AE34-A2BB8B3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375-FA4A-45D0-AC74-87F81AAE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23C00-000B-4AE8-8E47-0D968EB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2F6D2-031E-442B-B734-9C980091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A6D17-8D85-4DA4-9B3F-D28ACCBE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BE5B5-F870-4761-B441-45F3E818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EE03-4D3A-4B25-9CD0-EECBF463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9E7-65F4-4CE2-A16B-647B2A5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8D1-AA7F-4F1B-AC72-90EEAC38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100-A6ED-4C9E-827B-829C230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1B4-40B2-47AE-A669-057E8DE0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581-5C80-412B-8611-B2D4B25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1FC-C40D-4774-99BE-113968D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069-6FA7-40C0-B594-6780E83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E512-0432-4CE3-A0C8-EFDC32D37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7D16-E049-4DEC-B2D1-9109613E1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manda cre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rte uso de combustibles fósi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curso limi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tamin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 de formas alternativas de obtener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227640" y="333360"/>
          <a:ext cx="259236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333360"/>
                    <a:ext cx="259236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05520" y="2743200"/>
          <a:ext cx="30477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743200"/>
                    <a:ext cx="30477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05520" y="3962520"/>
          <a:ext cx="1447560" cy="52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1447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4724280"/>
          <a:ext cx="3504960" cy="11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4724280"/>
                    <a:ext cx="35049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62120" y="2895480"/>
            <a:ext cx="3962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ircuito equival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tencia peak (Wp): máxima potencia que puede suministrar el módulo cuando se expone a condiciones de prueba standard (ST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000 [W/m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] de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5ºC de tempera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actor de Llenado (FF): Cuociente entre la máxima potencia y el producto V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o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s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43600" y="4038480"/>
          <a:ext cx="175248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4038480"/>
                    <a:ext cx="1752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990720" y="3048120"/>
            <a:ext cx="40384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819520"/>
          <a:ext cx="464796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19520"/>
                    <a:ext cx="4647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4419720"/>
          <a:ext cx="313056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419720"/>
                    <a:ext cx="3130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 en función del 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56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básica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809880" cy="198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38098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Mono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Poli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Amor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lícula Delgada (Thin Fil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1000" y="1971720"/>
            <a:ext cx="255276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2027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494172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Eficiencias de celd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Monocristalina:12-1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Policristalina:11-14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Amorfa:6-7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telururo de cadmio:7-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Sistemas Fotovoltaicos Autóno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ntro de las principales componentes de un sistema fotovoltaico se encuent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gulador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ver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gas AC y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ergí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nte inagotable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 contamina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ja densidad de energía por unidad de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tencial energético depende de localidad geográ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po necesario requiere fuerte inversión in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Connection diagram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egurar suministro de energía durante las noches y en días de poca inso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ntener el voltaje de operación casi cons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deraciones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: porcentaje de capacidad nominal que se extrae de la batería sin afectar su vida út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rrección de temperatura: el rendimiento de la batería disminuye con la temper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nominal: Es la máxima cantidad de energía que puede extraerse de una 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 estacional: compensa el desperdicio de energía y reduce la demanda de corriente del conjunto fotovolta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pos de 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oco profundo: Soportan descargas diarias de hasta un 25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rofundo:  Soportan descargas diarias de hasta un 80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s en los sistemas fotovolta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ualmente se usan baterías de la familia de las de plomo-á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n recargables, fáciles de mantener, relativamente económicas y disponibles en varios tama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terías de electrolito líquido producen gases explosivos de hidrógeno y oxíg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4920" y="118584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 en uno o más paneles conectados (en serie y/o paralelo) tal que se obtenga la tensión y corriente dese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panel consiste en un grupo encapsulado de celdas solares fabricadas principalmente usando células de Silicio mono y policristal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227640" y="260280"/>
          <a:ext cx="2660760" cy="18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260280"/>
                    <a:ext cx="26607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81723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de salida de un módulo fotovoltaico queda determinada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sistencia de la carga conectada al mód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Temperatura de la cel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ndimiento de las cel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476280"/>
          <a:ext cx="7920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76280"/>
                    <a:ext cx="7920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rradiancia solar extraterrestre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1360 [W/m</a:t>
            </a:r>
            <a:r>
              <a:rPr b="0" lang="es-CL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] (cuerpo negro a 5900 °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teracción con la atmósfera terrest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enta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9640" y="476280"/>
          <a:ext cx="7993080" cy="608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6280"/>
                    <a:ext cx="799308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Reguladores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a las baterías de sobrecargas o descargas exces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contra flujos inversos de corr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úan de acuerdo al nivel de tensión que detectan en las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Inver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forman la corriente continua en alt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inversores comunes funcionan a 12, 24, 48 ó 120 V con salidas de 120ó 240 V a 50 ó 60 H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forma de onda de salida depende de varios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Procedimiento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 Cálculo de consumos: Determinar la carga total (AC y CC) conectada a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. Selección de la tensión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3. Determinación del recurso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. Determinación de la corriente y ángulo de inclinación del sistema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5. Cálculo de la capacidad del sistema acumul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. Cálculo del 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espectro-solar-01a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7696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incip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producir electricidad solar, es necesario contar con un panel solar compuesto por una o más celdas solares (semiconductor, juntura p-n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la luz del sol incide sobre una celda solar, el material de la misma absorbe algunas fotones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ada fotón contiene una pequeña cantidad de energía (~6,63 X 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34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J/s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un fotón es absorbido, se da inicio a un proceso de liberación de un electrón en el material de la celda solar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ado que ambos lados de una celda solar están eléctricamente conectados por un cable, una corriente fluirá en el momento en que el fotón es absorbido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La celda solar genera, entonces, electricidad, que puede ser utilizada inmediatamente o almacenada en una bater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teracción de la luz con la ma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xisten ciertos materiales que al absorber un determinado tipo de radiación electromagnética generan en su interior pares de cargas positivas y negativas. Si la radiación electromagnética es la solar y el material es un semiconductor tal como el silicio (Si), los pares de carga son electrones (e-) y huecos (h+) que una vez producidos se mueven en forma aleatoria en el volumen del sólido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ergía de un fot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=hf=hc/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hoque fotón con electrón: si la energía del fotón es suficiente, el electrón puede saltar de la banda de valencia a la de con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Semiconducto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diodo de jun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639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:c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: Radiación solar [W/m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orriente de saturación del di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q: carga del electrón (1.6*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19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: Cte de Boltzman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: Temperatura absoluta [ºK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43200" y="2438280"/>
          <a:ext cx="304812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438280"/>
                    <a:ext cx="30481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riente de cortocircuito (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oltaje en circuito abierto (I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7400" y="3733920"/>
          <a:ext cx="1447920" cy="52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733920"/>
                    <a:ext cx="1447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1080" y="5181480"/>
          <a:ext cx="3505320" cy="11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5181480"/>
                    <a:ext cx="35053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9:00:16Z</dcterms:created>
  <dc:creator>Claudia Rahmann</dc:creator>
  <dc:description/>
  <dc:language>en-US</dc:language>
  <cp:lastModifiedBy>Rodrigo Palma</cp:lastModifiedBy>
  <dcterms:modified xsi:type="dcterms:W3CDTF">2005-10-12T13:05:00Z</dcterms:modified>
  <cp:revision>38</cp:revision>
  <dc:subject/>
  <dc:title>Tecnología actual de las celdas y módulos fotovoltaicos</dc:title>
</cp:coreProperties>
</file>