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.jpeg" ContentType="image/jpeg"/>
  <Override PartName="/ppt/media/image15.wmf" ContentType="image/x-wmf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4F0-46B2-4C91-8D17-66B77590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EEF7-4395-4308-A17D-0FB74D77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74B-56F2-42FB-A88E-BE6A7123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DC3-9ED8-4D09-A3F0-8101D98A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7FE8F-662E-4144-A6B9-935B55CC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3E000-F155-4617-B172-B852247F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4408E-5984-4191-938A-EC48CFE4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6D036-FF08-4B70-8E22-8460B289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FDB8A-318A-47E2-BC6C-B2923898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D040A-2066-47D2-B032-94985542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64098-5ED6-484B-8A8E-FD751BD8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D16-8CF7-4C98-B444-64396491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7F79D-E2A6-4305-AA5D-FB1535A4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410AE-1922-4CA8-9D05-06A0AE95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6F7C4-702F-4226-8A2B-39EF752A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3930B-0F62-4564-9C9D-3700AAF4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D8EDE-5A74-45EE-84CD-1828D226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1DA-5F67-4F24-8541-1D1F3006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E1E4-60B7-4F9D-BF1E-15783E06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A73-1AE5-4519-9ED0-0DC3F3BC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4F3-BCDD-4198-8A9C-E5AC3D81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95E-2EC7-4437-83F4-4FD580C0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4641-1570-4313-A9A5-12A338BF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A2F-E473-4361-8E7D-EE38FD55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5840-27A4-487B-8AA6-B6527DC10C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AED2-7C26-4953-A233-63EA03A107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manda crec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erte uso de combustibles fósi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ecurso limi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tamin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cesidad de formas alternativas de obtener ener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227640" y="333360"/>
          <a:ext cx="259236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333360"/>
                    <a:ext cx="259236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racterística V-I de la celd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105520" y="2743200"/>
          <a:ext cx="304776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743200"/>
                    <a:ext cx="30477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105520" y="3962520"/>
          <a:ext cx="1447560" cy="52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962520"/>
                    <a:ext cx="14475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105520" y="4724280"/>
          <a:ext cx="3504960" cy="119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05520" y="4724280"/>
                    <a:ext cx="350496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62120" y="2895480"/>
            <a:ext cx="3962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ircuito equival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otencia peak (Wp): máxima potencia que puede suministrar el módulo cuando se expone a condiciones de prueba standard (ST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1000 [W/m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] de Irradiancia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25ºC de tempera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Factor de Llenado (FF): Cuociente entre la máxima potencia y el producto V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ahoma"/>
              </a:rPr>
              <a:t>oc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ahoma"/>
              </a:rPr>
              <a:t>sc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43600" y="4038480"/>
          <a:ext cx="1752480" cy="10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4038480"/>
                    <a:ext cx="17524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990720" y="3048120"/>
            <a:ext cx="403848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fici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76520" y="2819520"/>
          <a:ext cx="4647960" cy="105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819520"/>
                    <a:ext cx="46479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6520" y="4419720"/>
          <a:ext cx="3130560" cy="9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419720"/>
                    <a:ext cx="313056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ficiencia en función del 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05120" y="2666880"/>
            <a:ext cx="495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456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ructura básica de la celd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3809880" cy="1989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343400" y="4267080"/>
            <a:ext cx="38098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cnolog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licio Monocristal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licio Policristal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licio Amorf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lícula Delgada (Thin Fil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91000" y="1971720"/>
            <a:ext cx="2552760" cy="184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2952720" cy="2027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76360" y="4941720"/>
            <a:ext cx="36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Eficiencias de celd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Monocristalina:12-15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Policristalina:11-14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Amorfa:6-7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telururo de cadmio:7-8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ff"/>
                </a:solidFill>
                <a:uFillTx/>
                <a:latin typeface="Tahoma"/>
              </a:rPr>
              <a:t>Sistemas Fotovoltaicos Autóno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ntro de las principales componentes de un sistema fotovoltaico se encuentr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junto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te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gulador de car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vers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gas AC y D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nergí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enta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ente inagotable de ener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o contamina*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sventa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ja densidad de energía por unidad de superfi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tencial energético depende de localidad geográf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quipo necesario requiere fuerte inversión ini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Connection diagram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Bate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segurar suministro de energía durante las noches y en días de poca insol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ntener el voltaje de operación casi const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deraciones de dis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fundidad de descarga: porcentaje de capacidad nominal que se extrae de la batería sin afectar su vida út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rrección de temperatura: el rendimiento de la batería disminuye con la tempera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nominal: Es la máxima cantidad de energía que puede extraerse de una bate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fundidad de descarga estacional: compensa el desperdicio de energía y reduce la demanda de corriente del conjunto fotovolta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pos de  bate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 ciclo poco profundo: Soportan descargas diarias de hasta un 25% de la capac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 ciclo profundo:  Soportan descargas diarias de hasta un 80% de la capac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terías en los sistemas fotovolta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sualmente se usan baterías de la familia de las de plomo-á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on recargables, fáciles de mantener, relativamente económicas y disponibles en varios tamañ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baterías de electrolito líquido producen gases explosivos de hidrógeno y oxíg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4920" y="118584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Conjunto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ste en uno o más paneles conectados (en serie y/o paralelo) tal que se obtenga la tensión y corriente desea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panel consiste en un grupo encapsulado de celdas solares fabricadas principalmente usando células de Silicio mono y policristalin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227640" y="260280"/>
          <a:ext cx="2660760" cy="182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260280"/>
                    <a:ext cx="26607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81723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otencia de salida de un módulo fotovoltaico queda determinada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Resistencia de la carga conectada al mód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Irradiancia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Temperatura de la cel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Rendimiento de las cel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684360" y="476280"/>
          <a:ext cx="7920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76280"/>
                    <a:ext cx="7920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Radiación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rradiancia solar extraterrestre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1360 [W/m</a:t>
            </a:r>
            <a:r>
              <a:rPr b="0" lang="es-CL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] (cuerpo negro a 5900 °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teracción con la atmósfera terrest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Venta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539640" y="476280"/>
          <a:ext cx="7993080" cy="608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476280"/>
                    <a:ext cx="799308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Reguladores de car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tegen a las baterías de sobrecargas o descargas exces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tegen contra flujos inversos de corri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túan de acuerdo al nivel de tensión que detectan en las bate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Invers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nsforman la corriente continua en alte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inversores comunes funcionan a 12, 24, 48 ó 120 V con salidas de 120ó 240 V a 50 ó 60 H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forma de onda de salida depende de varios pu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Procedimiento de dis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 Cálculo de consumos: Determinar la carga total (AC y CC) conectada a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2. Selección de la tensión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3. Determinación del recurso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4. Determinación de la corriente y ángulo de inclinación del sistema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5. Cálculo de la capacidad del sistema acumul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. Cálculo del conjunto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Radiación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espectro-solar-01a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7696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Princip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ara producir electricidad solar, es necesario contar con un panel solar compuesto por una o más celdas solares (semiconductor, juntura p-n)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Cuando la luz del sol incide sobre una celda solar, el material de la misma absorbe algunas fotones.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Cada fotón contiene una pequeña cantidad de energía (~6,63 X 1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ahoma"/>
              </a:rPr>
              <a:t>-34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J/s)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Cuando un fotón es absorbido, se da inicio a un proceso de liberación de un electrón en el material de la celda solar.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Dado que ambos lados de una celda solar están eléctricamente conectados por un cable, una corriente fluirá en el momento en que el fotón es absorbido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La celda solar genera, entonces, electricidad, que puede ser utilizada inmediatamente o almacenada en una baterí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nteracción de la luz con la mate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xisten ciertos materiales que al absorber un determinado tipo de radiación electromagnética generan en su interior pares de cargas positivas y negativas. Si la radiación electromagnética es la solar y el material es un semiconductor tal como el silicio (Si), los pares de carga son electrones (e-) y huecos (h+) que una vez producidos se mueven en forma aleatoria en el volumen del sólido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ergía de un fot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=hf=hc/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  <a:ea typeface="Tahoma"/>
              </a:rPr>
              <a:t>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hoque fotón con electrón: si la energía del fotón es suficiente, el electrón puede saltar de la banda de valencia a la de condu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Semiconducto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diodo de jun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56390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racterística V-I de la celda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:c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: Radiación solar [W/m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Corriente de saturación del di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q: carga del electrón (1.6*1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ahoma"/>
              </a:rPr>
              <a:t>-19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: Cte de Boltzman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: Temperatura absoluta [ºK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743200" y="2438280"/>
          <a:ext cx="304812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438280"/>
                    <a:ext cx="30481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racterística V-I de la celd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rriente de cortocircuito (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oltaje en circuito abierto (I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57400" y="3733920"/>
          <a:ext cx="1447920" cy="52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3733920"/>
                    <a:ext cx="1447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981080" y="5181480"/>
          <a:ext cx="3505320" cy="119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5181480"/>
                    <a:ext cx="35053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19:00:16Z</dcterms:created>
  <dc:creator>Claudia Rahmann</dc:creator>
  <dc:description/>
  <dc:language>en-US</dc:language>
  <cp:lastModifiedBy>Rodrigo Palma</cp:lastModifiedBy>
  <dcterms:modified xsi:type="dcterms:W3CDTF">2005-10-12T13:05:00Z</dcterms:modified>
  <cp:revision>38</cp:revision>
  <dc:subject/>
  <dc:title>Tecnología actual de las celdas y módulos fotovoltaicos</dc:title>
</cp:coreProperties>
</file>