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1FD1BD-61E8-4AC7-B6AF-95319603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0E61F4-8D7D-4066-94D5-6AC4C464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A5D-A0C8-4339-8FBE-3140215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C5B-F4F1-42BF-93F4-DDD5E70F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014-1EA7-4C39-A306-C2C33C36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363-ACBF-401A-AFBA-5CD96654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0BA-0895-4CA9-9AED-85387ED6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626-E04E-465C-88FA-D8938ABD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95A-93F5-4E2E-A9DB-4AABE110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2F0-45F2-4597-931E-1D1956F0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332-F6D8-4840-BF1C-3319E190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CCC-FB40-470D-AF90-2C3FE46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136-3163-4DC0-9EB9-A256D9A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0F2-10BA-4698-BAFB-7E0DB1D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E0E1-8337-4DCB-BDA4-902178AB3D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12800" y="500040"/>
            <a:ext cx="68882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aso HidroAysé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70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281800" cy="4286520"/>
          </a:xfrm>
          <a:prstGeom prst="rect">
            <a:avLst/>
          </a:prstGeom>
          <a:ln w="0">
            <a:noFill/>
          </a:ln>
        </p:spPr>
      </p:pic>
      <p:sp>
        <p:nvSpPr>
          <p:cNvPr id="86" name="4 CuadroTexto"/>
          <p:cNvSpPr/>
          <p:nvPr/>
        </p:nvSpPr>
        <p:spPr>
          <a:xfrm>
            <a:off x="1813320" y="64296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tos Aprobados e Ingresados al S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91360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1534320" y="71424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214200" y="40006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tenci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750 MW (30% de la potencia total actual del S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rs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S$ 3.200.000.000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o de obr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2260 en la construcción y 140 en la o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CuadroTexto"/>
          <p:cNvSpPr/>
          <p:nvPr/>
        </p:nvSpPr>
        <p:spPr>
          <a:xfrm>
            <a:off x="214200" y="1225440"/>
            <a:ext cx="892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ensa del patrimonio cultural y ambiental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el turismo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cesidad de implementar otros mecanismos para solucionar el tema energético, como eficiencia, y ER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nocivos en la hidrogeológica y efectos ambientales comprob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ras contra las líneas de transmisión para entregar la energía al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CuadroTexto"/>
          <p:cNvSpPr/>
          <p:nvPr/>
        </p:nvSpPr>
        <p:spPr>
          <a:xfrm>
            <a:off x="1448280" y="5716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osición al Proyecto HidroAys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ntes releva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14200" y="107172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ado: CONAMA, CNE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1-4-7-10-13-16-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4200" y="2571840"/>
            <a:ext cx="80726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Sociedad Civil: Ambientalistas, Comité de defensa de la Patagonía, Gremios,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2-5-8-11-14-17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4357800"/>
            <a:ext cx="8072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mpresa: HidroAysén, Contratista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rupos: 3-6-9-12-15-18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Grup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2071800"/>
            <a:ext cx="8501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Hoy: Cada grupo debe mencionar 3 o 4 puntos más importantes del h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Para próxima clase: Preparar Informe aplicando 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268280"/>
          <a:ext cx="7488360" cy="478152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Corrientes Éticas en Misión de la U de Ch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orrientes Éticas no se dan en formas “pur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Interpretaciones son subje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No hay “respuestas correct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28760" y="2143080"/>
            <a:ext cx="807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Metodología de Discernimiento É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2486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207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143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00120" y="714240"/>
            <a:ext cx="68169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11360" y="428760"/>
            <a:ext cx="71038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7056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09-10-19T10:43:35Z</dcterms:modified>
  <cp:revision>54</cp:revision>
  <dc:subject/>
  <dc:title>EI1B2 clase semana 8</dc:title>
</cp:coreProperties>
</file>