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112915-C3D1-44C6-BEDD-E19F02A6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BEBE5E-C115-48CF-B857-02E49CC6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2E4-5C1D-4039-9FED-EDC60B02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686-5B3C-4D99-BF72-577FF81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7A8-1410-427E-856C-80C4525C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4DC-717A-4165-A4C2-53CCDD41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065-56ED-4DAF-B0EA-8DB2AC8F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2C6-0F02-4C64-9D26-39D1D973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405-1555-485B-9123-606BF046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5DF-AAD3-4950-B570-03D7D883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624-68BE-4002-996D-5DD6CB98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95C-35D6-4239-8554-65B8AB7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4B1-CF41-4E83-9268-EB7E90B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FCD-3C53-46FA-A82B-027BBE4A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86AF-ABD7-4E5A-A29C-A8A6D6F925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12800" y="500040"/>
            <a:ext cx="68882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aso HidroAysé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702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281800" cy="428652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1813320" y="64296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yectos Aprobados e Ingresados al S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91360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1534320" y="71424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214200" y="40006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tenci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750 MW (30% de la potencia total actual del S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vers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S$ 3.200.000.000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no de ob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260 en la construcción y 140 en la o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CuadroTexto"/>
          <p:cNvSpPr/>
          <p:nvPr/>
        </p:nvSpPr>
        <p:spPr>
          <a:xfrm>
            <a:off x="214200" y="122544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ensa del patrimonio cultural y ambiental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el turismo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cesidad de implementar otros mecanismos para solucionar el tema energético, como eficiencia, y ER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la hidrogeológica y efectos ambientales comprob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ras contra las líneas de transmisión para entregar la energía al 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CuadroTexto"/>
          <p:cNvSpPr/>
          <p:nvPr/>
        </p:nvSpPr>
        <p:spPr>
          <a:xfrm>
            <a:off x="1448280" y="5716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osición al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ntes releva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14200" y="107172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ado: CONAMA, CNE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1-4-7-10-13-16-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14200" y="2571840"/>
            <a:ext cx="80726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Sociedad Civil: Ambientalistas, Comité de defensa de la Patagonía, Gremios,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2-5-8-11-14-17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435780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mpresa: HidroAysén, Contratista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3-6-9-12-15-18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Grup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2071800"/>
            <a:ext cx="8501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Hoy: Cada grupo debe mencionar 3 o 4 puntos más importantes del h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Para próxima clase: Preparar Informe aplicando 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268280"/>
          <a:ext cx="7488360" cy="478152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orrientes Éticas en Misión de la U de Ch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orrientes Éticas no se dan en formas “pur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Interpretaciones son subje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No hay “respuestas correct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2486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207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6143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00120" y="714240"/>
            <a:ext cx="68169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11360" y="428760"/>
            <a:ext cx="71038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7056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09-10-19T10:43:35Z</dcterms:modified>
  <cp:revision>54</cp:revision>
  <dc:subject/>
  <dc:title>EI1B2 clase semana 8</dc:title>
</cp:coreProperties>
</file>