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08 CDIO 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B0BD82-FB3A-4480-9D93-E3C3CE174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08 CDIO 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104D25-D7F2-4819-972F-7B5B53EDD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55AE-7C27-44D9-8369-CD493DCF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144-3C08-4795-8992-FDB5A2A0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BB23-08DF-448F-BC56-5B4462D1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AFDA-8B40-40DC-BDC3-49426654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8FAC-9CC3-4E1D-8685-19BF9427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0C9-CFD8-4EE3-836B-E8C853BC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C0C-2B09-49B4-9F2F-74ADBF9E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4C03-88A5-4B5D-BE0C-4DFDA9CA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358A-1585-47B0-8D27-F5184F01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BB0D-7A1B-4B08-AE57-B896872D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E745-5D21-4109-A4E6-42EAFC57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4F9-850F-4A03-917B-193D537D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F58B-6FF4-43ED-88BA-911D811B45C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612800" y="500040"/>
            <a:ext cx="688824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70722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Caso HidroAysé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87026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71680" y="1214280"/>
            <a:ext cx="8281800" cy="4286520"/>
          </a:xfrm>
          <a:prstGeom prst="rect">
            <a:avLst/>
          </a:prstGeom>
          <a:ln w="0">
            <a:noFill/>
          </a:ln>
        </p:spPr>
      </p:pic>
      <p:sp>
        <p:nvSpPr>
          <p:cNvPr id="86" name="4 CuadroTexto"/>
          <p:cNvSpPr/>
          <p:nvPr/>
        </p:nvSpPr>
        <p:spPr>
          <a:xfrm>
            <a:off x="1813320" y="642960"/>
            <a:ext cx="64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yectos Aprobados e Ingresados al SE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42920" y="1500120"/>
            <a:ext cx="8913600" cy="2214720"/>
          </a:xfrm>
          <a:prstGeom prst="rect">
            <a:avLst/>
          </a:prstGeom>
          <a:ln w="0">
            <a:noFill/>
          </a:ln>
        </p:spPr>
      </p:pic>
      <p:sp>
        <p:nvSpPr>
          <p:cNvPr id="90" name="4 CuadroTexto"/>
          <p:cNvSpPr/>
          <p:nvPr/>
        </p:nvSpPr>
        <p:spPr>
          <a:xfrm>
            <a:off x="1534320" y="71424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volución Proyecto HidroAys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5 CuadroTexto"/>
          <p:cNvSpPr/>
          <p:nvPr/>
        </p:nvSpPr>
        <p:spPr>
          <a:xfrm>
            <a:off x="214200" y="400068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otenci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2750 MW (30% de la potencia total actual del SI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versión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US$ 3.200.000.000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ano de obr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2260 en la construcción y 140 en la ope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 CuadroTexto"/>
          <p:cNvSpPr/>
          <p:nvPr/>
        </p:nvSpPr>
        <p:spPr>
          <a:xfrm>
            <a:off x="214200" y="1225440"/>
            <a:ext cx="8929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fensa del patrimonio cultural y ambiental de la z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fectos nocivos en el turismo de la z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ecesidad de implementar otros mecanismos para solucionar el tema energético, como eficiencia, y ER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fectos nocivos en la hidrogeológica y efectos ambientales comprob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sturas contra las líneas de transmisión para entregar la energía al 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4 CuadroTexto"/>
          <p:cNvSpPr/>
          <p:nvPr/>
        </p:nvSpPr>
        <p:spPr>
          <a:xfrm>
            <a:off x="1448280" y="571680"/>
            <a:ext cx="51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posición al Proyecto HidroAys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722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Entes relevan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214200" y="1071720"/>
            <a:ext cx="80726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Estado: CONAMA, CNE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Grupos: 1-4-7-10-13-16-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14200" y="2571840"/>
            <a:ext cx="80726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Sociedad Civil: Ambientalistas, Comité de defensa de la Patagonía, Gremios,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Grupos: 2-5-8-11-14-17-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14200" y="4357800"/>
            <a:ext cx="80726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Empresa: HidroAysén, Contratistas,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Grupos: 3-6-9-12-15-18-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70722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Trabajo Grup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57120" y="2071800"/>
            <a:ext cx="8501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Hoy: Cada grupo debe mencionar 3 o 4 puntos más importantes del h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Para próxima clase: Preparar Informe aplicando Metodología de Discernimiento É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1268280"/>
          <a:ext cx="7488360" cy="478152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30000"/>
                      </a:srgbClr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70722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Corrientes Éticas en Misión de la U de Chi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428760" y="2143080"/>
            <a:ext cx="8072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Corrientes Éticas no se dan en formas “pur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Interpretaciones son subjetiv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No hay “respuestas correct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70722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¿Cómo Discerni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428760" y="2143080"/>
            <a:ext cx="8072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Metodología de Discernimiento É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857160" y="1000080"/>
            <a:ext cx="724860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2072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500120" y="1143000"/>
            <a:ext cx="614376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500120" y="714240"/>
            <a:ext cx="681696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611360" y="428760"/>
            <a:ext cx="710388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357200" y="714240"/>
            <a:ext cx="70567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Hector Agusto</cp:lastModifiedBy>
  <dcterms:modified xsi:type="dcterms:W3CDTF">2009-10-19T10:43:35Z</dcterms:modified>
  <cp:revision>54</cp:revision>
  <dc:subject/>
  <dc:title>EI1B2 clase semana 8</dc:title>
</cp:coreProperties>
</file>