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08 CDIO Afi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A0EE936-4ED4-469E-9920-824620636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08 CDIO Afi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73B5DB7-E1F4-4FBD-991E-D50C19660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4DFC-8BF6-41A4-B3D7-6B820FBB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EAD2-0737-4A6D-8945-ADCDC6BE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EC05-7C68-44A8-A9F1-15642C8A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3F40-26A9-4F35-A057-4B98DB7B4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C39B-5F49-4F18-962F-16CB0DFA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4E98-2D84-4724-81FD-79E0220B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6C14-F809-4AB2-8507-C3C1D58B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D376-D5D7-41B4-AC79-E888B627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0320-DB3E-4FA1-AD07-6FF6CA94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0C7E-2A26-4AFE-89EE-D17D00F6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9828-689A-4052-BC33-1DA656CB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94A9-C145-4798-9AA3-770D0389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F34D-DEF0-48B8-B516-73E5F9708C0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éctor Agusto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612800" y="500040"/>
            <a:ext cx="688824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285840"/>
            <a:ext cx="70722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Caso HidroAysé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285840" y="1357200"/>
            <a:ext cx="87026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571680" y="1214280"/>
            <a:ext cx="8281800" cy="4286520"/>
          </a:xfrm>
          <a:prstGeom prst="rect">
            <a:avLst/>
          </a:prstGeom>
          <a:ln w="0">
            <a:noFill/>
          </a:ln>
        </p:spPr>
      </p:pic>
      <p:sp>
        <p:nvSpPr>
          <p:cNvPr id="86" name="4 CuadroTexto"/>
          <p:cNvSpPr/>
          <p:nvPr/>
        </p:nvSpPr>
        <p:spPr>
          <a:xfrm>
            <a:off x="1813320" y="642960"/>
            <a:ext cx="64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yectos Aprobados e Ingresados al SE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42920" y="1500120"/>
            <a:ext cx="8913600" cy="2214720"/>
          </a:xfrm>
          <a:prstGeom prst="rect">
            <a:avLst/>
          </a:prstGeom>
          <a:ln w="0">
            <a:noFill/>
          </a:ln>
        </p:spPr>
      </p:pic>
      <p:sp>
        <p:nvSpPr>
          <p:cNvPr id="90" name="4 CuadroTexto"/>
          <p:cNvSpPr/>
          <p:nvPr/>
        </p:nvSpPr>
        <p:spPr>
          <a:xfrm>
            <a:off x="1534320" y="71424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volución Proyecto HidroAys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5 CuadroTexto"/>
          <p:cNvSpPr/>
          <p:nvPr/>
        </p:nvSpPr>
        <p:spPr>
          <a:xfrm>
            <a:off x="214200" y="400068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otencia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2750 MW (30% de la potencia total actual del SI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Inversión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US$ 3.200.000.000.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ano de obra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2260 en la construcción y 140 en la ope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3 CuadroTexto"/>
          <p:cNvSpPr/>
          <p:nvPr/>
        </p:nvSpPr>
        <p:spPr>
          <a:xfrm>
            <a:off x="214200" y="1225440"/>
            <a:ext cx="8929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fensa del patrimonio cultural y ambiental de la zo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fectos nocivos en el turismo de la zo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ecesidad de implementar otros mecanismos para solucionar el tema energético, como eficiencia, y ER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fectos nocivos en la hidrogeológica y efectos ambientales comprob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sturas contra las líneas de transmisión para entregar la energía al 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4 CuadroTexto"/>
          <p:cNvSpPr/>
          <p:nvPr/>
        </p:nvSpPr>
        <p:spPr>
          <a:xfrm>
            <a:off x="1448280" y="571680"/>
            <a:ext cx="51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posición al Proyecto HidroAys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0722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Entes relevan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214200" y="1071720"/>
            <a:ext cx="807264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Estado: CONAMA, CNE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Grupos: 1-4-7-10-13-16-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14200" y="2571840"/>
            <a:ext cx="807264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Sociedad Civil: Ambientalistas, Comité de defensa de la Patagonía, Gremios,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Grupos: 2-5-8-11-14-17-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14200" y="4357800"/>
            <a:ext cx="807264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Empresa: HidroAysén, Contratistas,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Grupos: 3-6-9-12-15-18-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500040"/>
            <a:ext cx="70722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Trabajo Grup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357120" y="2071800"/>
            <a:ext cx="8501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Hoy: Cada grupo debe mencionar 3 o 4 puntos más importantes del he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Para próxima clase: Preparar Informe aplicando Metodología de Discernimiento É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oyecto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26920" y="1268280"/>
          <a:ext cx="7488360" cy="4781520"/>
        </p:xfrm>
        <a:graphic>
          <a:graphicData uri="http://schemas.openxmlformats.org/drawingml/2006/table">
            <a:tbl>
              <a:tblPr/>
              <a:tblGrid>
                <a:gridCol w="1656000"/>
                <a:gridCol w="5832360"/>
              </a:tblGrid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cción de Pl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30000"/>
                      </a:srgbClr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2,  Prueba prelimin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3,  Prueba fi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500040"/>
            <a:ext cx="70722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Corrientes Éticas en Misión de la U de Chi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428760" y="2143080"/>
            <a:ext cx="8072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Corrientes Éticas no se dan en formas “pura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Interpretaciones son subjetiv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No hay “respuestas correcta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500040"/>
            <a:ext cx="70722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¿Cómo Discerni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428760" y="2143080"/>
            <a:ext cx="8072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Metodología de Discernimiento É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857160" y="1000080"/>
            <a:ext cx="724860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642960" y="1643040"/>
            <a:ext cx="72072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500120" y="1143000"/>
            <a:ext cx="614376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500120" y="714240"/>
            <a:ext cx="681696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611360" y="428760"/>
            <a:ext cx="7103880" cy="56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357200" y="714240"/>
            <a:ext cx="705672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/>
  <dc:description/>
  <dc:language>en-US</dc:language>
  <cp:lastModifiedBy>Hector Agusto</cp:lastModifiedBy>
  <dcterms:modified xsi:type="dcterms:W3CDTF">2009-10-19T10:43:35Z</dcterms:modified>
  <cp:revision>54</cp:revision>
  <dc:subject/>
  <dc:title>EI1B2 clase semana 8</dc:title>
</cp:coreProperties>
</file>