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EB2-17D3-4DA3-944C-82B69FFF2D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2D4-527A-4FA7-BB6F-795AE5B090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CC84D90-AF9C-4A14-BF2E-AFA846289FA1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AD19-0180-47D0-BC4A-2C833A185A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65A5BD0-4079-4876-9405-52E750E95585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F85-4C38-498F-B5B1-8A0E86CD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84A-BE31-4D87-B295-5687582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8E1-F2D9-497B-AAF0-6EE75A7F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E1B-DC43-4A5B-877D-0A6DC8D5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8E7-B971-4BDD-8060-7ACF7F2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A36-B6EB-4132-B7A4-76C42280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1FF-F974-4479-BEFD-3688E29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B58-EFB0-4BF6-ABFA-1E29B39B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21B-86C9-453B-9D49-E6BD8281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84A-1A93-4E3C-92E0-E717968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513-CEE7-4333-8E68-A5270230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9BD-D42B-49ED-9783-1E0A9C4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D58-835F-4E6C-A898-98F4974469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2916360" y="2276640"/>
            <a:ext cx="80316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 flipH="1">
            <a:off x="4716360" y="2276640"/>
            <a:ext cx="80352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320364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2"/>
          <p:cNvSpPr/>
          <p:nvPr/>
        </p:nvSpPr>
        <p:spPr>
          <a:xfrm flipH="1">
            <a:off x="406728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31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2"/>
          <p:cNvCxnSpPr>
            <a:stCxn id="153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36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7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268280"/>
          <a:ext cx="7488360" cy="48769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549360"/>
          <a:ext cx="8229600" cy="5995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Pamela</cp:lastModifiedBy>
  <dcterms:modified xsi:type="dcterms:W3CDTF">2009-09-27T17:10:30Z</dcterms:modified>
  <cp:revision>10</cp:revision>
  <dc:subject/>
  <dc:title>Diapositiva 1</dc:title>
</cp:coreProperties>
</file>