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9DA0-A677-49C9-9734-82578C9158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1397-9783-442A-A107-85B635C119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B0382800-7C82-4BEC-83C5-B0A517563398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BBE7-3C15-46C0-9154-DAC2CCC761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F5375374-16D4-4519-833A-E912DD8C0F8D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19D-F01F-4789-B5CB-8891D65D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5B3-47B8-434F-A34D-A05CBD85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AB5-D9C6-4A8A-B765-6E335675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9BB-C8AE-4B1D-BB80-D43B0FBF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74F-12F0-4453-A6B2-F35C80D7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1D1-3BC8-472A-81E9-7BE4D7CE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C7D-EED5-4562-A4C6-D58DB5B7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7D2-D1EA-4425-86CF-20E0B814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E23-987D-4F65-95D4-80375789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DE1-67E4-4853-ADE7-9197AAC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8C2-A344-4333-82DE-BE51CBD9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958-0C9E-4F76-BEC6-E18B2EB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DC4E-49AF-4C5C-AF92-EE962464CF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92436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564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995640" y="1125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284720" y="836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572000" y="54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859280" y="260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2916360" y="2349360"/>
            <a:ext cx="208728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213440" y="3213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26520" y="134136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1619280" y="1628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718520" y="476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x4x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H="1">
            <a:off x="3995640" y="83664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737400" y="692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óvil autopropul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5364000" y="979560"/>
            <a:ext cx="14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2916360" y="2276640"/>
            <a:ext cx="803160" cy="574560"/>
          </a:xfrm>
          <a:prstGeom prst="pie">
            <a:avLst/>
          </a:pr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 flipH="1">
            <a:off x="4716360" y="2276640"/>
            <a:ext cx="803520" cy="574560"/>
          </a:xfrm>
          <a:prstGeom prst="pie">
            <a:avLst/>
          </a:pr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2914560" y="2781360"/>
            <a:ext cx="14472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5435640" y="2781360"/>
            <a:ext cx="14436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254520" y="2925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m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1547640" y="2924280"/>
            <a:ext cx="1368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3095640" y="1557360"/>
            <a:ext cx="539640" cy="809640"/>
          </a:xfrm>
          <a:prstGeom prst="cube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900000" y="5084640"/>
            <a:ext cx="532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635280" y="1628640"/>
            <a:ext cx="432000" cy="719280"/>
          </a:xfrm>
          <a:prstGeom prst="cube">
            <a:avLst>
              <a:gd name="adj" fmla="val 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348000" y="1700280"/>
            <a:ext cx="216000" cy="431640"/>
          </a:xfrm>
          <a:prstGeom prst="cube">
            <a:avLst>
              <a:gd name="adj" fmla="val 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 flipV="1">
            <a:off x="320364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718160" y="3573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42520" y="135900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1835280" y="1646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V="1">
            <a:off x="4643280" y="2349000"/>
            <a:ext cx="0" cy="269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3203640" y="2349360"/>
            <a:ext cx="442800" cy="1079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2"/>
          <p:cNvSpPr/>
          <p:nvPr/>
        </p:nvSpPr>
        <p:spPr>
          <a:xfrm flipH="1">
            <a:off x="4067280" y="2349360"/>
            <a:ext cx="442800" cy="1079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320364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357640" y="2701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060720" y="3500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3635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4643280" y="62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y Ancho a definir por el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V="1">
            <a:off x="4211640" y="162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31"/>
          <p:cNvCxnSpPr/>
          <p:nvPr/>
        </p:nvCxnSpPr>
        <p:spPr>
          <a:xfrm flipV="1" rot="10800000">
            <a:off x="3923640" y="906840"/>
            <a:ext cx="57708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32"/>
          <p:cNvCxnSpPr>
            <a:stCxn id="153" idx="2"/>
          </p:cNvCxnSpPr>
          <p:nvPr/>
        </p:nvCxnSpPr>
        <p:spPr>
          <a:xfrm rot="5400000">
            <a:off x="4640400" y="905400"/>
            <a:ext cx="72756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26920" y="141300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1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1 -&gt;Mejoras (M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36"/>
          <p:cNvSpPr/>
          <p:nvPr/>
        </p:nvSpPr>
        <p:spPr>
          <a:xfrm>
            <a:off x="179280" y="4365720"/>
            <a:ext cx="540000" cy="503280"/>
          </a:xfrm>
          <a:prstGeom prst="rightArrow">
            <a:avLst>
              <a:gd name="adj1" fmla="val 52306"/>
              <a:gd name="adj2" fmla="val 368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7"/>
          <p:cNvSpPr/>
          <p:nvPr/>
        </p:nvSpPr>
        <p:spPr>
          <a:xfrm>
            <a:off x="0" y="5229360"/>
            <a:ext cx="682560" cy="431640"/>
          </a:xfrm>
          <a:prstGeom prst="rightArrow">
            <a:avLst>
              <a:gd name="adj1" fmla="val 50000"/>
              <a:gd name="adj2" fmla="val 39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s EI11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9640" y="2205000"/>
            <a:ext cx="79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yecto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seño, Implementación y Puesta en marcha de un sistema de Transporte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1268280"/>
          <a:ext cx="7488360" cy="487692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549360"/>
          <a:ext cx="8229600" cy="5995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8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yecto consiste en el diseño, implementación y puesta en marcha de un prototipo funcional. Este prototipo debe ser capaz de transportar y descargar en un determinado lugar  un elemento específic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S DEL PROTO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totipo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ransport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na carga (80x40x40 mm aprox.)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utónomamente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por una distancia de 500 mm, entrar en la zona de descarga, ayudado por rieles de 20 mm de alto que lo encaminan. Allí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tenerse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scarg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n una plataforma de 100x150x50mm, y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ntinu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u marcha despejando la zona de descarg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arga transportada no debe ser volteada (siempre vertica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 dimensiones del móvil son definidas por el equip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versión final se realzará en un material plástico (POM) para lo cual se deben generar planos de las piezas en Solid Edge 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materiales disponibles para cada grupo s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ástico (POM) 3 mm de espesor 300 x 4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mbre de acer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,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s de ac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ás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684360" y="443700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116000" y="436572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332000" y="378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763640" y="3718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979640" y="314172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411280" y="30700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627280" y="2492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059280" y="242100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276720" y="1844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3708360" y="177336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4211640" y="1270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Pamela</cp:lastModifiedBy>
  <dcterms:modified xsi:type="dcterms:W3CDTF">2009-09-27T17:10:30Z</dcterms:modified>
  <cp:revision>10</cp:revision>
  <dc:subject/>
  <dc:title>Diapositiva 1</dc:title>
</cp:coreProperties>
</file>