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900C-47EB-4CF6-AFE9-1D9651B9C3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6DDB-7050-4156-8E94-6DCD5E08E0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61EBA7D0-1530-4B5D-9387-E52BA3296200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B323-7B1A-47C5-9885-9A22F7C989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C2DB9731-BEF9-44FE-BA3F-B48D09C21CA4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02D-74CE-465E-B458-210F21E0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3B2-7B08-4DBE-B18C-7E772382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059-418F-474B-8B82-7944CBEE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11B-D2B5-4107-A1A3-519A8215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2EF-A678-4FAA-BDFF-1CF743E1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06D-9F95-4B76-B2CA-AC92D5A9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EC7-2676-43CE-A6AC-5C4685AF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2A0-1D63-4FF2-A81D-C6A7210C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D40-8E60-418A-A16F-90E5DE56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CDA-31EC-4BA0-8A35-54F84C5C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516-70CE-4906-89A4-2A246C09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895-AA2C-471D-978F-668FF08E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D8BA-A77F-4110-9A66-C88712BC96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284720" y="5300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392436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3564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3995640" y="1125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4284720" y="83664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4572000" y="549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859280" y="26028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V="1">
            <a:off x="2916360" y="2349360"/>
            <a:ext cx="2087280" cy="24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213440" y="3213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26520" y="134136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a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x10x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1619280" y="162864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718520" y="47628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x4x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 flipH="1">
            <a:off x="3995640" y="83664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737400" y="69228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óvil autopropul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5364000" y="979560"/>
            <a:ext cx="1440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6"/>
          <p:cNvSpPr/>
          <p:nvPr/>
        </p:nvSpPr>
        <p:spPr>
          <a:xfrm>
            <a:off x="2916360" y="2276640"/>
            <a:ext cx="803160" cy="574560"/>
          </a:xfrm>
          <a:prstGeom prst="pie">
            <a:avLst/>
          </a:pr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7"/>
          <p:cNvSpPr/>
          <p:nvPr/>
        </p:nvSpPr>
        <p:spPr>
          <a:xfrm flipH="1">
            <a:off x="4716360" y="2276640"/>
            <a:ext cx="803520" cy="574560"/>
          </a:xfrm>
          <a:prstGeom prst="pie">
            <a:avLst/>
          </a:pr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2914560" y="2781360"/>
            <a:ext cx="144720" cy="14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5435640" y="2781360"/>
            <a:ext cx="144360" cy="14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254520" y="29257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cm d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 flipV="1">
            <a:off x="1547640" y="2924280"/>
            <a:ext cx="1368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3095640" y="1557360"/>
            <a:ext cx="539640" cy="809640"/>
          </a:xfrm>
          <a:prstGeom prst="cube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900000" y="5084640"/>
            <a:ext cx="532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3635280" y="1628640"/>
            <a:ext cx="432000" cy="719280"/>
          </a:xfrm>
          <a:prstGeom prst="cube">
            <a:avLst>
              <a:gd name="adj" fmla="val 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3348000" y="1700280"/>
            <a:ext cx="216000" cy="431640"/>
          </a:xfrm>
          <a:prstGeom prst="cube">
            <a:avLst>
              <a:gd name="adj" fmla="val 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 flipV="1">
            <a:off x="3203640" y="234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718160" y="3573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42520" y="135900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a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x10x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1835280" y="1646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V="1">
            <a:off x="4643280" y="2349000"/>
            <a:ext cx="0" cy="269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3203640" y="2349360"/>
            <a:ext cx="442800" cy="10796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2"/>
          <p:cNvSpPr/>
          <p:nvPr/>
        </p:nvSpPr>
        <p:spPr>
          <a:xfrm flipH="1">
            <a:off x="4067280" y="2349360"/>
            <a:ext cx="442800" cy="10796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3"/>
          <p:cNvSpPr/>
          <p:nvPr/>
        </p:nvSpPr>
        <p:spPr>
          <a:xfrm>
            <a:off x="3203640" y="342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2357640" y="2701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060720" y="3500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3635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4643280" y="62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y Ancho a definir por el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0"/>
          <p:cNvSpPr/>
          <p:nvPr/>
        </p:nvSpPr>
        <p:spPr>
          <a:xfrm flipV="1">
            <a:off x="4211640" y="16286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31"/>
          <p:cNvCxnSpPr/>
          <p:nvPr/>
        </p:nvCxnSpPr>
        <p:spPr>
          <a:xfrm flipV="1" rot="10800000">
            <a:off x="3923640" y="906840"/>
            <a:ext cx="577080" cy="61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32"/>
          <p:cNvCxnSpPr>
            <a:stCxn id="153" idx="2"/>
          </p:cNvCxnSpPr>
          <p:nvPr/>
        </p:nvCxnSpPr>
        <p:spPr>
          <a:xfrm rot="5400000">
            <a:off x="4640400" y="905400"/>
            <a:ext cx="727560" cy="144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26920" y="1413000"/>
          <a:ext cx="7488360" cy="48765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1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1 -&gt;Mejoras (M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AutoShape 36"/>
          <p:cNvSpPr/>
          <p:nvPr/>
        </p:nvSpPr>
        <p:spPr>
          <a:xfrm>
            <a:off x="179280" y="4365720"/>
            <a:ext cx="540000" cy="503280"/>
          </a:xfrm>
          <a:prstGeom prst="rightArrow">
            <a:avLst>
              <a:gd name="adj1" fmla="val 52306"/>
              <a:gd name="adj2" fmla="val 368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7"/>
          <p:cNvSpPr/>
          <p:nvPr/>
        </p:nvSpPr>
        <p:spPr>
          <a:xfrm>
            <a:off x="0" y="5229360"/>
            <a:ext cx="682560" cy="431640"/>
          </a:xfrm>
          <a:prstGeom prst="rightArrow">
            <a:avLst>
              <a:gd name="adj1" fmla="val 50000"/>
              <a:gd name="adj2" fmla="val 395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L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s EI11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39640" y="2205000"/>
            <a:ext cx="7920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yecto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iseño, Implementación y Puesta en marcha de un sistema de Transporte de car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26920" y="1268280"/>
          <a:ext cx="7488360" cy="487692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549360"/>
          <a:ext cx="8229600" cy="5995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DEL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8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royecto consiste en el diseño, implementación y puesta en marcha de un prototipo funcional. Este prototipo debe ser capaz de transportar y descargar en un determinado lugar  un elemento específic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ERIMIENTOS DEL PROTO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rototipo debe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ransport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na carga (80x40x40 mm aprox.)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utónomamente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por una distancia de 500 mm, entrar en la zona de descarga, ayudado por rieles de 20 mm de alto que lo encaminan. Allí debe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tenerse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scarg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n una plataforma de 100x150x50mm, y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ntinu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u marcha despejando la zona de descarg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arga transportada no debe ser volteada (siempre vertical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 dimensiones del móvil son definidas por el equip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versión final se realzará en un material plástico (POM) para lo cual se deben generar planos de las piezas en Solid Edge 1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s materiales disponibles para cada grupo s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ástico (POM) 3 mm de espesor 300 x 40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ambre de acero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,5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s de ac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ást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684360" y="443700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116000" y="436572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1332000" y="3789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1763640" y="371808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979640" y="314172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411280" y="30700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627280" y="249228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3059280" y="242100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3276720" y="184464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3708360" y="177336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4211640" y="127008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7:05:07Z</dcterms:created>
  <dc:creator>Uchile</dc:creator>
  <dc:description/>
  <dc:language>en-US</dc:language>
  <cp:lastModifiedBy>Pamela</cp:lastModifiedBy>
  <dcterms:modified xsi:type="dcterms:W3CDTF">2009-09-27T17:10:30Z</dcterms:modified>
  <cp:revision>10</cp:revision>
  <dc:subject/>
  <dc:title>Diapositiva 1</dc:title>
</cp:coreProperties>
</file>