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93D3-FBAB-4D5F-A7A6-80D72755B7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6C6E5789-02D6-4E56-89F0-2F5A5AC7124B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993C39EE-6D9D-4DBA-9EA2-E720C9D9938F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92C-0A0D-4AEE-9543-31A31AE8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79D-8AC8-4DE1-8BDD-0CE6F1F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E45-C04C-40B5-BAC8-C617E18B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3C0-13FB-4C4E-ACE9-82F81789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6AE-8A30-4BF7-9538-27DC314A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4CC-FE69-461B-8CF2-821F3D3E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005-4AF8-45DA-8895-D475602D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98E-6FD1-4343-AB11-229312C5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7DB-791B-4929-A0DF-42A80ADA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0CB-D471-417F-B087-C1293563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D6C-E66B-446A-A7E3-E0AE192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EB7-A4A7-4B86-B650-1B479A20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DFF5-484C-42C8-8C24-D2D6ECC94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1125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836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4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60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916360" y="2349360"/>
            <a:ext cx="208728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3440" y="3213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520" y="134136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1628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8520" y="476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x4x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95640" y="836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7400" y="692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óvil autopropul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64000" y="97956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276640"/>
            <a:ext cx="803160" cy="57456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16360" y="2276640"/>
            <a:ext cx="803520" cy="57456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4560" y="2781360"/>
            <a:ext cx="14472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2781360"/>
            <a:ext cx="14436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4520" y="2925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m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47640" y="292428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5640" y="1557360"/>
            <a:ext cx="539640" cy="809640"/>
          </a:xfrm>
          <a:prstGeom prst="cube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08464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1628640"/>
            <a:ext cx="432000" cy="719280"/>
          </a:xfrm>
          <a:prstGeom prst="cube">
            <a:avLst>
              <a:gd name="adj" fmla="val 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1700280"/>
            <a:ext cx="216000" cy="431640"/>
          </a:xfrm>
          <a:prstGeom prst="cube">
            <a:avLst>
              <a:gd name="adj" fmla="val 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0364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160" y="3573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2520" y="135900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164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43280" y="2349000"/>
            <a:ext cx="0" cy="269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349360"/>
            <a:ext cx="442800" cy="107964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067280" y="2349360"/>
            <a:ext cx="442800" cy="107964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57640" y="2701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500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62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o y Ancho a definir por el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11640" y="162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V="1" rot="10800000">
            <a:off x="3923640" y="906840"/>
            <a:ext cx="57708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2" idx="2"/>
          </p:cNvCxnSpPr>
          <p:nvPr/>
        </p:nvCxnSpPr>
        <p:spPr>
          <a:xfrm rot="5400000">
            <a:off x="4640400" y="905400"/>
            <a:ext cx="72756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6920" y="141300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1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1 -&gt;Mejoras (M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79280" y="4365720"/>
            <a:ext cx="540000" cy="503280"/>
          </a:xfrm>
          <a:prstGeom prst="rightArrow">
            <a:avLst>
              <a:gd name="adj1" fmla="val 52306"/>
              <a:gd name="adj2" fmla="val 368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229360"/>
            <a:ext cx="682560" cy="431640"/>
          </a:xfrm>
          <a:prstGeom prst="rightArrow">
            <a:avLst>
              <a:gd name="adj1" fmla="val 50000"/>
              <a:gd name="adj2" fmla="val 39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EI1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20500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ño, Implementación y Puesta en marcha de un sistema de Transporte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26828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549360"/>
          <a:ext cx="8229600" cy="5999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yecto consiste en el diseño, implementación y puesta en marcha de un prototipo funcional. Este prototipo debe ser capaz de transportar y descargar en un determinado lugar  un elemento específ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S DEL PROTO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totipo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ransport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na carga (80x40x40 mm aprox.)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utónomamente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por una distancia de 500 mm, entrar en la zona de descarga, ayudado por rieles de 20 mm de alto que lo encaminan. Allí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tenerse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scarg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n una plataforma de 100x150x50mm, y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tinu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u marcha despejando la zona de descarg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arga transportada no debe ser volteada (siempre vertica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 dimensiones del móvil son definidas por el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versión final se realzará en un material plástico (POM) para lo cual se deben generar planos de las piezas en Solid Edge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materiales disponibles para cada grupo 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ástico (POM) 3 mm de espesor 300 x 4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mbre de acer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,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s de 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á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43700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436572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78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3718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314172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30700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2492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242100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844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77336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1270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Laboratorio de Fluidos</cp:lastModifiedBy>
  <dcterms:modified xsi:type="dcterms:W3CDTF">2009-08-25T14:04:19Z</dcterms:modified>
  <cp:revision>11</cp:revision>
  <dc:subject/>
  <dc:title>Diapositiva 1</dc:title>
</cp:coreProperties>
</file>