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466-A6DF-4080-89E9-65EBB7C281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AF23E2F-349C-485F-88C2-BC6B8D3B9D88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051B0DAF-7CD6-4CF9-B10E-4B3071DF2A35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1C3-D332-4844-B7B9-3CE4F73B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3BA8-23ED-4954-A557-500EC993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BFBA-C97F-46C9-B1BA-30D6417A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DDCC-772A-407B-A169-A39BC7CB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EC3C-515C-4E02-8F34-C95AC97D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DDA1-FBE7-405D-B917-10224DFD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DDC-5EAE-4EA3-B304-59D124F9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16A-3385-4E8F-91D0-DECB139D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41F-DA62-4411-B481-92F2A858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5133-5040-4938-A5D0-71FB004F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FFE-015E-406E-8E4A-1F2532C2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141-445C-4318-B2DB-2D1BC1AC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16A1-23DD-4A8F-A6CC-9019DCD11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64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1125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836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4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60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8000" y="12682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916360" y="2349360"/>
            <a:ext cx="2087280" cy="244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3440" y="32130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6520" y="134136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19280" y="162864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18520" y="476280"/>
            <a:ext cx="11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x4x4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995640" y="836640"/>
            <a:ext cx="720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37400" y="692280"/>
            <a:ext cx="23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yec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óvil autopropuls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364000" y="979560"/>
            <a:ext cx="144000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16360" y="2276640"/>
            <a:ext cx="80316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716360" y="2276640"/>
            <a:ext cx="803520" cy="57456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14560" y="2781360"/>
            <a:ext cx="14472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35640" y="2781360"/>
            <a:ext cx="144360" cy="14436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4520" y="292572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e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 cm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547640" y="292428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95640" y="1557360"/>
            <a:ext cx="539640" cy="809640"/>
          </a:xfrm>
          <a:prstGeom prst="cube">
            <a:avLst>
              <a:gd name="adj" fmla="val 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084640"/>
            <a:ext cx="532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5280" y="1628640"/>
            <a:ext cx="432000" cy="719280"/>
          </a:xfrm>
          <a:prstGeom prst="cube">
            <a:avLst>
              <a:gd name="adj" fmla="val 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1700280"/>
            <a:ext cx="216000" cy="431640"/>
          </a:xfrm>
          <a:prstGeom prst="cube">
            <a:avLst>
              <a:gd name="adj" fmla="val 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20364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8160" y="3573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42520" y="1359000"/>
            <a:ext cx="14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tafor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5x10x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5280" y="164628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643280" y="2349000"/>
            <a:ext cx="0" cy="269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067280" y="2349360"/>
            <a:ext cx="442800" cy="1079640"/>
          </a:xfrm>
          <a:custGeom>
            <a:avLst/>
            <a:gdLst/>
            <a:ahLst/>
            <a:rect l="l" t="t" r="r" b="b"/>
            <a:pathLst>
              <a:path w="279" h="680">
                <a:moveTo>
                  <a:pt x="272" y="0"/>
                </a:moveTo>
                <a:cubicBezTo>
                  <a:pt x="272" y="15"/>
                  <a:pt x="272" y="30"/>
                  <a:pt x="272" y="45"/>
                </a:cubicBezTo>
                <a:cubicBezTo>
                  <a:pt x="272" y="60"/>
                  <a:pt x="279" y="45"/>
                  <a:pt x="272" y="90"/>
                </a:cubicBezTo>
                <a:cubicBezTo>
                  <a:pt x="265" y="135"/>
                  <a:pt x="257" y="234"/>
                  <a:pt x="227" y="317"/>
                </a:cubicBezTo>
                <a:cubicBezTo>
                  <a:pt x="197" y="400"/>
                  <a:pt x="129" y="529"/>
                  <a:pt x="91" y="589"/>
                </a:cubicBezTo>
                <a:cubicBezTo>
                  <a:pt x="53" y="649"/>
                  <a:pt x="26" y="664"/>
                  <a:pt x="0" y="680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429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357640" y="2701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60720" y="350028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55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620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o y Ancho a definir por el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11640" y="16286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/>
          <p:nvPr/>
        </p:nvCxnSpPr>
        <p:spPr>
          <a:xfrm flipV="1" rot="10800000">
            <a:off x="3923640" y="906840"/>
            <a:ext cx="577080" cy="6166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2" idx="2"/>
          </p:cNvCxnSpPr>
          <p:nvPr/>
        </p:nvCxnSpPr>
        <p:spPr>
          <a:xfrm rot="5400000">
            <a:off x="4640400" y="905400"/>
            <a:ext cx="727560" cy="1440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41300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1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1 -&gt;Mejoras (M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ebas Modelo 2 -&gt;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79280" y="4365720"/>
            <a:ext cx="540000" cy="503280"/>
          </a:xfrm>
          <a:prstGeom prst="rightArrow">
            <a:avLst>
              <a:gd name="adj1" fmla="val 52306"/>
              <a:gd name="adj2" fmla="val 368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229360"/>
            <a:ext cx="682560" cy="431640"/>
          </a:xfrm>
          <a:prstGeom prst="rightArrow">
            <a:avLst>
              <a:gd name="adj1" fmla="val 50000"/>
              <a:gd name="adj2" fmla="val 395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L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s EI11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2205000"/>
            <a:ext cx="7920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yecto 2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eño, Implementación y Puesta en marcha de un sistema de Transporte de car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2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1268280"/>
          <a:ext cx="7488360" cy="48765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Diseño-&gt; mejora pl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2,  Prueba prelimin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cción 3,  Prueba fi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ciones fin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549360"/>
          <a:ext cx="8229600" cy="5999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ÓN DEL PROYEC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8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yecto consiste en el diseño, implementación y puesta en marcha de un prototipo funcional. Este prototipo debe ser capaz de transportar y descargar en un determinado lugar  un elemento específic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ERIMIENTOS DEL PROTO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 prototipo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transport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una carga (80x40x40 mm aprox.)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autónomamente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por una distancia de 500 mm, entrar en la zona de descarga, ayudado por rieles de 20 mm de alto que lo encaminan. Allí debe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tenerse</a:t>
                      </a: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descarg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n una plataforma de 100x150x50mm, y </a:t>
                      </a:r>
                      <a:r>
                        <a:rPr b="1" lang="es-MX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continuar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su marcha despejando la zona de descarg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arga transportada no debe ser volteada (siempre vertical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s dimensiones del móvil son definidas por el equip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versión final se realzará en un material plástico (POM) para lo cual se deben generar planos de las piezas en Solid Edge 1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s materiales disponibles para cada grupo son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ástico (POM) 3 mm de espesor 300 x 400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mbre de acero 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,5 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jes de ac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ást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633680" indent="-285840" algn="just"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43700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16000" y="436572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789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3718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9640" y="314172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3070080"/>
            <a:ext cx="720720" cy="64800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249228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59280" y="242100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1844640"/>
            <a:ext cx="158436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8360" y="177336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43280" y="1341360"/>
            <a:ext cx="1584360" cy="1006560"/>
          </a:xfrm>
          <a:prstGeom prst="cube">
            <a:avLst>
              <a:gd name="adj" fmla="val 65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2560" y="2349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479736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1341360"/>
            <a:ext cx="1584000" cy="1006560"/>
          </a:xfrm>
          <a:prstGeom prst="cube">
            <a:avLst>
              <a:gd name="adj" fmla="val 6574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11640" y="1270080"/>
            <a:ext cx="720720" cy="647640"/>
          </a:xfrm>
          <a:prstGeom prst="cube">
            <a:avLst>
              <a:gd name="adj" fmla="val 44148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Laboratorio de Fluidos</cp:lastModifiedBy>
  <dcterms:modified xsi:type="dcterms:W3CDTF">2009-08-25T14:04:19Z</dcterms:modified>
  <cp:revision>11</cp:revision>
  <dc:subject/>
  <dc:title>Diapositiva 1</dc:title>
</cp:coreProperties>
</file>