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D2CC-121D-4BCE-9998-E19FCCEB56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1C66FC9A-2BBD-4EDA-9508-65A462A4C625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D5BF55BA-5695-4F6F-B00C-0263D23F8015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18E-5BAE-4E9D-B1B7-3612DA14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E5D-DF45-4655-BCD6-C0854B2B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E4D3-4031-4134-9471-CCAF4217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25F-5CE1-4BFB-ADC9-F2FADE68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B72-8CD6-4C6F-AAB2-ECD4CA5B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9B8-DDE8-4120-BD85-A3D06F1E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B06-698B-4339-A121-77CF6667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0F1-33BE-4001-8029-5BA3A45B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D3F-EB6A-4B4F-ABAC-1AEA7FEB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98A-C593-4C93-AA92-AA61DC2D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00B-9C7E-4933-9C54-79583008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55B-796E-4806-B5F3-3B0CF5CC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59BB-D534-42A3-8D3A-65E1F4BC3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1125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836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4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60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916360" y="2349360"/>
            <a:ext cx="208728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3440" y="3213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6520" y="134136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1628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8520" y="476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x4x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995640" y="83664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37400" y="69228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óvil autopropul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364000" y="979560"/>
            <a:ext cx="1440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2276640"/>
            <a:ext cx="803160" cy="57456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716360" y="2276640"/>
            <a:ext cx="803520" cy="57456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4560" y="2781360"/>
            <a:ext cx="14472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2781360"/>
            <a:ext cx="14436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4520" y="29257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cm d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547640" y="2924280"/>
            <a:ext cx="1368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95640" y="1557360"/>
            <a:ext cx="539640" cy="809640"/>
          </a:xfrm>
          <a:prstGeom prst="cube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084640"/>
            <a:ext cx="532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1628640"/>
            <a:ext cx="432000" cy="719280"/>
          </a:xfrm>
          <a:prstGeom prst="cube">
            <a:avLst>
              <a:gd name="adj" fmla="val 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1700280"/>
            <a:ext cx="216000" cy="431640"/>
          </a:xfrm>
          <a:prstGeom prst="cube">
            <a:avLst>
              <a:gd name="adj" fmla="val 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203640" y="234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8160" y="3573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2520" y="135900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1646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643280" y="2349000"/>
            <a:ext cx="0" cy="269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2349360"/>
            <a:ext cx="442800" cy="107964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067280" y="2349360"/>
            <a:ext cx="442800" cy="107964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42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57640" y="2701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3500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62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o y Ancho a definir por el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11640" y="16286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/>
          <p:nvPr/>
        </p:nvCxnSpPr>
        <p:spPr>
          <a:xfrm flipV="1" rot="10800000">
            <a:off x="3923640" y="906840"/>
            <a:ext cx="577080" cy="61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2" idx="2"/>
          </p:cNvCxnSpPr>
          <p:nvPr/>
        </p:nvCxnSpPr>
        <p:spPr>
          <a:xfrm rot="5400000">
            <a:off x="4640400" y="905400"/>
            <a:ext cx="727560" cy="144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26920" y="1413000"/>
          <a:ext cx="7488360" cy="48765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1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1 -&gt;Mejoras (M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79280" y="4365720"/>
            <a:ext cx="540000" cy="503280"/>
          </a:xfrm>
          <a:prstGeom prst="rightArrow">
            <a:avLst>
              <a:gd name="adj1" fmla="val 52306"/>
              <a:gd name="adj2" fmla="val 368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229360"/>
            <a:ext cx="682560" cy="431640"/>
          </a:xfrm>
          <a:prstGeom prst="rightArrow">
            <a:avLst>
              <a:gd name="adj1" fmla="val 50000"/>
              <a:gd name="adj2" fmla="val 395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EI11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205000"/>
            <a:ext cx="7920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yecto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eño, Implementación y Puesta en marcha de un sistema de Transporte de car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26920" y="1268280"/>
          <a:ext cx="7488360" cy="48765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549360"/>
          <a:ext cx="8229600" cy="59990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DE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8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yecto consiste en el diseño, implementación y puesta en marcha de un prototipo funcional. Este prototipo debe ser capaz de transportar y descargar en un determinado lugar  un elemento específic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RIMIENTOS DEL PROTO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totipo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ransport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na carga (80x40x40 mm aprox.)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utónomamente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por una distancia de 500 mm, entrar en la zona de descarga, ayudado por rieles de 20 mm de alto que lo encaminan. Allí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tenerse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scarg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n una plataforma de 100x150x50mm, y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ntinu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u marcha despejando la zona de descarg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arga transportada no debe ser volteada (siempre vertica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 dimensiones del móvil son definidas por el equip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versión final se realzará en un material plástico (POM) para lo cual se deben generar planos de las piezas en Solid Edge 1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s materiales disponibles para cada grupo s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ástico (POM) 3 mm de espesor 300 x 40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ambre de acero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,5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s de ac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ást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43700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436572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78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3718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314172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30700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2492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9280" y="242100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844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77336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1270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Laboratorio de Fluidos</cp:lastModifiedBy>
  <dcterms:modified xsi:type="dcterms:W3CDTF">2009-08-25T14:04:19Z</dcterms:modified>
  <cp:revision>11</cp:revision>
  <dc:subject/>
  <dc:title>Diapositiva 1</dc:title>
</cp:coreProperties>
</file>