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CE8-AAA4-4F49-A524-C50FFCEF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446-B6BC-4280-9CB9-88390630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C8B-8534-4AEC-BC9E-71E8C325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408C-718B-4EA0-AF46-7544956F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563-437B-406E-BA97-ADC3A099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91B-04EF-4E68-8265-94B260B9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35C-D366-4A85-88CC-39260784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BD7-79ED-489E-A1C0-CC40BEBD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547F-33ED-4B1B-98A5-71498F79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28A-309D-443C-A388-C5974382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C43-3E2B-4456-B388-B5309A65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6CD-3E1E-411E-90E5-8F4D64A3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4997-B15F-4773-8818-E860EBE21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: Partes /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4 CuadroTexto"/>
          <p:cNvSpPr/>
          <p:nvPr/>
        </p:nvSpPr>
        <p:spPr>
          <a:xfrm>
            <a:off x="1005120" y="157176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%  Tarea lluvia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5 CuadroTexto"/>
          <p:cNvSpPr/>
          <p:nvPr/>
        </p:nvSpPr>
        <p:spPr>
          <a:xfrm>
            <a:off x="1004040" y="235728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%  Modelo en cartón pluma  (Se evalúa ho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6 CuadroTexto"/>
          <p:cNvSpPr/>
          <p:nvPr/>
        </p:nvSpPr>
        <p:spPr>
          <a:xfrm>
            <a:off x="1049400" y="3284640"/>
            <a:ext cx="495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0% Planos de piezas (Solid E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ir a U-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7 CuadroTexto"/>
          <p:cNvSpPr/>
          <p:nvPr/>
        </p:nvSpPr>
        <p:spPr>
          <a:xfrm>
            <a:off x="1044720" y="443700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60% Informe. Subir a U-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Apé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1484280"/>
            <a:ext cx="74883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ferencias (Bibliografía, vínculo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cripción de Partes y pie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ual de fabricación/ensam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ual de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agramas de Cuerpo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talle de cálculo de costos- evalu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26920" y="1413000"/>
          <a:ext cx="7488360" cy="41781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amiento del Proyecto, Investigación pers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ción de Grupos: Lluvia de Ideas, Bosque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 e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826920" y="4581360"/>
            <a:ext cx="7490160" cy="122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yecto 1: Informe - E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58920" y="907920"/>
          <a:ext cx="6553080" cy="5448240"/>
        </p:xfrm>
        <a:graphic>
          <a:graphicData uri="http://schemas.openxmlformats.org/drawingml/2006/table">
            <a:tbl>
              <a:tblPr/>
              <a:tblGrid>
                <a:gridCol w="750600"/>
                <a:gridCol w="4994280"/>
                <a:gridCol w="80820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P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Pt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1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Portada y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Resumen  Ejecu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3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Introducción a la Ex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4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Resultad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5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Discus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6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Conclus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7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Apéndic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Port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62520" y="1584360"/>
            <a:ext cx="68554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ar modelo – Respetar Normas grá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mbre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mbr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ormación Curso-S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gr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Res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62160" y="1584360"/>
            <a:ext cx="32144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áximo una pl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ué se hi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1125360"/>
            <a:ext cx="813564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cribir marco, (curso, proyec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bjetivos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odología (Pasos 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ecedentes particulares del producto diseñado (qué resuelve, cómo se hace actualmente, productos existentes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nvestig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ultados esperados (funcionará?, costo?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orme: Desarrollo -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1125360"/>
            <a:ext cx="72010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cribir etapas y resultado de cada 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deas Individ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luvia de ideas -Bosqu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t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eño final (descripción diseño y funcionami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1125360"/>
            <a:ext cx="72010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entajas- desvent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aración con productos exist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stos – Evaluación producto, evaluación ahorros (si apl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joras po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teriales altern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1341360"/>
            <a:ext cx="72010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Logro de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Cumplimiento de 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ff"/>
                </a:solidFill>
                <a:latin typeface="Arial"/>
              </a:rPr>
              <a:t>Aportes del diseño (creatividad, innov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Problemas en la ejecución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WinuE</cp:lastModifiedBy>
  <dcterms:modified xsi:type="dcterms:W3CDTF">2009-08-19T01:40:27Z</dcterms:modified>
  <cp:revision>59</cp:revision>
  <dc:subject/>
  <dc:title>EI1B2 Introducción a la Ingeneiría II</dc:title>
</cp:coreProperties>
</file>