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6A0C-345C-4665-9B6C-B40B6475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4362-8994-4A24-AC28-C3069CF8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E51B-3F84-4C97-A4A6-0554722E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E8EE-23D4-45FE-B5E7-65BDF68BA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827F-0A44-4649-AE4B-1C85B8C6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A7E1-428D-4582-8E70-1127E65D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F8C-6829-4889-AF63-A16C3CD3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7F57-5D9E-487B-90CC-3A74DDB3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8E35-5DD3-4C6A-87B3-F399F2C2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0EBF-F577-463B-ACC1-1DA9E7E2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E7E9-D689-455B-A926-278D061E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222B-947E-4E9D-B8E6-928832A8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1CF2-E7DF-4BFF-B6F3-CBFA0C0B3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: Partes /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4 CuadroTexto"/>
          <p:cNvSpPr/>
          <p:nvPr/>
        </p:nvSpPr>
        <p:spPr>
          <a:xfrm>
            <a:off x="1005120" y="157176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%  Tarea lluvia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5 CuadroTexto"/>
          <p:cNvSpPr/>
          <p:nvPr/>
        </p:nvSpPr>
        <p:spPr>
          <a:xfrm>
            <a:off x="1004040" y="2357280"/>
            <a:ext cx="65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%  Modelo en cartón pluma  (Se evalúa ho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6 CuadroTexto"/>
          <p:cNvSpPr/>
          <p:nvPr/>
        </p:nvSpPr>
        <p:spPr>
          <a:xfrm>
            <a:off x="1049400" y="3284640"/>
            <a:ext cx="495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0% Planos de piezas (Solid Ed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bir a U-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7 CuadroTexto"/>
          <p:cNvSpPr/>
          <p:nvPr/>
        </p:nvSpPr>
        <p:spPr>
          <a:xfrm>
            <a:off x="1044720" y="443700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60% Informe. Subir a U-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Apénd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1484280"/>
            <a:ext cx="74883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ferencias (Bibliografía, vínculo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scripción de Partes y piez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nual de fabricación/ensam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nual de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agramas de Cuerpo 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talle de cálculo de costos- evalu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: Plan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26920" y="1413000"/>
          <a:ext cx="7488360" cy="417816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eamiento del Proyecto, Investigación pers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ción de Grupos: Lluvia de Ideas, Bosque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en Cartón Pl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 e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826920" y="4581360"/>
            <a:ext cx="7490160" cy="1224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yecto 1: Informe - E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58920" y="907920"/>
          <a:ext cx="6553080" cy="5448240"/>
        </p:xfrm>
        <a:graphic>
          <a:graphicData uri="http://schemas.openxmlformats.org/drawingml/2006/table">
            <a:tbl>
              <a:tblPr/>
              <a:tblGrid>
                <a:gridCol w="750600"/>
                <a:gridCol w="4994280"/>
                <a:gridCol w="80820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P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Pt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1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Portada y 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2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Resumen  Ejecu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3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Introducción a la Ex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4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Resultad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5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Discus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6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Conclus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7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Apéndic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Port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62520" y="1584360"/>
            <a:ext cx="685548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ar modelo – Respetar Normas grá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mbre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mbr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formación Curso-Se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gr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Res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62160" y="1584360"/>
            <a:ext cx="321444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áximo una pl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Qué se hi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1125360"/>
            <a:ext cx="813564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scribir marco, (curso, proyec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bjetivos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odología (Pasos diseñ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tecedentes particulares del producto diseñado (qué resuelve, cómo se hace actualmente, productos existentes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nvestig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ultados esperados (funcionará?, costo?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forme: Desarrollo -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1125360"/>
            <a:ext cx="72010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scribir etapas y resultado de cada 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deas Individ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luvia de ideas -Bosque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to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eño final (descripción diseño y funcionami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Disc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1125360"/>
            <a:ext cx="720108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entajas- desventa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aración con productos exist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stos – Evaluación producto, evaluación ahorros (si apl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joras po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teriales altern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1341360"/>
            <a:ext cx="72010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Logro de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Cumplimiento de 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ff"/>
                </a:solidFill>
                <a:latin typeface="Arial"/>
              </a:rPr>
              <a:t>Aportes del diseño (creatividad, innov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Problemas en la ejecución d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WinuE</cp:lastModifiedBy>
  <dcterms:modified xsi:type="dcterms:W3CDTF">2009-08-19T01:40:27Z</dcterms:modified>
  <cp:revision>59</cp:revision>
  <dc:subject/>
  <dc:title>EI1B2 Introducción a la Ingeneiría II</dc:title>
</cp:coreProperties>
</file>