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55F-0E95-4534-B429-85F91B2D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A3A-C27A-458A-B15E-041D6CEC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3FD-62F7-4D34-98D3-6690A9C2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498-B1D7-4B10-AA2A-F48A001F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E67-92C9-4FE2-A115-9D873987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FB1-3A60-4C49-B583-6C6168B8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813-FBE8-4807-BF85-D22DEFB1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E814-5403-49AC-80D4-109E0C75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970-C8BC-49C4-BDD6-7AA04A8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F0A-91A3-4016-941F-4222B00F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B93-4B36-45A8-8071-8F1128DC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874-8E53-4B7E-AD2F-F9948C50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2D39-105B-4ED1-B9FB-DE8C667AE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artes /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1005120" y="157176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%  Tarea lluvia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5 CuadroTexto"/>
          <p:cNvSpPr/>
          <p:nvPr/>
        </p:nvSpPr>
        <p:spPr>
          <a:xfrm>
            <a:off x="1004040" y="23572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%  Modelo en cartón pluma  (Se evalúa ho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6 CuadroTexto"/>
          <p:cNvSpPr/>
          <p:nvPr/>
        </p:nvSpPr>
        <p:spPr>
          <a:xfrm>
            <a:off x="1049400" y="3284640"/>
            <a:ext cx="495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0% Planos de piezas (Solid 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ir a U-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 CuadroTexto"/>
          <p:cNvSpPr/>
          <p:nvPr/>
        </p:nvSpPr>
        <p:spPr>
          <a:xfrm>
            <a:off x="1044720" y="443700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60% Informe. Subir a U-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Apé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1484280"/>
            <a:ext cx="7488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ferencias (Bibliografía, vínculo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pción de Partes y pi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ual de fabricación/ens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ual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agramas de Cuerpo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alle de cálculo de costos- eval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1413000"/>
          <a:ext cx="7488360" cy="41781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Investigación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Grupos: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 e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826920" y="4581360"/>
            <a:ext cx="749016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1: Informe - 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58920" y="907920"/>
          <a:ext cx="6553080" cy="5448240"/>
        </p:xfrm>
        <a:graphic>
          <a:graphicData uri="http://schemas.openxmlformats.org/drawingml/2006/table">
            <a:tbl>
              <a:tblPr/>
              <a:tblGrid>
                <a:gridCol w="750600"/>
                <a:gridCol w="4994280"/>
                <a:gridCol w="8082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t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ortada y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Resumen  Ejecu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3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Introducción a la Ex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4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Resultad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Discu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6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Conclus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7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Apéndic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Por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2520" y="1584360"/>
            <a:ext cx="68554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ar modelo – Respetar Normas grá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mbr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mbr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ormación Curso-S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2160" y="1584360"/>
            <a:ext cx="3214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áximo una pl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é se hi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125360"/>
            <a:ext cx="8135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bir marco, (curso, proyec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jetivos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odología (Pasos 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ecedentes particulares del producto diseñado (qué resuelve, cómo se hace actualmente, productos existentes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vesti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ados esperados (funcionará?, costo?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orme: Desarrollo -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1125360"/>
            <a:ext cx="7201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bir etapas y resultado de cada 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as Individ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luvia de ideas -Bosqu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t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eño final (descripción diseño y funcion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1125360"/>
            <a:ext cx="72010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ntajas- desvent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ración con productos exis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stos – Evaluación producto, evaluación ahorros (si apl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joras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teriales altern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341360"/>
            <a:ext cx="7201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Logro de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Cumplimiento de 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Aportes del diseño (creatividad, innov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Problemas en la ejecución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WinuE</cp:lastModifiedBy>
  <dcterms:modified xsi:type="dcterms:W3CDTF">2009-08-19T01:40:27Z</dcterms:modified>
  <cp:revision>59</cp:revision>
  <dc:subject/>
  <dc:title>EI1B2 Introducción a la Ingeneiría II</dc:title>
</cp:coreProperties>
</file>