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451-2547-4E25-8B03-4F741DCD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496-F7F8-4756-9D98-2FDD0568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8CC-37A5-404E-9EA2-3FB31517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AAA-DE9E-4454-A3B7-D10943DC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C0C-5376-45E3-A7BA-6A3C1EDA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B6A-34B8-436F-BC6A-E94B64C6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267-D52B-4D94-BE93-53E47E5F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0C0-D954-4F96-8D37-6F719DC3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A81-DF82-4BE4-B2F0-436C0A21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CAB-4314-45C8-99B8-E36562DA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4A8-1268-41DE-A80C-75F7D56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4B4-FC02-4F42-A09B-716C117F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EFD4-E340-4A89-B6C2-59415B266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artes /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1005120" y="157176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Tarea lluvia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5 CuadroTexto"/>
          <p:cNvSpPr/>
          <p:nvPr/>
        </p:nvSpPr>
        <p:spPr>
          <a:xfrm>
            <a:off x="1004040" y="23572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Modelo en cartón pluma  (Se evalúa ho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6 CuadroTexto"/>
          <p:cNvSpPr/>
          <p:nvPr/>
        </p:nvSpPr>
        <p:spPr>
          <a:xfrm>
            <a:off x="1049400" y="3284640"/>
            <a:ext cx="495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% Planos de piezas (Solid 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 CuadroTexto"/>
          <p:cNvSpPr/>
          <p:nvPr/>
        </p:nvSpPr>
        <p:spPr>
          <a:xfrm>
            <a:off x="1044720" y="44370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60% Informe. 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Apé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484280"/>
            <a:ext cx="7488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ferencias (Bibliografía, vínculo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pción de Partes y pi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fabricación/ens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agramas de Cuerp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alle de cálculo de costos-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826920" y="4581360"/>
            <a:ext cx="749016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1: Informe - 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58920" y="907920"/>
          <a:ext cx="6553080" cy="5448240"/>
        </p:xfrm>
        <a:graphic>
          <a:graphicData uri="http://schemas.openxmlformats.org/drawingml/2006/table">
            <a:tbl>
              <a:tblPr/>
              <a:tblGrid>
                <a:gridCol w="750600"/>
                <a:gridCol w="4994280"/>
                <a:gridCol w="8082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t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ortada y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men  Ejecu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3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Introducción a la Ex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4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ltad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Disc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6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Conclus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7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Apéndi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Por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2520" y="1584360"/>
            <a:ext cx="68554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ar modelo – Respetar Normas 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ormación Curso-S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2160" y="1584360"/>
            <a:ext cx="3214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áximo una pl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é se hi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125360"/>
            <a:ext cx="8135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marco, (curso, proye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odología (Pasos 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ecedentes particulares del producto diseñado (qué resuelve, cómo se hace actualmente, productos existentes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vesti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ados esperados (funcionará?, costo?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orme: Desarrollo -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1125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etapas y resultado de cada 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s Individ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luvia de ideas -Bosqu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eño final (descripción diseño y funcion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125360"/>
            <a:ext cx="72010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ntajas- desvent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ración con productos ex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stos – Evaluación producto, evaluación ahorros (si apl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jor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teriales altern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341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Logro d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umplimiento de 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Aportes del diseño (creatividad, innov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blemas en la ejecución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WinuE</cp:lastModifiedBy>
  <dcterms:modified xsi:type="dcterms:W3CDTF">2009-08-19T01:40:27Z</dcterms:modified>
  <cp:revision>59</cp:revision>
  <dc:subject/>
  <dc:title>EI1B2 Introducción a la Ingeneiría II</dc:title>
</cp:coreProperties>
</file>