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DE7-B6DF-4312-A9B9-B5669784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2CB-69D8-4A07-86E6-2A089228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9AA-503B-4836-B7C7-0D6D1422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FAD-E2BF-4F6E-B1B1-E0B6FF86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B53-0705-4396-8452-69B79514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801-E14D-4A2F-9D87-E6D1F880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0F4-421C-4881-9BE2-C947EFD5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51F-5D2E-428C-9433-1E5B9E57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3C0-3D30-49FC-A77B-DC43CF24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12E-0CC0-4981-BF5A-F35672FE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631-5A11-4CB2-B712-79797739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C1D-0C3B-4EBF-BFA2-6A41B65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D797-B750-4B03-B867-162349C5D7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el ho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268280"/>
            <a:ext cx="748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052640"/>
          <a:ext cx="8424720" cy="4732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WinuE</cp:lastModifiedBy>
  <dcterms:modified xsi:type="dcterms:W3CDTF">2009-07-29T03:00:48Z</dcterms:modified>
  <cp:revision>29</cp:revision>
  <dc:subject/>
  <dc:title>EL63A-Taller de Proyecto en Control II</dc:title>
</cp:coreProperties>
</file>