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1DE-C76B-456B-9C17-D5558757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13F-2EFA-4730-BBE1-E844300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D1F-5CFB-4630-A9C7-99051AEC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6AC-A5A4-4571-BC6A-A3E5B38C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D05-F523-4EA8-8B72-E459E49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554-4170-4BCF-B46D-302E4B33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7DA-D1D8-4FE6-B0D1-5F411370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798-BA30-48C3-987E-ED85C2E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520-C7E2-4A7D-BF1D-EEB65FC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1A1-8FD1-419B-97B2-23784CB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80F-28CE-479E-8312-88EA5F0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A14-6950-4677-9FDD-7FD9D5E1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E11-3694-45FC-853A-A572C953DD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el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268280"/>
            <a:ext cx="748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052640"/>
          <a:ext cx="8424720" cy="4732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WinuE</cp:lastModifiedBy>
  <dcterms:modified xsi:type="dcterms:W3CDTF">2009-07-29T03:00:48Z</dcterms:modified>
  <cp:revision>29</cp:revision>
  <dc:subject/>
  <dc:title>EL63A-Taller de Proyecto en Control II</dc:title>
</cp:coreProperties>
</file>