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11F-B918-426F-B1AF-5AC7EE62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B90F-3A4B-44A1-A324-A604C241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CE3-FED4-405D-A063-F00B7245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986-05B2-45F8-BC93-375F5EA5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E83-E7E2-4576-A5C6-309FCC15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726-AE3B-4FDD-86FE-DBF9B8AB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163-6B91-49FB-83A5-A36A2BEE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ED0-4746-4428-B892-888AEBAB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197-9F52-4D38-AA2E-0BF192ED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FDAC-2849-4FA7-923F-D670B3D3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3E4-1367-41A9-826E-29CB76B1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2FE-E51D-405A-962F-2D1186CF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533F-04E7-476A-9B6E-E9A9AFD3D65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268280"/>
            <a:ext cx="80643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eño de un producto (o mejora de un producto) para el ho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factible de construir en el Taller de Introducción a la Ingeniería. Usando principalmente una plancha de POM de 40x30 c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tallad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e incluir planos para el c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1413000"/>
          <a:ext cx="7488360" cy="41781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amiento del Proyecto, Investigación pers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ción de Grupos: Lluvia de Ideas, Bosque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 e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268280"/>
            <a:ext cx="74883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pensadores (de alimentos, de especi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conomizadores ( de agua, de energí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Se evaluará, además de  cumplir con las restricciones, la originalidad, la estética y la justificación del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mejor trabajo será implementado en un proto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señar Para … (DPx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ver 7.4 lib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ar la mayor cantidad de aspectos posi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2349360"/>
            <a:ext cx="30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sam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bien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2360520"/>
            <a:ext cx="396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amigable con 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hace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5600" y="29098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Estruc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4653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987640" y="3933360"/>
            <a:ext cx="12970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544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443640" y="4292640"/>
            <a:ext cx="36036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8680" y="1700280"/>
            <a:ext cx="42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 3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ncur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5600" y="3429000"/>
            <a:ext cx="64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O en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cíclico (proceso iter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55069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, en lo posible,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2680" y="213372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7600" y="350028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5% Proyecto 1: Informe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7960" y="51577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C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00000" y="1773360"/>
          <a:ext cx="7417080" cy="35971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, a las presentaciones y a </a:t>
                      </a:r>
                      <a:r>
                        <a:rPr b="0" lang="es-MX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lgunas cátedras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1052640"/>
          <a:ext cx="8424720" cy="473220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, 2 atrasos se consideraran como una inasistencia. Retirarse antes del fin del taller sin autorización puede significar  una inasistenci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WinuE</cp:lastModifiedBy>
  <dcterms:modified xsi:type="dcterms:W3CDTF">2009-07-29T03:00:48Z</dcterms:modified>
  <cp:revision>29</cp:revision>
  <dc:subject/>
  <dc:title>EL63A-Taller de Proyecto en Control II</dc:title>
</cp:coreProperties>
</file>