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E8F0B-B8A7-4C76-919D-37F8274DE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1DC67-A21D-4581-A6C8-F80C9449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414B9-E937-418B-893F-7F8A39AC4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1842F-03A5-4249-9D75-4FE2333D6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5D136-A1FD-426B-8542-1584D3DE3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6318E-DE2E-4D54-95BE-3D6C8B875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2FBD6-5E0B-4EE6-ADB7-C6771EB6D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29EF4-557C-48D7-B240-DDA30E703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F8D8C-7C87-486F-B986-40940D53E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780C2-4A5B-4D48-8E6F-B1C940259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78085-B2FE-4598-9E7E-941BB8B04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D11C-3165-4B14-A42C-3B2610A5B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A8D51-D48D-4AB2-8E37-62FDCD67B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A4D70-FFF8-42AE-B425-6C438F9C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011DF-9BA4-443B-8B54-A8004FEBD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BC46C-9E51-4495-8644-3CDB8A2EC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05447-9F1B-4DB7-9ACB-004626652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A2D203-822E-427F-8392-635ABACA9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8491D-88C8-410E-B761-CE921D7B2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7C74E-54FC-4B7D-B310-4CFB1F68A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66B17-9C81-4748-A3F7-B003B7BD7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2D075-8229-4CCD-9F55-A98E678CA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60039-29BA-4F65-8957-211CBAA44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A0A60-A234-4704-92D0-85CCB9E18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D8368-CFD4-450A-9BAD-6C6073618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F2B0A-A1D9-46FC-976B-C6B12E0F9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13A71-0ABC-4AB5-B5DA-360F69E07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65418-ECF7-482D-91E7-44BD5058C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8F5857-FFB6-4CA3-9F55-392F164809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D378F4-262E-4B40-B83C-A85241B7C2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A14C1C-1F41-45D9-A3C6-79D93316CB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821677-4458-4916-B6AC-9203BADC8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88ED6-ADE2-415A-ABB6-C857151A3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A75CB-B8F6-4FBC-93EA-145615166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48AE8-0F99-4B61-8F33-DF4C0E257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A77E8-6C90-466A-AB6C-2F0BB2F86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81473-BBB5-46F2-A89B-3D07A4D48F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782E1-B74D-449A-B1A6-8AB0A18CE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71082-ECD0-41C6-8EEA-81BA4AD19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3C49A-D2FB-438E-8394-C3F5A0CEF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1A2D1-6A4E-4942-962F-44743EF77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B2FBF-2D70-49B2-8FD8-8671BC8685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66687F-0312-49B3-907B-E8A3B9752D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503531-879D-42B1-B42E-1B73E29E85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4F7A-4E20-42FF-9713-DC2764D5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85A152-BF55-4F3A-9AAA-A5740035D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98819-6853-451C-8374-9C4FD5EFD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F9F1D6-F500-4FC9-AF5E-0B254A9E0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821B8-5B86-4B17-B68B-5638AB3C4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C2D6EE-6811-4D31-8652-B25E01EC1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DC5BC-E845-4E6E-83D7-A20FFCCC8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ABDE1-71F1-492D-A96D-B13BA12E8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00DD5-78AC-4E7A-9699-93ED96C7A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AC6BF-A726-4D65-909B-4EB97B671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FFCF97-1ED4-4F85-AD5E-E0FB480E66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A760-DF74-4499-9935-A45A645A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DE82E4-25FE-4CEE-9A6A-A2D70CBC3B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F9ADC7-08DA-4DCC-B39B-88F188D2EB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3E8B39-1544-414B-BD77-7314388C7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796A3-85FD-4591-9F12-0F089A233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F23ED-9695-43ED-BE8F-0294C7950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1573D-56A9-485C-B4A0-5B9C2BD39C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9D72E-3CF3-4A0B-A521-4B28F93C9F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16632-1EEF-43E4-97B5-5B8FC5D03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FFE92-A1AA-4941-ADBE-58D12FDF8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D4563-D698-45A4-B093-203BD5B09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AB58-4498-4CBA-A6D7-409A27CEF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95669-38E6-4B81-8FE9-11AD4C6280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CC77CF-1687-4C94-88C9-AE21C8AA21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7F8387-7CEF-41C4-B389-C461F4A7D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9DF8BB-B1E4-4817-8646-294F463606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FE8FF5-AFBB-4E0C-9D08-CC5D20C0D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473266-63A0-4070-B998-E2EFE50349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85B1B-70F5-413C-9428-E88E51C88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219FC-3A71-4D89-BA89-C70702398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C79C80-5DB1-4473-A938-5D9EF96D4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9988E-1591-451B-A882-3DEA8CC36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C9478-28A7-4365-B2BE-6AEB2F13D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35F7D-063E-43D3-BD7C-91CBEB602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6FFC0-9E03-40DC-BB6B-F825B64FE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28260A-67FF-4A21-A6FB-08B8BB45A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ED656D-5FE0-4405-9DCB-5E438DF027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9FF58D-C15A-44B0-8C45-B12755622C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99F4-9969-4535-83A4-1A9BC7E81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4974-4FD7-4FA6-BC7B-FD8A95EBF45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9D17-2705-43B8-81BD-37F44D3FA216}"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0463-911D-4E31-9C14-05554B2C94B4}"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18CA-B5AF-45B1-BB5B-21CF0742F1D9}"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160B-C0AB-43D5-88A4-77E239CC9821}"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4ED8-DB99-4437-B116-1FBADFD35F18}"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C245-34F8-4AA2-A05A-519F58129F6B}"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Masa</a:t>
            </a:r>
            <a:endParaRPr b="0" lang="en-US" sz="2400" spc="-1" strike="noStrike">
              <a:solidFill>
                <a:srgbClr val="ffffff"/>
              </a:solidFill>
              <a:latin typeface="Corbe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cuanto nos abandonamos a la masa, dejamos de temer su contacto. Llegados a esta situación ideal, todos somos iguales. Ninguna diferencia cuenta, ni siquiera el sexo. Quienquiera que sea el que se estreche contra uno, es idéntico a uno mismo. Lo sentimos como nos sentimos a nosotros mismos. Y, de pronto, todo acontece como </a:t>
            </a:r>
            <a:r>
              <a:rPr b="0" i="1" lang="es-ES" sz="2000" spc="-1" strike="noStrike">
                <a:solidFill>
                  <a:srgbClr val="ffffff"/>
                </a:solidFill>
                <a:latin typeface="Book Antiqua"/>
              </a:rPr>
              <a:t>dentro de un solo cuerpo</a:t>
            </a:r>
            <a:r>
              <a:rPr b="0" lang="es-ES" sz="2000" spc="-1" strike="noStrike">
                <a:solidFill>
                  <a:srgbClr val="ffffff"/>
                </a:solidFill>
                <a:latin typeface="Book Antiqua"/>
              </a:rPr>
              <a:t>. Quizá sea esta una de las razones por las que la masa procura apretarse tan densamente: quiere liberarse al máximo del temor que tienen los individuos a ser tocados. Cuanto más intensamente se estrechen entre sí, más seguros estarán los hombres de no temerse unos a otros. Esta </a:t>
            </a:r>
            <a:r>
              <a:rPr b="0" i="1" lang="es-ES" sz="2000" spc="-1" strike="noStrike">
                <a:solidFill>
                  <a:srgbClr val="ffffff"/>
                </a:solidFill>
                <a:latin typeface="Book Antiqua"/>
              </a:rPr>
              <a:t>inversión del temor </a:t>
            </a:r>
            <a:r>
              <a:rPr b="0" lang="es-ES" sz="2000" spc="-1" strike="noStrike">
                <a:solidFill>
                  <a:srgbClr val="ffffff"/>
                </a:solidFill>
                <a:latin typeface="Book Antiqua"/>
              </a:rPr>
              <a:t>a ser tocado es característica de la masa.”</a:t>
            </a:r>
            <a:endParaRPr b="0" lang="en-US" sz="2000" spc="-1" strike="noStrike">
              <a:solidFill>
                <a:srgbClr val="ffffff"/>
              </a:solidFill>
              <a:latin typeface="Corbe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Michael Hardt y Antonio Negri. </a:t>
            </a:r>
            <a:br>
              <a:rPr sz="2000"/>
            </a:br>
            <a:r>
              <a:rPr b="0" i="1" lang="es-ES" sz="2000" spc="-1" strike="noStrike">
                <a:solidFill>
                  <a:srgbClr val="c1eeff"/>
                </a:solidFill>
                <a:latin typeface="Book Antiqua"/>
              </a:rPr>
              <a:t>Multitud. Guerra y democracia en la era del Imperio. </a:t>
            </a:r>
            <a:br>
              <a:rPr sz="2000"/>
            </a:br>
            <a:r>
              <a:rPr b="0" lang="es-ES" sz="2000" spc="-1" strike="noStrike">
                <a:solidFill>
                  <a:srgbClr val="c1eeff"/>
                </a:solidFill>
                <a:latin typeface="Book Antiqua"/>
              </a:rPr>
              <a:t>(2004)</a:t>
            </a:r>
            <a:endParaRPr b="0" lang="en-US" sz="2000" spc="-1" strike="noStrike">
              <a:solidFill>
                <a:srgbClr val="c1eeff"/>
              </a:solidFill>
              <a:latin typeface="Consolas"/>
            </a:endParaRPr>
          </a:p>
        </p:txBody>
      </p:sp>
      <p:sp>
        <p:nvSpPr>
          <p:cNvPr id="381" name=""/>
          <p:cNvSpPr txBox="1"/>
          <p:nvPr/>
        </p:nvSpPr>
        <p:spPr>
          <a:xfrm>
            <a:off x="914400" y="1642680"/>
            <a:ext cx="7772400" cy="4713480"/>
          </a:xfrm>
          <a:prstGeom prst="rect">
            <a:avLst/>
          </a:prstGeom>
          <a:noFill/>
          <a:ln w="0">
            <a:noFill/>
          </a:ln>
        </p:spPr>
        <p:txBody>
          <a:bodyPr lIns="90000" rIns="90000" tIns="46800" bIns="46800" anchor="t">
            <a:normAutofit/>
          </a:bodyPr>
          <a:p>
            <a:pPr marL="411120" indent="-342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Uno de los conceptos caros para las nuevas prácticas políticas propuestas por Hardt y Negri  es el de </a:t>
            </a:r>
            <a:r>
              <a:rPr b="0" i="1" lang="es-ES" sz="1900" spc="-1" strike="noStrike">
                <a:solidFill>
                  <a:srgbClr val="ffffff"/>
                </a:solidFill>
                <a:latin typeface="Book Antiqua"/>
              </a:rPr>
              <a:t>red</a:t>
            </a:r>
            <a:r>
              <a:rPr b="0" lang="es-ES" sz="1900" spc="-1" strike="noStrike">
                <a:solidFill>
                  <a:srgbClr val="ffffff"/>
                </a:solidFill>
                <a:latin typeface="Book Antiqua"/>
              </a:rPr>
              <a:t>. Con él, instalan una re-lectura crítica de la noción de pueblo, a partir del cual se articularon los movimientos insurgentes modernos. </a:t>
            </a:r>
            <a:r>
              <a:rPr b="0" lang="es-CL" sz="1900" spc="-1" strike="noStrike">
                <a:solidFill>
                  <a:srgbClr val="ffffff"/>
                </a:solidFill>
                <a:latin typeface="Book Antiqua"/>
              </a:rPr>
              <a:t>. Y esta crítica resulta imprescindible porque no se trata sólo de obtener la victoria revolucionaria –puesto en palabras del antiguo lenguaje revolucionario- sino de impedir la reproducción de las estructuras centralizadas de poder. El foco está puesto, entonces, en la construcción de movimientos efectivamente democráticos y, en este sentido, la vieja noción de pueblo obstaculizaría su conformación, debido, principalmente, a que en su seno abriga la constitución de lo Uno: “El pueblo es uno. La población, obviamente, se compone de numerosos individuos y clases diferentes, pero el pueblo sintetiza o reduce estas diferencias sociales en una identidad.” En oposición, la multitud tiene un carácter múltiple, en tanto está compuesta por un conjunto de singularidades, “y aquí entendemos por singularidad un sujeto social cuya diferencia no puede reducirse a uniformidad: una diferencia que sigue siendo diferente.” </a:t>
            </a:r>
            <a:endParaRPr b="0" lang="en-US" sz="19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
          <p:cNvSpPr txBox="1"/>
          <p:nvPr/>
        </p:nvSpPr>
        <p:spPr>
          <a:xfrm>
            <a:off x="914400" y="571320"/>
            <a:ext cx="7772400" cy="578484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Para evitar identificar el concepto de multitud con una definición fragmentaria, anárquica e incoherente, es necesario establecer, en primera instancia, distancia de otras conformaciones colectivas que podrían entenderse como similares a ella: gentes, masas y turbas. Estas tres conformaciones tienden a referir sujetos sociales que son fundamentalmente pasivos, sujetos predispuestos a la conducción. Hardt y Negri advierten que, efectivamente, la actuación de las masas, de las turbas, incluso de la “chusma” puede adquirir una fuerza gigantesca de destrucción, sin embargo, no por propia iniciativa: “Por eso son tan vulnerables a la manipulación externa. Con el término de multitud, en cambio, designamos a sujeto social activo, que actúa partiendo de lo común, de lo compartido por esas singularidades. La multitud es un sujeto internamente diferente y múltiple, cuya constitución y cuya acción no se fundan en la identidad ni en la unidad (ni mucho menos en la indiferenciación), sino en lo común.” </a:t>
            </a:r>
            <a:endParaRPr b="0" lang="en-US" sz="2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fffff"/>
                </a:solidFill>
                <a:latin typeface="Book Antiqua"/>
              </a:rPr>
              <a:t>La perspectiva asumida para abordar a la multitud es la socioeconómica, puesto que es la naturalización de lo económico como forma de lo social lo que se instala en la actualidad como ideología imperante: la producción biopolítica. Desde esta perspectiva, entonces, “la multitud es el sujeto común del trabajo, es decir, la carne verdadera de la producción posmoderna, y al mismo tiempo el objeto al que el capital colectivo trata de convertir en cuerpo de su desarrollo global. El capital quiere la multitud se convierta en unidad orgánica, exactamente como el Estado desea convertirla en pueblo. En este punto es donde empieza a emerger, a través de las luchas del trabajo, la figura biopolíticamente productiva y real de la multitud. Cuando la carne de la multitud queda aprisionada y convertida en cuerpo del capital global, se encuentra al mismo tiempo dentro y en contra del proceso de globalización capitalista. Pero la producción biopolítica de la multitud tiende a movilizar lo que comparte en común y lo que produce en común contra el poder imperial del capital global. A su debido tiempo y contando con el desarrollo de su figura productiva basada en lo común, la multitud pasará a través del Imperio y emergerá para expresarse autónomamente y gobernarse a sí misma.”</a:t>
            </a:r>
            <a:endParaRPr b="0" lang="en-US" sz="1900" spc="-1" strike="noStrike">
              <a:solidFill>
                <a:srgbClr val="ffffff"/>
              </a:solidFill>
              <a:latin typeface="Corbe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
          <p:cNvSpPr txBox="1"/>
          <p:nvPr/>
        </p:nvSpPr>
        <p:spPr>
          <a:xfrm>
            <a:off x="914400" y="571320"/>
            <a:ext cx="7772400" cy="5784840"/>
          </a:xfrm>
          <a:prstGeom prst="rect">
            <a:avLst/>
          </a:prstGeom>
          <a:noFill/>
          <a:ln w="0">
            <a:noFill/>
          </a:ln>
        </p:spPr>
        <p:txBody>
          <a:bodyPr lIns="90000" rIns="90000" tIns="46800" bIns="46800" anchor="t">
            <a:normAutofit fontScale="98000"/>
          </a:bodyPr>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n tanto la multitud es un concepto de clase y, en consecuencia, un concepto político, Hardt y Negri se proponen indagar en los circuitos de resistencia colectiva al poder. En este sentido, el texto se presenta como una teoría de clase, la multitud, pretendiendo establecer las condiciones de existencia para sus luchas colectivas y  sus proposiciones políticas. Por lo tanto, el concepto de multitud aquí expuesto supone el que sea entendida la noción de clase como una conformación biopolítica puesto que despliega “las capacidades creadoras humanas en toda su generalidad.”</a:t>
            </a:r>
            <a:endParaRPr b="0" lang="en-US" sz="2000" spc="-1" strike="noStrike">
              <a:solidFill>
                <a:srgbClr val="ffffff"/>
              </a:solidFill>
              <a:latin typeface="Corbel"/>
            </a:endParaRPr>
          </a:p>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sta complicidad entre el concepto de multitud y una teoría de clase indica, en primer lugar, que no habría contradicción alguna entre la unidad y la pluralidad a la hora de pensar los movimientos de resistencia colectivos. En segundo lugar, y como consecuencia de lo anterior, el concepto de multitud propuesto vendría a reformular la concepción marxiana de la lucha de clases en la medida que no se funda en su existencia empírica sino en sus condiciones de posibilidad. Desde esta perspectiva, la pregunta no es “&lt;&lt;¿qué es la multitud?&gt;&gt; sino &lt;&lt;¿qué puede llegar a ser la multitud?&gt;&gt;” </a:t>
            </a:r>
            <a:endParaRPr b="0" lang="en-US" sz="2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Se trataría, por lo tanto, de establecer los rasgos comunes de las singularidades en descontento, de los que trabajan bajo los dictados del capital. Sin embargo, esta comunalidad sobrepasa la noción de clase de obrera, puesto que integra otras variables. Históricamente, se concebía a la clase obrera, sometida directamente al capital, como la única capaz de revertir las condiciones de explotación, dejando de lado a otras clases explotadas que, de aparecer, lo hacían subordinadas a las iniciativas subversivas de la clase trabajadora. La multitud en tanto clase, por el contrario, supone que “no hay prioridad política entre las formas de trabajo: hoy todas las formas de trabajo son socialmente productivas, producen en común, y comparten también el potencial común de oponer resistencia a la dominación del capital.”  La empiria, pues, señala que las condiciones están dadas para la articulación colectiva de las distintas formas de trabajo explotadas; en otras palabras, “hoy existen las condiciones para que los diversos tipos de trabajo se comuniquen, colaboren y entren a integrar lo común.” </a:t>
            </a:r>
            <a:endParaRPr b="0" lang="en-US" sz="2000" spc="-1" strike="noStrike">
              <a:solidFill>
                <a:srgbClr val="ffffff"/>
              </a:solidFill>
              <a:latin typeface="Corbel"/>
            </a:endParaRPr>
          </a:p>
          <a:p>
            <a:pPr marL="406800" indent="-339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Sigmund Freud. </a:t>
            </a:r>
            <a:r>
              <a:rPr b="0" i="1" lang="es-ES" sz="2000" spc="-1" strike="noStrike">
                <a:solidFill>
                  <a:srgbClr val="c1eeff"/>
                </a:solidFill>
                <a:latin typeface="Book Antiqua"/>
              </a:rPr>
              <a:t>Psicología de masas y análisis del yo</a:t>
            </a:r>
            <a:r>
              <a:rPr b="0" lang="es-ES" sz="2000" spc="-1" strike="noStrike">
                <a:solidFill>
                  <a:srgbClr val="c1eeff"/>
                </a:solidFill>
                <a:latin typeface="Book Antiqua"/>
              </a:rPr>
              <a:t>.</a:t>
            </a:r>
            <a:br>
              <a:rPr sz="2000"/>
            </a:br>
            <a:r>
              <a:rPr b="0" lang="es-ES" sz="2000" spc="-1" strike="noStrike">
                <a:solidFill>
                  <a:srgbClr val="c1eeff"/>
                </a:solidFill>
                <a:latin typeface="Book Antiqua"/>
              </a:rPr>
              <a:t>(1921)</a:t>
            </a:r>
            <a:endParaRPr b="0" lang="en-US" sz="2000" spc="-1" strike="noStrike">
              <a:solidFill>
                <a:srgbClr val="c1eeff"/>
              </a:solidFill>
              <a:latin typeface="Consolas"/>
            </a:endParaRPr>
          </a:p>
        </p:txBody>
      </p:sp>
      <p:sp>
        <p:nvSpPr>
          <p:cNvPr id="370" name=""/>
          <p:cNvSpPr txBox="1"/>
          <p:nvPr/>
        </p:nvSpPr>
        <p:spPr>
          <a:xfrm>
            <a:off x="914400" y="1214280"/>
            <a:ext cx="7772400" cy="5142240"/>
          </a:xfrm>
          <a:prstGeom prst="rect">
            <a:avLst/>
          </a:prstGeom>
          <a:noFill/>
          <a:ln w="0">
            <a:noFill/>
          </a:ln>
        </p:spPr>
        <p:txBody>
          <a:bodyPr lIns="90000" rIns="90000" tIns="46800" bIns="46800" anchor="t">
            <a:normAutofit fontScale="96000"/>
          </a:bodyPr>
          <a:p>
            <a:pPr marL="394560" indent="-328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a:t>
            </a:r>
            <a:r>
              <a:rPr b="0" lang="es-ES" sz="1500" spc="-1" strike="noStrike">
                <a:solidFill>
                  <a:srgbClr val="ffffff"/>
                </a:solidFill>
                <a:latin typeface="Book Antiqua"/>
              </a:rPr>
              <a:t>El fenómeno más singular y al mismo tiempo más importante de la formación de la masa consiste en la exaltación o intensificación de la emotividad en los individuos que la integran. Puede decirse -opina Mc. Dougall- que no existen otras condiciones en las que los afectos humanos alcancen la intensidad a la que llegan en la multitud. Además, los individuos de una multitud experimentan una voluptuosa sensación al entregarse ilimitadamente a sus pasiones y fundirse en la masa perdiendo el sentimiento de su delimitación individual. Mc Dougall explica esta absorción del individuo por la masa atribuyéndola a lo que él denomina «el principio de la inducción directa de las emociones por medio de la reacción simpática primitiva», esto es, a aquello que con el nombre de contagio de los afectos nos es ya conocido a nosotros los psicoanalistas. El hecho es, que la percatación de los signos de un estado afectivo es susceptible de provocar automáticamente el mismo afecto en el observador. Esta obsesión automática es tanto más intensa cuanto mayor es el número de las personas en las que se observa simultáneamente el mismo afecto. Entonces, el individuo llega a ser incapaz de mantener una actitud crítica y se deja invadir por la misma emoción. Pero al compartir la excitación de aquellos cuya influencia ha actuado sobre él, aumenta a su vez la de los demás, y de este modo, se intensifica por inducción recíproca la carga afectiva de los individuos integrados en la masa. Actúa aquí, innegablemente, algo como una obsesión, que impulsa al individuo a imitar a los demás y a conservarse a tono con ellos. Cuanto más groseras y elementales son las emociones, más probabilidades presentan de propagarse de este modo en una masa.”</a:t>
            </a:r>
            <a:endParaRPr b="0" lang="en-US" sz="1500" spc="-1" strike="noStrike">
              <a:solidFill>
                <a:srgbClr val="ffffff"/>
              </a:solidFill>
              <a:latin typeface="Corbe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914400" y="642600"/>
            <a:ext cx="7772400" cy="57135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Este mecanismo de la intensificación afectiva queda favorecido por varias otras influencias emanadas de la multitud. La masa da al individuo la impresión de un poder ilimitado y de un peligro invencible. Sustituye, por el momento, a la entera sociedad humana, encarnación de la autoridad, cuyos castigos se han tenido y por la que nos imponemos tantas restricciones. Es evidentemente peligroso situarse enfrente de ella, y para garantizar la propia seguridad, deberá cada uno seguir el ejemplo que observa en derredor suyo, e incluso, si es preciso, llegar a «aullar con los lobos». Obedientes a la nueva autoridad, habremos de hacer callar a nuestra consciencia anterior y ceder así a la atracción del placer que seguramente alcanzaremos por la cesación de nuestras inhibiciones. No habrá, pues, de asombrarnos, que el individuo integrado en una masa realice o apruebe cosas de las que se hubiera alejado en las condiciones ordinarias de su vida, e incluso podemos esperar que este hecho nos permita proyectar alguna luz en las tinieblas de aquello que designamos en la enigmática palabra «sugestión».”</a:t>
            </a:r>
            <a:endParaRPr b="0" lang="en-US" sz="1800" spc="-1" strike="noStrike">
              <a:solidFill>
                <a:srgbClr val="ffffff"/>
              </a:solidFill>
              <a:latin typeface="Corbe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la sugestión (o más exactamente, la sugestibilidad) es un fenómeno primario irreductible, un hecho fundamental de la vida anímica humana.”</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intentaremos aplicar al esclarecimiento de la psicología colectiva, el concepto de la libido, que tan buenos servicios nos ha prestado ya en el estudio de la psiconeurosis.”</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Libido es un término perteneciente a la teoría de la afectividad. Designamos con él la energía -considerada como magnitud cuantitativa, aunque por ahora no mensurable- de los instintos relacionados con todo aquello susceptible de ser comprendido bajo el concepto de amor.”</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Intentaremos, pues, admitir la hipótesis de que en la esencia del alma colectiva existen también relaciones amorosas (o para emplear una expresión neutra, lazos afectivos).[…] Nuestra esperanza se apoya en dos ideas. Primeramente, la de que la masa tiene que hallarse mantenida en cohesión por algún poder. ¿Y a qué poder resulta factible atribuir tal función sino es al Eros que mantiene la cohesión de todo lo existente? En segundo lugar, la de que cuando el individuo englobado en la masa renuncia a lo que le es personal y se deja sugestionar por los otros, experimentamos la impresión de que lo hace por sentir en él la necesidad de hallarse de acuerdo con ellos y no en oposición a ellos, esto es, por «amor a los demás».”</a:t>
            </a:r>
            <a:endParaRPr b="0" lang="en-US" sz="18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
          <p:cNvSpPr txBox="1"/>
          <p:nvPr/>
        </p:nvSpPr>
        <p:spPr>
          <a:xfrm>
            <a:off x="914400" y="571320"/>
            <a:ext cx="7772400" cy="607212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Mientras que la formación colectiva se mantiene, los individuos se comportan como cortados por el mismo patrón; toleran todas las particularidades de los otros, se consideran iguales a ellos y no experimentan el menor sentimiento de aversión. Según nuestras teorías, una tal restricción del narcisismo no puede ser provocada sino por un solo factor: por el enlace libidinoso a otras personas. El egoísmo no encuentra un límite más que en el amor a otros, el amor a objetos.”</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Así, pues, cuando observamos que en la masa surgen restricciones del egoísmo narcisista, inexistentes fuera de ella, habremos de considerar tal hecho como una prueba de que la esencia de la formación colectiva reposa en el establecimiento de nuevos lazos libidinosos entre los miembros de la misma.”</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aturaleza del laz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Identificación</a:t>
            </a:r>
            <a:br>
              <a:rPr sz="1900"/>
            </a:br>
            <a:r>
              <a:rPr b="0" lang="es-ES" sz="1900" spc="-1" strike="noStrike">
                <a:solidFill>
                  <a:srgbClr val="ffffff"/>
                </a:solidFill>
                <a:latin typeface="Corbel"/>
              </a:rPr>
              <a:t>“</a:t>
            </a:r>
            <a:r>
              <a:rPr b="0" lang="es-ES" sz="1900" spc="-1" strike="noStrike">
                <a:solidFill>
                  <a:srgbClr val="ffffff"/>
                </a:solidFill>
                <a:latin typeface="Book Antiqua"/>
              </a:rPr>
              <a:t>Sospechamos ya que el enlace recíproco de los individuos de una masa es de la naturaleza de una tal identificación, basada en una amplia comunidad afectiva, y podemos suponer que esta comunidad reposa en la modalidad del enlace con el caudill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
          <p:cNvSpPr txBox="1"/>
          <p:nvPr/>
        </p:nvSpPr>
        <p:spPr>
          <a:xfrm>
            <a:off x="914400" y="428760"/>
            <a:ext cx="7772400" cy="5927760"/>
          </a:xfrm>
          <a:prstGeom prst="rect">
            <a:avLst/>
          </a:prstGeom>
          <a:noFill/>
          <a:ln w="0">
            <a:noFill/>
          </a:ln>
        </p:spPr>
        <p:txBody>
          <a:bodyPr lIns="90000" rIns="90000" tIns="46800" bIns="46800" anchor="t">
            <a:normAutofit fontScale="96000"/>
          </a:bodyPr>
          <a:p>
            <a:pPr marL="394560" indent="-328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Espíritu gregario</a:t>
            </a:r>
            <a:endParaRPr b="0" lang="en-US" sz="19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sentimiento social reposa en la transformación de un sentimiento primitivamente hostil en un enlace positivo de la naturaleza de una identificación. En cuanto podemos seguir el proceso de esta transformación; creemos observar que se efectúa bajo la influencia de un enlace común, a base de ternura, a una persona exterior a la masa. Estamos muy lejos de considerar completo nuestro análisis de la identificación, mas para nuestro objeto nos basta haber hecho resaltar la exigencia de una absoluta y consecuente igualdad. A propósito de las dos masas artificiales, la Iglesia y el Ejército, hemos visto que su condición previa consiste en que todos sus miembros sean igualmente amados por un jefe. Ahora bien, no habremos de olvidar que la reivindicación, de igualdad formulada por la masa, se refiere tan sólo a los individuos que la constituyen, no al jefe. Todos los individuos quieren ser iguales, pero bajo el dominio de un caudillo. Muchos iguales, capaces de identificarse entre sí, y un único superior, tal es la situación que hallamos realizada en la masa dotada de vitalidad. Así, pues, nos permitiremos corregir la concepción de Trotter, diciendo que más que un «animal gregario», es el hombre un «animal de horda», esto es, un elemento constitutivo de una horda conducido por un jefe.”</a:t>
            </a:r>
            <a:br>
              <a:rPr sz="1900"/>
            </a:br>
            <a:endParaRPr b="0" lang="en-US" sz="19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
          <p:cNvSpPr txBox="1"/>
          <p:nvPr/>
        </p:nvSpPr>
        <p:spPr>
          <a:xfrm>
            <a:off x="914400" y="428760"/>
            <a:ext cx="7772400" cy="5927760"/>
          </a:xfrm>
          <a:prstGeom prst="rect">
            <a:avLst/>
          </a:prstGeom>
          <a:noFill/>
          <a:ln w="0">
            <a:noFill/>
          </a:ln>
        </p:spPr>
        <p:txBody>
          <a:bodyPr lIns="90000" rIns="90000" tIns="46800" bIns="46800" anchor="t">
            <a:normAutofit fontScale="98000"/>
          </a:bodyPr>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masa se nos muestra, pues, como una resurrección de la horda primitiva. Así como el hombre primitivo sobrevive virtualmente en cada individuo, también toda masa humana puede reconstituir la horda primitiva. Habremos, pues, de deducir, que la psicología colectiva es la psicología humana más antigua.”</a:t>
            </a:r>
            <a:endParaRPr b="0" lang="en-US" sz="19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carácter inquietante y coercitivo de las formaciones colectivas, que se manifiesta en sus fenómenos de sugestión, puede ser atribuido, por lo tanto, a la afinidad de la masa con la horda primitiva, de la cual desciende. El caudillo es aún el temido padre primitivo. La masa quiere siempre ser dominada por un poder ilimitado. Ávida de autoridad, tiene, según las palabras de Gustavo Le Bon, una inagotable sed de sometimiento. El padre primitivo es el ideal de la masa, y este ideal domina al individuo, sustituyéndose a su ideal del Yo. La hipnosis puede ser designada como una formación colectiva de sólo dos personas. Para poder aplicar esta definición a la sugestión habremos de completarla, añadiendo que en dicha colectividad de dos personas, es necesario que el sujeto que experimenta la sugestión posea un convencimiento no basado en la percepción ni en el razonamiento, sino en un lazo erótico.”</a:t>
            </a:r>
            <a:endParaRPr b="0" lang="en-US" sz="1900" spc="-1" strike="noStrike">
              <a:solidFill>
                <a:srgbClr val="ffffff"/>
              </a:solidFill>
              <a:latin typeface="Corbe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Elías Canetti. </a:t>
            </a:r>
            <a:r>
              <a:rPr b="0" i="1" lang="es-ES" sz="2000" spc="-1" strike="noStrike">
                <a:solidFill>
                  <a:srgbClr val="c1eeff"/>
                </a:solidFill>
                <a:latin typeface="Book Antiqua"/>
              </a:rPr>
              <a:t>Masa y poder</a:t>
            </a:r>
            <a:r>
              <a:rPr b="0" lang="es-ES" sz="2000" spc="-1" strike="noStrike">
                <a:solidFill>
                  <a:srgbClr val="c1eeff"/>
                </a:solidFill>
                <a:latin typeface="Book Antiqua"/>
              </a:rPr>
              <a:t>. </a:t>
            </a:r>
            <a:br>
              <a:rPr sz="2000"/>
            </a:br>
            <a:r>
              <a:rPr b="0" lang="es-ES" sz="2000" spc="-1" strike="noStrike">
                <a:solidFill>
                  <a:srgbClr val="c1eeff"/>
                </a:solidFill>
                <a:latin typeface="Book Antiqua"/>
              </a:rPr>
              <a:t>(1960)</a:t>
            </a:r>
            <a:endParaRPr b="0" lang="en-US" sz="2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Nada teme el hombre más que ser tocado por lo desconocido. Deseamos ver qué intenta apresarnos; queremos identificarlo o, al menos, poder clasificarlo. En todas partes, el hombre elude el contacto con lo extraño. De noche o en la oscuridad, el terror ante un contacto inesperado puede llegar a convertirse en pánico. Ni siquiera la ropa ofrece suficiente seguridad: tan fácil es desgarrarla, tan fácil penetrar hasta la carne desnuda, tersa e indefensa del agredido. </a:t>
            </a:r>
            <a:endParaRPr b="0" lang="en-US" sz="20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odas las distancias que los hombres han ido creando a su alrededor han surgido de este temor a ser tocado. Nos encontramos en casas a las que a nadie le está permitido entrar, y solo dentro de ellas nos sentimos medianamente seguros. El miedo al allanador se configura como un temor no solo a la rapiña sino también a ser apresado repentina e inesperadamente desde las tinieblas. La mano, convertida en garra, es utilizada  una y otra vez como símbolo de ese miedo.</a:t>
            </a:r>
            <a:endParaRPr b="0" lang="en-US" sz="2000" spc="-1" strike="noStrike">
              <a:solidFill>
                <a:srgbClr val="ffffff"/>
              </a:solidFill>
              <a:latin typeface="Corbe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914400" y="500040"/>
            <a:ext cx="7772400" cy="5856480"/>
          </a:xfrm>
          <a:prstGeom prst="rect">
            <a:avLst/>
          </a:prstGeom>
          <a:noFill/>
          <a:ln w="0">
            <a:noFill/>
          </a:ln>
        </p:spPr>
        <p:txBody>
          <a:bodyPr lIns="90000" rIns="90000" tIns="46800" bIns="46800" anchor="t">
            <a:normAutofit fontScale="97000"/>
          </a:bodyPr>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Mucho de todo esto ha pasado a formar parte del doble sentido de la palabra alemana </a:t>
            </a:r>
            <a:r>
              <a:rPr b="0" i="1" lang="es-ES" sz="2000" spc="-1" strike="noStrike">
                <a:solidFill>
                  <a:srgbClr val="ffffff"/>
                </a:solidFill>
                <a:latin typeface="Book Antiqua"/>
              </a:rPr>
              <a:t>angreifen</a:t>
            </a:r>
            <a:r>
              <a:rPr b="0" lang="es-ES" sz="2000" spc="-1" strike="noStrike">
                <a:solidFill>
                  <a:srgbClr val="ffffff"/>
                </a:solidFill>
                <a:latin typeface="Book Antiqua"/>
              </a:rPr>
              <a:t> (‘atacar’ y ‘asir’). Tanto el contacto inofensivo como el ataque peligroso están contenidos en ella, y algo de lo último resuena siempre en lo primero.”</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sta aversión al contacto no nos abandona cuando nos mezclamos con la gente. La manera de movernos en la calle, entre muchas personas, en restaurantes, en trenes y autobuses, está dictada por este miedo. Incluso cuando nos encontramos muy cerca unos de otros, cuando podemos contemplar a los demás y estudiarlos detenidamente, evitamos en los posible cualquier contacto físico con ellos. Si hacemos lo contrario es porque alguien nos ha caído en gracia y el acercamiento parte entonces de nosotros mismos. </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olamente inmerso en la </a:t>
            </a:r>
            <a:r>
              <a:rPr b="0" i="1" lang="es-ES" sz="2000" spc="-1" strike="noStrike">
                <a:solidFill>
                  <a:srgbClr val="ffffff"/>
                </a:solidFill>
                <a:latin typeface="Book Antiqua"/>
              </a:rPr>
              <a:t>masa</a:t>
            </a:r>
            <a:r>
              <a:rPr b="0" lang="es-ES" sz="2000" spc="-1" strike="noStrike">
                <a:solidFill>
                  <a:srgbClr val="ffffff"/>
                </a:solidFill>
                <a:latin typeface="Book Antiqua"/>
              </a:rPr>
              <a:t> puede el hombre liberarse de este miedo a ser tocado. Es la única situación en la que este temor se convierte en su contrario. Para ello es necesario la masa </a:t>
            </a:r>
            <a:r>
              <a:rPr b="0" i="1" lang="es-ES" sz="2000" spc="-1" strike="noStrike">
                <a:solidFill>
                  <a:srgbClr val="ffffff"/>
                </a:solidFill>
                <a:latin typeface="Book Antiqua"/>
              </a:rPr>
              <a:t>densa</a:t>
            </a:r>
            <a:r>
              <a:rPr b="0" lang="es-ES" sz="2000" spc="-1" strike="noStrike">
                <a:solidFill>
                  <a:srgbClr val="ffffff"/>
                </a:solidFill>
                <a:latin typeface="Book Antiqua"/>
              </a:rPr>
              <a:t>, en la que cada cuerpo se estrecha contra otro, densa también en su constitución psíquica, pues dentro de ella no se presta atención a quién es el que se ‘estrecha’ contra uno.</a:t>
            </a:r>
            <a:endParaRPr b="0" lang="en-US" sz="2000" spc="-1" strike="noStrike">
              <a:solidFill>
                <a:srgbClr val="ffffff"/>
              </a:solidFill>
              <a:latin typeface="Corbe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1:50:31Z</dcterms:created>
  <dc:creator>María</dc:creator>
  <dc:description/>
  <dc:language>en-US</dc:language>
  <cp:lastModifiedBy>María </cp:lastModifiedBy>
  <dcterms:modified xsi:type="dcterms:W3CDTF">2009-10-13T05:40:57Z</dcterms:modified>
  <cp:revision>17</cp:revision>
  <dc:subject/>
  <dc:title>Diapositiva 1</dc:title>
</cp:coreProperties>
</file>