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jpeg" ContentType="image/jpeg"/>
  <Override PartName="/ppt/media/image3.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554FB-1FB2-414F-BDE4-528A37EF4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589C6-A7E4-4D50-9E17-A26BE18CF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A404D-94AC-4712-A03F-2CDBC4D44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30F72-3593-41C2-83DF-6A8B99CFA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35DE3-19E4-4292-869F-EFCB6FB88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30AB8-474E-4004-85B0-F71B252D3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51E71-BDBA-4819-A4F6-A5F489686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C1FE7-6E31-4A56-93BD-3934D2609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22727-CB31-4DD9-BA86-1CA7CA733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B1607-366F-49EB-B3F3-47AE3EF3B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E69E3-A414-48F0-A89E-972A1FF63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E06BC-510E-4125-B9A3-DFD7C7F9D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698E2-BC0C-4189-A989-3947ECCC2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604E1-415F-41E3-B517-6FB0BB320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6570B-3615-4CA9-A374-9AFE1553C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D7BBF-8703-4694-9247-DE64101B2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3F80F-0B41-42DD-965A-07ED8EBBF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D0731C-24C7-49BF-89B9-8F9CABE265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2013C4-B3FA-46D2-BC52-E43105F23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DA922B-CEB9-4730-B422-78171C183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4830BB-B448-4B8C-8DC0-8494F5434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2D3E9B-3421-40E3-886B-943090D524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978D6-6441-4F08-80ED-EA19B50F4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12D8BA-EDF2-460B-9E11-C349119AAE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1E98F2-D461-4A10-92DA-1EB2C9EC11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1ECE4-FEA3-4C37-A042-9031E3CD8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E4A511-7D37-4650-BE96-1681FDFF5A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1CDAE4-DD05-4AC0-A075-33B88A6EF4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03CECA-A5AD-4FDC-A7B1-B93CAC8748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FDAFA4-50B7-4577-812C-5843E20BC2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CD3C52-0647-481F-9585-F2A8AE4D2B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A27FE2-DB65-464C-A4B7-243B4977E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110EDB-336C-45C8-A938-C8492DDDCC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5E2F5-3A52-4E8A-ADE5-4DD2352B1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FB2A9F-D07D-40FC-A262-0D9CC36145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F2C5F8-61BF-4692-8CD2-790EB45843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689AD4-FCFA-4DFD-BB95-4580CA422B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CFAAA-00A5-42A7-9B11-EA6D76159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84A62-E63A-4A16-BA3D-B9F72DB2AF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3D7DE4-5B3E-434A-991A-7D8B1398D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B02051-632C-4CDA-9C98-DC39056982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8FF838-2D8C-4471-846A-CD47EE1BB5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461E3F-07EC-4909-9E20-2BA3AC5A5C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79A009-1027-4503-B4C7-FFD44F57C9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9CA88-BC20-4133-BCB7-AE7FFFC81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4165BC-0A6F-44AC-A730-DBD31419D1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EA00E7-EF12-4148-99F3-21F2F9507C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D3885E-CEAF-423D-AE8D-F12077CC68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245957-6830-4D39-B63A-1F33D4CE58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F8A644-C4DC-4FD4-8274-B7AA0DE1CF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F24A2-3857-4DB2-8301-830A4D7089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248BB2-BDD2-4E90-8188-40B55B89D5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5A8F35-69F6-4B50-8187-5885C36F85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16DE4C-BE4F-4613-A1C6-DD7FBE1487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4143CD-9988-4B9E-9664-043C9068AE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615C3-D039-4386-B823-07037A228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D2A328-43DE-4610-BE05-AA9089B3AC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FE1A68-E061-4A89-9A6A-CDDF7473A4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225868-F64C-4545-94F2-F2C3588730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57AC17-6EB1-4898-9705-84C4A9CE94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08990C-DF39-4E8A-99B0-8075EA2EE9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5F711C-7EA4-452A-AFC6-C46D01F74B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10ECC4-3D66-4C60-9850-D051DF99F9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41D425-F308-4717-8F80-D0390C441D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E1653D-3480-4BB9-9FAB-94E5C4335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3F1A93-D939-443D-BB7C-413E2354C0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39F3B-6102-4E38-954D-0E6B6E702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1FB492-0C12-43D8-A77C-2578900401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325B3A-F4BC-4567-822B-2E4C206761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86DFBC-CD18-4915-883D-E3277B5862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6591EB-42E7-4E89-87B0-A24A6A1FBE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DD2C13-04CC-469A-9334-C780D8696E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09CEA9-ED4B-44F3-A831-3E84FB759B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C78480-3241-4747-834A-7F454B7122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CCA00D-F3DC-4240-86BF-654A49E95C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BFA5AB-8193-4D93-9C52-44462F521A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45694A-F76E-4589-82DB-D81BB0A190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83F42-70C5-4A36-8083-4C2918D4C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56EFC4-7CC5-41D8-8D4C-DB955D7926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DFF021-162D-4557-ACB3-CA7227E271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4A077C-C1D7-4D2D-BD4F-877307328B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FA6090-5D39-41DF-BC5F-66F3EB3E27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B73D67-C873-4713-A691-6229FFA98A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B3C767-7BC0-498E-9BB7-CBACFF6429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53D299-215A-4D30-912F-C1BB076B70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64550B-1CCF-4DB1-8D8F-17CA5F5CCB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FAA99A-B184-4896-8E9F-3850520222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D1298F-1AA3-479B-8841-0801D075AE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44920-7047-419E-88C0-CA0F27261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1A52F0-41A9-46BD-A5AF-1038391BA0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FFD9B-034A-49D3-88FB-EA52F092CF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BECA9D-76D7-41D1-B8D7-FEC42FFE57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989531-E866-4185-845C-D566ACAA10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7D5AE4-6188-4109-832B-04BB4CF070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085FAE-C225-4845-B5E9-D36F0C152B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AA920E-B428-44C1-B9AE-5E37921BFA8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5CC4-8D59-49FF-81CF-F50F717D2E7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2734-5D85-40EC-BF46-C3293557844D}" type="slidenum">
              <a:rPr b="0" lang="es-E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D689-EF8B-45B0-9AEE-39BE8B731F1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14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15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27E1-2A68-4BE4-BC81-406F728A2AB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78"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AA24-FB29-4648-A8B7-65A994B78A9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FB8E-AA71-4222-B312-8B74368E805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0EC8A-F128-4055-90C6-3A4D55D5AC6D}"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3341-C835-45FD-B3FB-AA2A882B0849}"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45" name="2 Subtítulo" descr=""/>
          <p:cNvPicPr/>
          <p:nvPr/>
        </p:nvPicPr>
        <p:blipFill>
          <a:blip r:embed="rId1"/>
          <a:stretch/>
        </p:blipFill>
        <p:spPr>
          <a:xfrm>
            <a:off x="853920" y="4237200"/>
            <a:ext cx="8124840" cy="180972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
          <p:cNvSpPr txBox="1"/>
          <p:nvPr/>
        </p:nvSpPr>
        <p:spPr>
          <a:xfrm>
            <a:off x="457200" y="499680"/>
            <a:ext cx="8229600" cy="5954760"/>
          </a:xfrm>
          <a:prstGeom prst="rect">
            <a:avLst/>
          </a:prstGeom>
          <a:noFill/>
          <a:ln w="0">
            <a:noFill/>
          </a:ln>
        </p:spPr>
        <p:txBody>
          <a:bodyPr lIns="90000" rIns="90000" tIns="46800" bIns="46800" anchor="t">
            <a:normAutofit fontScale="98000"/>
          </a:bodyPr>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rofiada el aura, la singularidad de la obra, lo que Benjamin califica también como su “unicidad”, se desvanece. Ya señalábamos que la obra desauratizada ingresa al conjunto de los objetos iguales. Lo que se desvanece aquí es la relación de la obra, todavía aurática, con el culto que le da origen. Con “culto” Benjamin se está refiriendo a la tradición en la que la que la obra se inscribe, el contexto histórico de producción que determina su valor y, por lo tanto, la función de la obra en él:</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Las obras de arte más antiguas sabemos que surgieron al servicio de un ritual, al principio mágico y después religioso. Ahora bien, es de decisiva importancia el que este modo de existencia aurático de la obra de arte nunca se desligue del todo de su función ritual. O, lo que es lo mismo: </a:t>
            </a:r>
            <a:r>
              <a:rPr b="0" i="1" lang="es-ES" sz="2000" spc="-1" strike="noStrike">
                <a:solidFill>
                  <a:srgbClr val="ffffff"/>
                </a:solidFill>
                <a:latin typeface="Book Antiqua"/>
              </a:rPr>
              <a:t>el valor único de la obra de arte ‘auténtica’ se funda en el ritual en el que adquirió su valor de uso primero y original</a:t>
            </a:r>
            <a:r>
              <a:rPr b="0" lang="es-ES" sz="2000" spc="-1" strike="noStrike">
                <a:solidFill>
                  <a:srgbClr val="ffffff"/>
                </a:solidFill>
                <a:latin typeface="Book Antiqua"/>
              </a:rPr>
              <a:t>.”</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Benjamin sostiene que dicho fundamento de la obra, su anclaje en el ritual, aparece hoy secularizado, en tanto ella es inscrita hoy en los ambientes más profanos. </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función del arte es, en este sentido, subvertida. “</a:t>
            </a:r>
            <a:r>
              <a:rPr b="0" i="1" lang="es-ES" sz="2000" spc="-1" strike="noStrike">
                <a:solidFill>
                  <a:srgbClr val="ffffff"/>
                </a:solidFill>
                <a:latin typeface="Book Antiqua"/>
              </a:rPr>
              <a:t>En el lugar de fundamentarse en el ritual, pasa a fundamentarse en una praxis distinta: a saber, en la política</a:t>
            </a:r>
            <a:r>
              <a:rPr b="0" lang="es-ES" sz="2000" spc="-1" strike="noStrike">
                <a:solidFill>
                  <a:srgbClr val="ffffff"/>
                </a:solidFill>
                <a:latin typeface="Book Antiqua"/>
              </a:rPr>
              <a:t>.”</a:t>
            </a:r>
            <a:endParaRPr b="0" lang="en-US" sz="2000" spc="-1" strike="noStrike">
              <a:solidFill>
                <a:srgbClr val="ffffff"/>
              </a:solidFill>
              <a:latin typeface="Century Gothic"/>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
          <p:cNvSpPr txBox="1"/>
          <p:nvPr/>
        </p:nvSpPr>
        <p:spPr>
          <a:xfrm>
            <a:off x="457200" y="499680"/>
            <a:ext cx="8229600" cy="5954760"/>
          </a:xfrm>
          <a:prstGeom prst="rect">
            <a:avLst/>
          </a:prstGeom>
          <a:noFill/>
          <a:ln w="0">
            <a:noFill/>
          </a:ln>
        </p:spPr>
        <p:txBody>
          <a:bodyPr lIns="90000" rIns="90000" tIns="46800" bIns="46800" anchor="t">
            <a:normAutofit/>
          </a:bodyPr>
          <a:p>
            <a:pPr marL="447840" indent="-3826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Hasta aquí podemos resumir lo siguiente:</a:t>
            </a:r>
            <a:endParaRPr b="0" lang="en-US" sz="2000" spc="-1" strike="noStrike">
              <a:solidFill>
                <a:srgbClr val="ffffff"/>
              </a:solidFill>
              <a:latin typeface="Century Gothic"/>
            </a:endParaRPr>
          </a:p>
          <a:p>
            <a:pPr marL="447840" indent="-382680" algn="just">
              <a:lnSpc>
                <a:spcPct val="90000"/>
              </a:lnSpc>
              <a:spcBef>
                <a:spcPts val="499"/>
              </a:spcBef>
              <a:buClr>
                <a:srgbClr val="ff388c"/>
              </a:buClr>
              <a:buSzPct val="8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presencia de la burguesía como clase dominante ha supuesto la implementación de modificaciones esenciales en la vida humana, sobre en todo en el modo en el que los hombres “perciben” la realidad. Necesidad de cambio incesante y  renovación/destrucción de lo creado son signos de esta hegemonía.</a:t>
            </a:r>
            <a:endParaRPr b="0" lang="en-US" sz="2000" spc="-1" strike="noStrike">
              <a:solidFill>
                <a:srgbClr val="ffffff"/>
              </a:solidFill>
              <a:latin typeface="Century Gothic"/>
            </a:endParaRPr>
          </a:p>
          <a:p>
            <a:pPr marL="447840" indent="-382680" algn="just">
              <a:lnSpc>
                <a:spcPct val="90000"/>
              </a:lnSpc>
              <a:spcBef>
                <a:spcPts val="499"/>
              </a:spcBef>
              <a:buClr>
                <a:srgbClr val="ff388c"/>
              </a:buClr>
              <a:buSzPct val="8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los cambios de la percepción sensorial operan básicamente las innovaciones de carácter técnico, puesto que no sólo son mutados los objetos, sus mecanismos de construcción, sino también la manera en que los percibimos. </a:t>
            </a:r>
            <a:endParaRPr b="0" lang="en-US" sz="2000" spc="-1" strike="noStrike">
              <a:solidFill>
                <a:srgbClr val="ffffff"/>
              </a:solidFill>
              <a:latin typeface="Century Gothic"/>
            </a:endParaRPr>
          </a:p>
          <a:p>
            <a:pPr marL="447840" indent="-382680" algn="just">
              <a:lnSpc>
                <a:spcPct val="90000"/>
              </a:lnSpc>
              <a:spcBef>
                <a:spcPts val="499"/>
              </a:spcBef>
              <a:buClr>
                <a:srgbClr val="ff388c"/>
              </a:buClr>
              <a:buSzPct val="8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la esfera de las producciones artísticas, la consecuencia fundamental de la creciente tecnificación del mundo derivará en la pérdida del aura de la obra: ésta, privada ya de su historia y de su irrepetibilidad, de su singularidad, entra al espacio de la masificación. </a:t>
            </a:r>
            <a:endParaRPr b="0" lang="en-US" sz="2000" spc="-1" strike="noStrike">
              <a:solidFill>
                <a:srgbClr val="ffffff"/>
              </a:solidFill>
              <a:latin typeface="Century Gothic"/>
            </a:endParaRPr>
          </a:p>
          <a:p>
            <a:pPr marL="447840" indent="-382680" algn="just">
              <a:lnSpc>
                <a:spcPct val="90000"/>
              </a:lnSpc>
              <a:spcBef>
                <a:spcPts val="499"/>
              </a:spcBef>
              <a:buClr>
                <a:srgbClr val="ff388c"/>
              </a:buClr>
              <a:buSzPct val="8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De lo anterior se deriva que puesta la obra al servicio de las masas, su función ritual (su valor de uso originario) se trastoca en función política.</a:t>
            </a:r>
            <a:endParaRPr b="0" lang="en-US" sz="2000" spc="-1" strike="noStrike">
              <a:solidFill>
                <a:srgbClr val="ffffff"/>
              </a:solidFill>
              <a:latin typeface="Century Gothic"/>
            </a:endParaRPr>
          </a:p>
          <a:p>
            <a:pPr marL="447840" indent="-3826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
          <p:cNvSpPr txBox="1"/>
          <p:nvPr/>
        </p:nvSpPr>
        <p:spPr>
          <a:xfrm>
            <a:off x="457200" y="428400"/>
            <a:ext cx="8229600" cy="6026040"/>
          </a:xfrm>
          <a:prstGeom prst="rect">
            <a:avLst/>
          </a:prstGeom>
          <a:noFill/>
          <a:ln w="0">
            <a:noFill/>
          </a:ln>
        </p:spPr>
        <p:txBody>
          <a:bodyPr lIns="90000" rIns="90000" tIns="46800" bIns="46800" anchor="t">
            <a:normAutofit fontScale="98000"/>
          </a:bodyPr>
          <a:p>
            <a:pPr marL="438840" indent="-37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in embargo, ¿de qué política es dependiente la obra arte apartada ya de su valor ritual? </a:t>
            </a:r>
            <a:endParaRPr b="0" lang="en-US" sz="2000" spc="-1" strike="noStrike">
              <a:solidFill>
                <a:srgbClr val="ffffff"/>
              </a:solidFill>
              <a:latin typeface="Century Gothic"/>
            </a:endParaRPr>
          </a:p>
          <a:p>
            <a:pPr marL="438840" indent="-37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respuesta a esta pregunta podría ser “cualquiera”. Cualquier política o, para exponerlo en los términos que hemos venido usando hasta ahora, cualquier “ideología”. </a:t>
            </a:r>
            <a:endParaRPr b="0" lang="en-US" sz="2000" spc="-1" strike="noStrike">
              <a:solidFill>
                <a:srgbClr val="ffffff"/>
              </a:solidFill>
              <a:latin typeface="Century Gothic"/>
            </a:endParaRPr>
          </a:p>
          <a:p>
            <a:pPr marL="438840" indent="-37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i="1" lang="es-ES" sz="2000" spc="-1" strike="noStrike">
                <a:solidFill>
                  <a:srgbClr val="ffffff"/>
                </a:solidFill>
                <a:latin typeface="Book Antiqua"/>
              </a:rPr>
              <a:t>A medida que las distintas prácticas artísticas se van emancipando del regazo del ritual, aumentan las ocasiones para exhibir sus productos</a:t>
            </a:r>
            <a:r>
              <a:rPr b="0" lang="es-ES" sz="2000" spc="-1" strike="noStrike">
                <a:solidFill>
                  <a:srgbClr val="ffffff"/>
                </a:solidFill>
                <a:latin typeface="Book Antiqua"/>
              </a:rPr>
              <a:t>. […] hoy día, gracias a la importancia absoluta que se da a su valor de exhibición, la obra de arte se ha convertido en una creación dotada de funciones totalmente nuevas, entre las cuales nosotros somos conscientes de la artística, que se destaca como la que quizá algún día se llegue a reconocer como accesoria. Por lo menos es seguro que actualmente la fotografía, y además el cine, proporcionan la evidencia más útil para tal reconocimiento.”</a:t>
            </a:r>
            <a:endParaRPr b="0" lang="en-US" sz="2000" spc="-1" strike="noStrike">
              <a:solidFill>
                <a:srgbClr val="ffffff"/>
              </a:solidFill>
              <a:latin typeface="Century Gothic"/>
            </a:endParaRPr>
          </a:p>
          <a:p>
            <a:pPr marL="438840" indent="-37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s decir, la obra, arrancada del rito, ingresa a un espacio de indeterminación ideológica que permite su apropiación; aparece como una suerte de instrumento, dadas sus posibilidades de exhibición cada vez mayores debido a los avances de la técnica.</a:t>
            </a:r>
            <a:endParaRPr b="0" lang="en-US" sz="2000" spc="-1" strike="noStrike">
              <a:solidFill>
                <a:srgbClr val="ffffff"/>
              </a:solidFill>
              <a:latin typeface="Century Gothic"/>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8" name=""/>
          <p:cNvSpPr txBox="1"/>
          <p:nvPr/>
        </p:nvSpPr>
        <p:spPr>
          <a:xfrm>
            <a:off x="457200" y="428400"/>
            <a:ext cx="8229600" cy="6026040"/>
          </a:xfrm>
          <a:prstGeom prst="rect">
            <a:avLst/>
          </a:prstGeom>
          <a:noFill/>
          <a:ln w="0">
            <a:noFill/>
          </a:ln>
        </p:spPr>
        <p:txBody>
          <a:bodyPr lIns="90000" rIns="90000" tIns="46800" bIns="46800"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or lo tanto, ¿la técnica priva a la obra de su condición de arte?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No necesariamente. Puesto que se trata de un instrumento, la obra, desvinculada del ritual, puede estar al servicio de una propuesta verdaderamente revolucionaria, tanto como las modificaciones técnicas que dan origen a la fotografía y al cine.</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fectivamente, la creciente presencia de la técnica desembocó en la pérdida  del aura de la obra; sin embargo, puede convertirse esta pérdida en la posibilidad de replantear la relación del arte con el mundo social. La técnica puede ser, por lo tanto, el vehículo de una expansión sin igual del arte o, por el contrario, el signo de su destrucción.</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este sentido, ya no cabe preguntarse, para el caso del cine, si es éste arte o no. La pregunta pertinente, al menos desde la perspectiva de Benjamin, es cuál es la función que el cine es convocado a cumplir.</a:t>
            </a:r>
            <a:endParaRPr b="0" lang="en-US" sz="2000" spc="-1" strike="noStrike">
              <a:solidFill>
                <a:srgbClr val="ffffff"/>
              </a:solidFill>
              <a:latin typeface="Century Gothic"/>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
          <p:cNvSpPr txBox="1"/>
          <p:nvPr/>
        </p:nvSpPr>
        <p:spPr>
          <a:xfrm>
            <a:off x="457200" y="642960"/>
            <a:ext cx="8229600" cy="5811840"/>
          </a:xfrm>
          <a:prstGeom prst="rect">
            <a:avLst/>
          </a:prstGeom>
          <a:noFill/>
          <a:ln w="0">
            <a:noFill/>
          </a:ln>
        </p:spPr>
        <p:txBody>
          <a:bodyPr lIns="90000" rIns="90000" tIns="46800" bIns="46800"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Todo lo sólido se desvanece en el aire; todo lo sagrado es profanado, y los hombres, al fin, se ven forzados a considerar serenamente sus condiciones de existencia y sus relaciones recíprocas.” </a:t>
            </a:r>
            <a:endParaRPr b="0" lang="en-US" sz="2000" spc="-1" strike="noStrike">
              <a:solidFill>
                <a:srgbClr val="ffffff"/>
              </a:solidFill>
              <a:latin typeface="Century Gothic"/>
            </a:endParaRPr>
          </a:p>
          <a:p>
            <a:pPr marL="447840" indent="-382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Karl Marx.  </a:t>
            </a:r>
            <a:r>
              <a:rPr b="0" i="1" lang="es-ES" sz="1800" spc="-1" strike="noStrike">
                <a:solidFill>
                  <a:srgbClr val="ffffff"/>
                </a:solidFill>
                <a:latin typeface="Book Antiqua"/>
              </a:rPr>
              <a:t>Manifiesto  Comunista</a:t>
            </a:r>
            <a:r>
              <a:rPr b="0" lang="es-ES" sz="1800" spc="-1" strike="noStrike">
                <a:solidFill>
                  <a:srgbClr val="ffffff"/>
                </a:solidFill>
                <a:latin typeface="Book Antiqua"/>
              </a:rPr>
              <a:t>. </a:t>
            </a:r>
            <a:endParaRPr b="0" lang="en-US" sz="1800" spc="-1" strike="noStrike">
              <a:solidFill>
                <a:srgbClr val="ffffff"/>
              </a:solidFill>
              <a:latin typeface="Century Gothic"/>
            </a:endParaRPr>
          </a:p>
          <a:p>
            <a:pPr marL="447840" indent="-382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
          <p:cNvSpPr txBox="1"/>
          <p:nvPr/>
        </p:nvSpPr>
        <p:spPr>
          <a:xfrm>
            <a:off x="457200" y="642960"/>
            <a:ext cx="8229600" cy="5811840"/>
          </a:xfrm>
          <a:prstGeom prst="rect">
            <a:avLst/>
          </a:prstGeom>
          <a:noFill/>
          <a:ln w="0">
            <a:noFill/>
          </a:ln>
        </p:spPr>
        <p:txBody>
          <a:bodyPr lIns="90000" rIns="90000" tIns="46800" bIns="46800" anchor="t">
            <a:normAutofit fontScale="97000"/>
          </a:bodyPr>
          <a:p>
            <a:pPr marL="434160" indent="-37116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Marz destaca en el </a:t>
            </a:r>
            <a:r>
              <a:rPr b="0" i="1" lang="es-ES" sz="1700" spc="-1" strike="noStrike">
                <a:solidFill>
                  <a:srgbClr val="ffffff"/>
                </a:solidFill>
                <a:latin typeface="Book Antiqua"/>
              </a:rPr>
              <a:t>Manifiesto</a:t>
            </a:r>
            <a:r>
              <a:rPr b="0" lang="es-ES" sz="1700" spc="-1" strike="noStrike">
                <a:solidFill>
                  <a:srgbClr val="ffffff"/>
                </a:solidFill>
                <a:latin typeface="Book Antiqua"/>
              </a:rPr>
              <a:t>, dos características que convierten a la burguesía en la clase más revolucionaria de la historia humana:</a:t>
            </a:r>
            <a:endParaRPr b="0" lang="en-US" sz="1700" spc="-1" strike="noStrike">
              <a:solidFill>
                <a:srgbClr val="ffffff"/>
              </a:solidFill>
              <a:latin typeface="Century Gothic"/>
            </a:endParaRPr>
          </a:p>
          <a:p>
            <a:pPr marL="434160" indent="-371160" algn="just">
              <a:lnSpc>
                <a:spcPct val="100000"/>
              </a:lnSpc>
              <a:spcBef>
                <a:spcPts val="425"/>
              </a:spcBef>
              <a:buClr>
                <a:srgbClr val="ff388c"/>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Su constante activismo: “La burguesía, con su dominio de clase, que cuenta apenas con un siglo de existencia, ha creado fuerzas productivas más abundantes y más grandiosas que todas las generaciones pasadas juntas. El sometimiento de las fuerzas de la naturaleza, el empleo de las máquinas, la aplicación de la química a la industria y a la agricultura, la navegación de vapor, el ferrocarril, el telégrafo eléctrico, la adaptación para el cultivo de continentes enteros,  la apertura de los ríos a la navegación, poblaciones enteres surgiendo por encanto, como si salieran de la tierra. ¿Cuál de los siglos pasados pudo sospechar siquiera que semejantes fuerzas productivas dormitasen en el seno del trabajo social?” Es decir, ha demostrado, a través de una acción organizada y concentrada, que es posible cambiar realmente el mundo.</a:t>
            </a:r>
            <a:endParaRPr b="0" lang="en-US" sz="1700" spc="-1" strike="noStrike">
              <a:solidFill>
                <a:srgbClr val="ffffff"/>
              </a:solidFill>
              <a:latin typeface="Century Gothic"/>
            </a:endParaRPr>
          </a:p>
          <a:p>
            <a:pPr marL="434160" indent="-371160" algn="just">
              <a:lnSpc>
                <a:spcPct val="100000"/>
              </a:lnSpc>
              <a:spcBef>
                <a:spcPts val="425"/>
              </a:spcBef>
              <a:buClr>
                <a:srgbClr val="ff388c"/>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Su dinamismo desesperado: “Una revolución continua en la producción, una incesante conmoción de todas las condiciones sociales, una inquietud y un movimiento constantes distinguen la época burguesa de todas las anteriores. Todas las relaciones estancadas y enmohecidas, con su cortejo de creencias y de ideas veneradas durante siglos, quedan rotas; las nuevas se hacen añejas, antes de haber podido osificarse. Todo lo sólido se desvanece en el aire; todo lo sagrado es profanado, y los hombres al fin se ven forzados a considerar serenamente sus condiciones de existencia y sus relaciones recíprocas”.</a:t>
            </a:r>
            <a:endParaRPr b="0" lang="en-US" sz="1700" spc="-1" strike="noStrike">
              <a:solidFill>
                <a:srgbClr val="ffffff"/>
              </a:solidFill>
              <a:latin typeface="Century Gothic"/>
            </a:endParaRPr>
          </a:p>
          <a:p>
            <a:pPr marL="434160" indent="-371160" algn="just">
              <a:lnSpc>
                <a:spcPct val="100000"/>
              </a:lnSpc>
              <a:spcBef>
                <a:spcPts val="425"/>
              </a:spcBef>
              <a:buClr>
                <a:srgbClr val="ff388c"/>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8" name=""/>
          <p:cNvSpPr txBox="1"/>
          <p:nvPr/>
        </p:nvSpPr>
        <p:spPr>
          <a:xfrm>
            <a:off x="457200" y="428400"/>
            <a:ext cx="8229600" cy="6026040"/>
          </a:xfrm>
          <a:prstGeom prst="rect">
            <a:avLst/>
          </a:prstGeom>
          <a:noFill/>
          <a:ln w="0">
            <a:noFill/>
          </a:ln>
        </p:spPr>
        <p:txBody>
          <a:bodyPr lIns="90000" rIns="90000" tIns="46800" bIns="46800"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el contexto de la sociedad y de la producción burguesa caracterizadas, entonces, por la constante creación de objetos y por su incesante destrucción, en tanto fascinación por lo nuevo, el arte modifica también su relación con el espacio social y, en consecuencia, transforma sus propias condiciones de producción.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pic>
        <p:nvPicPr>
          <p:cNvPr id="349" name="Picture 4" descr="Le-galop-de-daisy"/>
          <p:cNvPicPr/>
          <p:nvPr/>
        </p:nvPicPr>
        <p:blipFill>
          <a:blip r:embed="rId1"/>
          <a:stretch/>
        </p:blipFill>
        <p:spPr>
          <a:xfrm>
            <a:off x="1187280" y="2143080"/>
            <a:ext cx="6624720" cy="40719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0" name="Picture 4" descr="Muybridge_race_horse_animated"/>
          <p:cNvPicPr/>
          <p:nvPr/>
        </p:nvPicPr>
        <p:blipFill>
          <a:blip r:embed="rId1"/>
          <a:stretch/>
        </p:blipFill>
        <p:spPr>
          <a:xfrm>
            <a:off x="1714680" y="1000080"/>
            <a:ext cx="6215040" cy="46436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1" name=""/>
          <p:cNvSpPr txBox="1"/>
          <p:nvPr/>
        </p:nvSpPr>
        <p:spPr>
          <a:xfrm>
            <a:off x="457200" y="428400"/>
            <a:ext cx="8229600" cy="6026040"/>
          </a:xfrm>
          <a:prstGeom prst="rect">
            <a:avLst/>
          </a:prstGeom>
          <a:noFill/>
          <a:ln w="0">
            <a:noFill/>
          </a:ln>
        </p:spPr>
        <p:txBody>
          <a:bodyPr lIns="90000" rIns="90000" tIns="46800" bIns="46800" anchor="t">
            <a:normAutofit/>
          </a:bodyPr>
          <a:p>
            <a:pPr marL="447840" indent="-3826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a:t>
            </a:r>
            <a:r>
              <a:rPr b="0" lang="es-ES" sz="2400" spc="-1" strike="noStrike">
                <a:solidFill>
                  <a:srgbClr val="ffffff"/>
                </a:solidFill>
                <a:latin typeface="Book Antiqua"/>
              </a:rPr>
              <a:t>La obra de arte en la época de su reproductibilidad técnica”</a:t>
            </a:r>
            <a:endParaRPr b="0" lang="en-US" sz="2400" spc="-1" strike="noStrike">
              <a:solidFill>
                <a:srgbClr val="ffffff"/>
              </a:solidFill>
              <a:latin typeface="Century Gothic"/>
            </a:endParaRPr>
          </a:p>
          <a:p>
            <a:pPr marL="447840" indent="-3826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Walter Benjamin</a:t>
            </a:r>
            <a:endParaRPr b="0" lang="en-US" sz="2400" spc="-1" strike="noStrike">
              <a:solidFill>
                <a:srgbClr val="ffffff"/>
              </a:solidFill>
              <a:latin typeface="Century Gothic"/>
            </a:endParaRPr>
          </a:p>
          <a:p>
            <a:pPr marL="447840" indent="-3826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1935</a:t>
            </a:r>
            <a:endParaRPr b="0" lang="en-US" sz="2400" spc="-1" strike="noStrike">
              <a:solidFill>
                <a:srgbClr val="ffffff"/>
              </a:solidFill>
              <a:latin typeface="Century Gothic"/>
            </a:endParaRPr>
          </a:p>
          <a:p>
            <a:pPr marL="447840" indent="-3826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i="1" lang="es-ES" sz="2000" spc="-1" strike="noStrike">
                <a:solidFill>
                  <a:srgbClr val="ffffff"/>
                </a:solidFill>
                <a:latin typeface="Book Antiqua"/>
              </a:rPr>
              <a:t>A lo largo de amplios periodos históricos, las características de la percepción sensorial de la comunidades humanas van cambiando a medida que cambia su modo global de existencia</a:t>
            </a:r>
            <a:r>
              <a:rPr b="0" lang="es-ES" sz="2000" spc="-1" strike="noStrike">
                <a:solidFill>
                  <a:srgbClr val="ffffff"/>
                </a:solidFill>
                <a:latin typeface="Book Antiqua"/>
              </a:rPr>
              <a:t>. El modo y la manera en que la percepción sensorial se organiza (el medio en que acontece) no sólo están condicionados por la naturaleza, sino también por la historia. […] Y si las modificaciones en el medio de la percepción contemporáneas nuestras se prestan a que la entendamos como una decadencia del aura, entonces sí que podremos señalar sus condicionamientos sociales.”</a:t>
            </a:r>
            <a:endParaRPr b="0" lang="en-US" sz="2000" spc="-1" strike="noStrike">
              <a:solidFill>
                <a:srgbClr val="ffffff"/>
              </a:solidFill>
              <a:latin typeface="Century Gothic"/>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
          <p:cNvSpPr txBox="1"/>
          <p:nvPr/>
        </p:nvSpPr>
        <p:spPr>
          <a:xfrm>
            <a:off x="457200" y="571320"/>
            <a:ext cx="8229600" cy="6072120"/>
          </a:xfrm>
          <a:prstGeom prst="rect">
            <a:avLst/>
          </a:prstGeom>
          <a:noFill/>
          <a:ln w="0">
            <a:noFill/>
          </a:ln>
        </p:spPr>
        <p:txBody>
          <a:bodyPr lIns="90000" rIns="90000" tIns="46800" bIns="46800" anchor="t">
            <a:normAutofit fontScale="98000"/>
          </a:bodyPr>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hora bien, si Benjamin sostiene que las modificaciones, de carácter histórico, que modifican la percepción, suponen la decadencia del aura, entonces, cabe preguntarse, qué entiende por “aura”.</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Definiremos esta última como la aparición irrepetible de una lejanía, por cerca que pueda hallarse. En una tarde de verano, seguir con calma el perfil de una cordillera en el horizonte o una rama que arroja su sombra sobre el que reposa: eso significa respirar el aura de estas montañas, de esta rama. De la mano de esta descripción es fácil adentrarse en los condicionamientos sociales de la actual decadencia del aura.”</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Benjamin está observando el avance de los procedimientos técnicos en todos los planos de la existencia humana; pero, en el plano del arte, la técnica ha devenido reproducción de la obra original y, lo que es peor, su reproductibilidad. Es decir, que la técnica invada la esfera del arte, puede conducir a innovaciones beneficiosas insospechadas, por ejemplo, a la difusión de “obras” conocidas sólo por una elite; en cambio, si la técnica es puesta al servicio de la reproductibilidad, la “obra” es encadenada a los mecanismos de producción industrial. No habría entonces diferencia alguna entre la cadena de montaje fordista de un automóvil y la reproductibilidad de una obra de arte.</a:t>
            </a:r>
            <a:endParaRPr b="0" lang="en-US" sz="2000" spc="-1" strike="noStrike">
              <a:solidFill>
                <a:srgbClr val="ffffff"/>
              </a:solidFill>
              <a:latin typeface="Century Gothic"/>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
          <p:cNvSpPr txBox="1"/>
          <p:nvPr/>
        </p:nvSpPr>
        <p:spPr>
          <a:xfrm>
            <a:off x="457200" y="499680"/>
            <a:ext cx="8229600" cy="5954760"/>
          </a:xfrm>
          <a:prstGeom prst="rect">
            <a:avLst/>
          </a:prstGeom>
          <a:noFill/>
          <a:ln w="0">
            <a:noFill/>
          </a:ln>
        </p:spPr>
        <p:txBody>
          <a:bodyPr lIns="90000" rIns="90000" tIns="46800" bIns="46800" anchor="t">
            <a:normAutofit fontScale="96000"/>
          </a:bodyPr>
          <a:p>
            <a:pPr marL="429840" indent="-36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o que la obra pierde en el escenario de este cambio inaudito en la percepción (y, por lo tanto, en este nuevo hito histórico, que es el del capital) es su condición aurática, su irrepetible lejanía.</a:t>
            </a:r>
            <a:endParaRPr b="0" lang="en-US" sz="2000" spc="-1" strike="noStrike">
              <a:solidFill>
                <a:srgbClr val="ffffff"/>
              </a:solidFill>
              <a:latin typeface="Century Gothic"/>
            </a:endParaRPr>
          </a:p>
          <a:p>
            <a:pPr marL="429840" indent="-36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Y esta pérdida está estrechamente vinculada a la importancia creciente de las masas en la vida actual:  “A saber: </a:t>
            </a:r>
            <a:r>
              <a:rPr b="0" i="1" lang="es-ES" sz="2000" spc="-1" strike="noStrike">
                <a:solidFill>
                  <a:srgbClr val="ffffff"/>
                </a:solidFill>
                <a:latin typeface="Book Antiqua"/>
              </a:rPr>
              <a:t>‘acercar’ espacial y humanamente las cosas es una aspiración tan ardiente de las masas actuales como su tendencia a superar lo irrepetible de cada hecho recibiendo su reproducción</a:t>
            </a:r>
            <a:r>
              <a:rPr b="0" lang="es-ES" sz="2000" spc="-1" strike="noStrike">
                <a:solidFill>
                  <a:srgbClr val="ffffff"/>
                </a:solidFill>
                <a:latin typeface="Book Antiqua"/>
              </a:rPr>
              <a:t>. Cada día se hace más inevitable la necesidad de adueñarse del objeto en la máxima proximidad de la imagen, o mejor dicho, en la copia, en la reproducción. Pues la reproducción, tal como nos la proporcionan los periódicos ilustrados y los noticiarios, se distingue de la imagen sin lugar a dudas. En la imagen la singularidad y la perduración están tan estrechamente entrelazadas como en la reproducción el carácter efímero y la posibilidad de repetición. Quitarle la envoltura a cada objeto, hacer trizas su aura es el rasgo característico de un modo de percepción cuya “sensibilidad para lo igual en el mundo” se ha desarrollado tanto que hasta lo extrae de lo singular mediante la repetición.”</a:t>
            </a:r>
            <a:endParaRPr b="0" lang="en-US" sz="2000" spc="-1" strike="noStrike">
              <a:solidFill>
                <a:srgbClr val="ffffff"/>
              </a:solidFill>
              <a:latin typeface="Century Gothic"/>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
          <p:cNvSpPr txBox="1"/>
          <p:nvPr/>
        </p:nvSpPr>
        <p:spPr>
          <a:xfrm>
            <a:off x="457200" y="499680"/>
            <a:ext cx="8229600" cy="5954760"/>
          </a:xfrm>
          <a:prstGeom prst="rect">
            <a:avLst/>
          </a:prstGeom>
          <a:noFill/>
          <a:ln w="0">
            <a:noFill/>
          </a:ln>
        </p:spPr>
        <p:txBody>
          <a:bodyPr lIns="90000" rIns="90000" tIns="46800" bIns="46800"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De acuerdo a lo anterior, el aura de una obra supone autenticidad, que a su vez está determinada por su aquí y su ahora, lo que constituye, en definitiva, su carácter irrepetible.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reproductibilidad técnica “afecta un núcleo sumamente sensible del objeto artístico que no es tan vulnerable en los objetos naturales. Se trata de su autenticidad. La autenticidad de una cosa es la quintaesencia de todo lo que a partir de su origen puede transmitirse en ella, abarcando desde su duración material hasta su valor de testimonio histórico. Como este último depende de aquélla, en la reproducción el valor testimonial de la cosa se tambalea al quedar la duración material fuera del alcance humano. Pero lo que así se viene abajo es la autoridad misma de la cosa. Podríamos incluir en el concepto de aura todo aquello cuya mengua estamos señalando, y afirmar: en la época de la reproducción técnica de la obra de arte lo que se atrofia es el aura de ésta.”</a:t>
            </a:r>
            <a:endParaRPr b="0" lang="en-US" sz="2000" spc="-1" strike="noStrike">
              <a:solidFill>
                <a:srgbClr val="ffffff"/>
              </a:solidFill>
              <a:latin typeface="Century Gothic"/>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2:01:04Z</dcterms:created>
  <dc:creator>María</dc:creator>
  <dc:description/>
  <dc:language>en-US</dc:language>
  <cp:lastModifiedBy>María </cp:lastModifiedBy>
  <dcterms:modified xsi:type="dcterms:W3CDTF">2009-10-08T06:55:35Z</dcterms:modified>
  <cp:revision>31</cp:revision>
  <dc:subject/>
  <dc:title>Diapositiva 1</dc:title>
</cp:coreProperties>
</file>