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0B589-4609-4408-9907-ADD8382C9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778D9-2F2B-4D8C-923D-F92871B8C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FD4F3-7E24-4C86-B544-B66614344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25664-12E6-418B-9082-FD0091F3C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8CF91-0467-4E57-8180-1C8834E5D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E60EB-E30D-41DF-810C-9B9AEC5F9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A5D59-CB15-49CE-8DF6-7771D2FA5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08E52-DB76-4E11-B709-2ED623797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A368E-8E03-487E-9B5B-733C7DFB8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A4546-34AA-4021-9978-0040EEBE2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49ECE-5A7B-4603-BCC8-4C1CD0FDC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ABB65-4872-4EE7-A18E-ECEC94297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BD708-BE5D-48C2-BFB4-F66A398DB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E84CE-6ABF-4636-AFC1-BDDB9242E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9E64F-305C-4C44-A781-B765770EA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4233C-8FE0-44DD-BA65-6EDD51F28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BB05D-F960-489D-8086-A39794746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F09729-E46D-492E-BAD6-2DEB30C361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46F57C-6EF1-4581-A979-08DDB193AD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2E1D99-33C8-4794-B400-D7EF6D38A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E4663-5AED-42E1-99DF-6FD357CCA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DA128F-198F-4AAC-8B7A-25FE11D8C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12B5D-C152-41A6-9DA2-07921B477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30122-9680-4131-BCE7-B4361B9FFA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5D9CB-D83C-40E4-9597-F650D821C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728A4-52ED-4A5A-9961-1FD6C4D73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A5F70D-05BE-46DD-8080-0A7A7F7E5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5AA77-5775-4A40-8E8C-E100C638F8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7C8829-8935-4432-8718-71AB3B627A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C6B91B-A43A-4DC0-B705-866D6189F2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39F91F-4ED3-4CA5-AF3A-B34F4953EA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A49F2-BD25-478B-99EB-A866A51AC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E7204B-925A-4369-BC3D-496E6C2EE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FA4F0-20F1-4953-AAA3-CA787759C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40F87-76F8-4975-BF0F-76DCF97AC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3E2142-DD07-44B9-92B8-B9B67A110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CF60F-5826-43F6-860F-4E44202C86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4D0DB-38C0-4DF2-A5D3-5AB8EFE81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BE4C1-FB10-4323-895D-6D6A4E693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6448C7-A9ED-4A49-A960-58738CC41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D5082-B0BA-4FDF-BCFF-D9B63594A1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B6586A-2CE5-400C-9265-2E14BF8926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2CF32E-529C-486D-9A6C-4F3E64E0DF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019AC2-72AC-445C-9AFB-080F0BC9DC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34299-611C-4ADB-8312-618E41F71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B37CE6-DF90-43CA-9C59-447E8C78C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36DE29-FC88-4321-89B1-13A249339A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E15F44-8F95-4FEB-A54A-E5C83E693B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13D8C-BC85-43A3-820F-D3C9488DB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1E5D02-5A50-467C-B317-BCA67F2945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AFA7BA-AEFB-401D-AE9F-780C2C96A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0C500-26F3-49D9-9AC6-E49C9E87E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0152C-9C10-4631-A1F5-48DFBE271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06D381-99E6-4C3A-8505-C961C3FB2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603168-80C7-4716-9990-E1B6375E0B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48CAD-97B7-4402-9AA8-EFADB8F47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74B868-25AC-4538-97EA-0CE7E53FBB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9CB5FE-8552-4D1A-A5E0-8F43C0DCEC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D445B1-C18D-4F5C-B6AE-F13D9E03CF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276D04-9054-405B-B502-310BF0F5EE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D72B2C-86B3-4E94-8DDF-BFE36E95AA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A768A6-82C1-4F00-85BE-52FD97D1BE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279BB7-F431-4FF1-9B29-3BD4A7A025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D93B63-C0FF-45BB-8C1E-5BDECF415F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FCF5A2-6BAB-4E30-9A4F-6427DE3F6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2A1B33-B75F-4759-B652-AF6FC17151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38E2-0FB0-4A13-96E2-6B0BC4BA9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B8A0E0-8692-460B-95E3-CB64EB9300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2E3E6B-59FC-43C7-9E7B-ABF65F568B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5CFD24-3EEB-4E1B-9B75-E5EF4A36D9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21836D-D615-4E5E-8516-26402E6152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3185A1-244A-4FE9-A00F-4111D3A1F5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B81F89-1914-44CB-8691-70015F7994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2C1AFA-531E-4676-AA85-47CD981E4C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FEA199-68E9-4B3F-9A9E-9269FD88B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A6AA0B-382F-4D82-9AC5-E3924915E5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0482C3-EF70-4FA4-ABAD-BE17077FD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DF03B-C998-46C5-AF8B-F6EB0E978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A4B24F-90B7-4389-9689-B2E0C5EC9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A7283-FA12-4A99-9207-D103A28CA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C480E3-5956-4A9B-944E-3EC4BE940C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50E0D6-11DD-49C6-8E33-124A619393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564A45-C8D8-4FC8-AA27-7C7505CD28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7880E-227B-44F1-92B9-34B3B9E75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140B-D70D-431C-8F10-43781A281B32}"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808080"/>
              </a:gs>
              <a:gs pos="100000">
                <a:srgbClr val="e8e8e8"/>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A987-E2E6-418F-9ED5-A80544142692}" type="slidenum">
              <a:rPr b="0" lang="es-ES" sz="1300" spc="-1" strike="noStrike">
                <a:solidFill>
                  <a:srgbClr val="ffffff"/>
                </a:solidFill>
                <a:latin typeface="Century Gothic"/>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909D-9851-45A2-A836-07827970B550}"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808080"/>
              </a:gs>
              <a:gs pos="100000">
                <a:srgbClr val="e8e8e8"/>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A56A-815B-4D4E-8A90-3480F559C880}"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2A0B-CC90-4538-9916-183DC33503F8}"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E815-5F84-4C4A-AB56-0F0090095FB7}" type="slidenum">
              <a:rPr b="0" lang="es-E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591B-E423-46DC-A6D6-AFEB89E77310}" type="slidenum">
              <a:rPr b="0" lang="es-E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1" name="1 Título" descr=""/>
          <p:cNvPicPr/>
          <p:nvPr/>
        </p:nvPicPr>
        <p:blipFill>
          <a:blip r:embed="rId1"/>
          <a:stretch/>
        </p:blipFill>
        <p:spPr>
          <a:xfrm>
            <a:off x="781200" y="3492360"/>
            <a:ext cx="8180280" cy="1481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5" name="3 Marcador de contenido" descr="la rosa 5.jpg"/>
          <p:cNvPicPr/>
          <p:nvPr/>
        </p:nvPicPr>
        <p:blipFill>
          <a:blip r:embed="rId1"/>
          <a:stretch/>
        </p:blipFill>
        <p:spPr>
          <a:xfrm>
            <a:off x="285840" y="857160"/>
            <a:ext cx="4143240" cy="4632480"/>
          </a:xfrm>
          <a:prstGeom prst="rect">
            <a:avLst/>
          </a:prstGeom>
          <a:ln w="0">
            <a:noFill/>
          </a:ln>
        </p:spPr>
      </p:pic>
      <p:pic>
        <p:nvPicPr>
          <p:cNvPr id="316" name="4 Imagen" descr="la rosa 6.jpg"/>
          <p:cNvPicPr/>
          <p:nvPr/>
        </p:nvPicPr>
        <p:blipFill>
          <a:blip r:embed="rId2"/>
          <a:stretch/>
        </p:blipFill>
        <p:spPr>
          <a:xfrm>
            <a:off x="4572000" y="857160"/>
            <a:ext cx="4214880" cy="4643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
          <p:cNvSpPr txBox="1"/>
          <p:nvPr/>
        </p:nvSpPr>
        <p:spPr>
          <a:xfrm>
            <a:off x="457200" y="285480"/>
            <a:ext cx="8229600" cy="63579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lo tanto, ocio, distracción, entretenimiento, por una lado, y la prolongación de la ficción en la realidad y viceversa, por otro, supondrán el ejercicio de la violencia industrial como nuevo modo de domini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arafraseando a Nietzsche, Adorno y Horkheimer definirán esta cultura de masas producida por la industria cultural como “un sistema de la no-cultura”, el lugar de la barbarie estilizada.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stilo y técnica que privan a la forma de la obra de todo su potencial crítico, de toda capacidad de resistencia, allí donde solo hay reconocimient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industria cultural, en suma, absolutiza la imitación. Reducida a mero estilo, traiciona el secreto de éste: la obediencia a la jerarquía social. La barbarie estética cumple hoy la amenaza que pesa sobre las creaciones espirituales desde que comenzaron a ser reunidas y neutralizadas como cultura. Hablar de cultura ha estada siempre en contra de la cultura. El denominador común de “cultura” contiene ya virtualmente la captación, la catalogación y clasificación que entregan a la cultura en manos de la administración.” [pp. 175-176]</a:t>
            </a:r>
            <a:endParaRPr b="0" lang="en-US" sz="2000" spc="-1" strike="noStrike">
              <a:solidFill>
                <a:srgbClr val="ffffff"/>
              </a:solidFill>
              <a:latin typeface="Century Gothic"/>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
          <p:cNvSpPr txBox="1"/>
          <p:nvPr/>
        </p:nvSpPr>
        <p:spPr>
          <a:xfrm>
            <a:off x="457200" y="499680"/>
            <a:ext cx="8229600" cy="5954760"/>
          </a:xfrm>
          <a:prstGeom prst="rect">
            <a:avLst/>
          </a:prstGeom>
          <a:noFill/>
          <a:ln w="0">
            <a:noFill/>
          </a:ln>
        </p:spPr>
        <p:txBody>
          <a:bodyPr anchor="t">
            <a:normAutofit fontScale="95000"/>
          </a:bodyPr>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sta pérdida de capacidad crítica, de un distanciamiento que permita la reflexión, por causa del reconocimiento, convierte al espectador en un sujeto completamente pasivo. Ya no se trata sólo del dominio del cuerpo, prisionero de la cadena de producción en el lugar de trabajo: la sofisticación de la industria cultural domestica también los sueños, los deseos de los individuos, condicionando el espacio más íntimo: el del placer.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Una sociedad que promete la realización del sueño americano, el éxito económico, compite también por la ilusión del amor perfecto, del final feliz. Pero el cumplimiento no debe ocurrir en la vida cotidiana; de hecho, acontece en la realidad en la medida en que ésta es una extensión de la ficción modalizada como lo real. Desde esta perspectiva es que “las masas tienen lo que desean y se aferran obstinadamente a la ideología mediante la cual se les esclaviza”.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l poder se introyecta como diversión: “La diversión es la prolongación del trabajo bajo el capitalismo tardío. Es buscada por quien quiere sustraerse al proceso de trabajo mecanizado para poder estar de nuevo a su altura, en condiciones de afrontarlo. </a:t>
            </a:r>
            <a:endParaRPr b="0" lang="en-US" sz="2000" spc="-1" strike="noStrike">
              <a:solidFill>
                <a:srgbClr val="ffffff"/>
              </a:solidFill>
              <a:latin typeface="Century Gothic"/>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
          <p:cNvSpPr txBox="1"/>
          <p:nvPr/>
        </p:nvSpPr>
        <p:spPr>
          <a:xfrm>
            <a:off x="457200" y="428400"/>
            <a:ext cx="8229600" cy="6026040"/>
          </a:xfrm>
          <a:prstGeom prst="rect">
            <a:avLst/>
          </a:prstGeom>
          <a:noFill/>
          <a:ln w="0">
            <a:noFill/>
          </a:ln>
        </p:spPr>
        <p:txBody>
          <a:bodyPr anchor="t">
            <a:normAutofit fontScale="95000"/>
          </a:bodyPr>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ero, al mismo tiempo, la mecanización ha adquirido tal poder sobre el hombre que disfruta del tiempo libre y sobre su felicidad, determina tan íntegramente la fabricación de los productos para la diversión, que ese sujeto ya no puede experimentar otra cosa que las copias o reproducciones del mismo proceso de trabajo. El supuesto contenido no es más que una fachada; lo que deja huella realmente es la sucesión automática de operaciones reguladas. Del proceso de trabajo en la fábrica y en la oficina sólo es posible escapar adaptándose al ocio. De este vicio adolece, incurablemente, toda diversión. El placer se petrifica en aburrimiento, pues para seguir siendo tal no debe costar esfuerzos y debe por tanto moverse estrictamente en los raíles de las asociaciones habituales.” [p. 181]</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hora bien, debe quedar en evidencia que el cumplimiento de la promesa de placer se encuentra siempre diferida. El placer es reprimido por los productos de la industria cultural, puesto que el objeto de deseo se nos sustrae permanentemente. Lo que se nos muestra como amor no es más que romance. Y es por esto que la diversión promovida por la industria cultural es tan importante: obliga a la resignación.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
          <p:cNvSpPr txBox="1"/>
          <p:nvPr/>
        </p:nvSpPr>
        <p:spPr>
          <a:xfrm>
            <a:off x="457200" y="428760"/>
            <a:ext cx="8229600" cy="6215040"/>
          </a:xfrm>
          <a:prstGeom prst="rect">
            <a:avLst/>
          </a:prstGeom>
          <a:noFill/>
          <a:ln w="0">
            <a:noFill/>
          </a:ln>
        </p:spPr>
        <p:txBody>
          <a:bodyPr anchor="t">
            <a:normAutofit fontScale="99000"/>
          </a:bodyPr>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En síntesis: la cultura no es más que una mercancía más en el contexto del predominio del capital. </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En tanto mercancía, sólo puede ser entendida a partir de su valor de cambio y no de su valor de uso (puesto que, determinados por las lógicas dominantes, somos usados por medio de los objetos).</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De lo anterior, se sigue que la cultura sea otro objeto reificado más: perdido su valor de uso, la “obra” se convierte en instrumento de dominio.</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La industria cultural no puede distinguirse ya de otros de formas industriales en el circuito del capital. De hecho, una crítica a la industria cultural debe revelar que el campo que parece libre del dominio, no es más que una forma engañosamente sofisticada de esclavitud que, bajo el rótulo de </a:t>
            </a:r>
            <a:r>
              <a:rPr b="0" i="1" lang="es-ES" sz="2400" spc="-1" strike="noStrike">
                <a:solidFill>
                  <a:srgbClr val="ffffff"/>
                </a:solidFill>
                <a:latin typeface="Book Antiqua"/>
              </a:rPr>
              <a:t>diversión</a:t>
            </a:r>
            <a:r>
              <a:rPr b="0" lang="es-ES" sz="2400" spc="-1" strike="noStrike">
                <a:solidFill>
                  <a:srgbClr val="ffffff"/>
                </a:solidFill>
                <a:latin typeface="Book Antiqua"/>
              </a:rPr>
              <a:t>, extiende el poder de la ideología dominante.</a:t>
            </a:r>
            <a:endParaRPr b="0" lang="en-US" sz="2400" spc="-1" strike="noStrike">
              <a:solidFill>
                <a:srgbClr val="ffffff"/>
              </a:solidFill>
              <a:latin typeface="Century Gothic"/>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2" name="1 Título" descr=""/>
          <p:cNvPicPr/>
          <p:nvPr/>
        </p:nvPicPr>
        <p:blipFill>
          <a:blip r:embed="rId1"/>
          <a:stretch/>
        </p:blipFill>
        <p:spPr>
          <a:xfrm>
            <a:off x="450720" y="262080"/>
            <a:ext cx="8285400" cy="1407960"/>
          </a:xfrm>
          <a:prstGeom prst="rect">
            <a:avLst/>
          </a:prstGeom>
          <a:ln w="0">
            <a:noFill/>
          </a:ln>
        </p:spPr>
      </p:pic>
      <p:sp>
        <p:nvSpPr>
          <p:cNvPr id="303"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La tesis sociológica según la cual la pérdida de apoyo en la religión objetiva, la disolución de los últimos residuos precapitalistas, la diferenciación técnica y social y la extremada especialización han dado lugar a un caos cultural, se ve diariamente desmentida por los hechos. </a:t>
            </a:r>
            <a:r>
              <a:rPr b="0" i="1" lang="es-ES" sz="1900" spc="-1" strike="noStrike">
                <a:solidFill>
                  <a:srgbClr val="ffffff"/>
                </a:solidFill>
                <a:latin typeface="Book Antiqua"/>
              </a:rPr>
              <a:t>La cultura marca hoy todo con un rasgo de semejanza</a:t>
            </a:r>
            <a:r>
              <a:rPr b="0" lang="es-ES" sz="1900" spc="-1" strike="noStrike">
                <a:solidFill>
                  <a:srgbClr val="ffffff"/>
                </a:solidFill>
                <a:latin typeface="Book Antiqua"/>
              </a:rPr>
              <a:t>. Cine, radio y revistas constituyen un sistema. Cada sector está armonizado en sí mismo y todos entre ellos. Las manifestaciones estéticas, incluso de las posiciones políticas  opuestas, proclaman del mismo modo el elogio del ritmo del acero. “</a:t>
            </a:r>
            <a:endParaRPr b="0" lang="en-US" sz="1900" spc="-1" strike="noStrike">
              <a:solidFill>
                <a:srgbClr val="ffffff"/>
              </a:solidFill>
              <a:latin typeface="Century Gothic"/>
            </a:endParaRPr>
          </a:p>
          <a:p>
            <a:pPr marL="447840" indent="-3826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En consecuencia, este caos aparente, es programado artificialmente por los detentadores del poder.</a:t>
            </a:r>
            <a:endParaRPr b="0" lang="en-US" sz="1900" spc="-1" strike="noStrike">
              <a:solidFill>
                <a:srgbClr val="ffffff"/>
              </a:solidFill>
              <a:latin typeface="Century Gothic"/>
            </a:endParaRPr>
          </a:p>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Fuente: Adorno, Horkheimer. </a:t>
            </a:r>
            <a:r>
              <a:rPr b="0" lang="es-ES" sz="1500" spc="-1" strike="noStrike" u="sng">
                <a:solidFill>
                  <a:srgbClr val="ffffff"/>
                </a:solidFill>
                <a:uFillTx/>
                <a:latin typeface="Book Antiqua"/>
              </a:rPr>
              <a:t>Dialéctica de la Ilustración. Fragmentos filosóficos</a:t>
            </a:r>
            <a:r>
              <a:rPr b="0" lang="es-ES" sz="1500" spc="-1" strike="noStrike">
                <a:solidFill>
                  <a:srgbClr val="ffffff"/>
                </a:solidFill>
                <a:latin typeface="Book Antiqua"/>
              </a:rPr>
              <a:t>. “La industria cultural”. Trotta. Madrid: 2006. P. 165.</a:t>
            </a:r>
            <a:endParaRPr b="0" lang="en-US" sz="1500" spc="-1" strike="noStrike">
              <a:solidFill>
                <a:srgbClr val="ffffff"/>
              </a:solidFill>
              <a:latin typeface="Century Gothic"/>
            </a:endParaRPr>
          </a:p>
          <a:p>
            <a:pPr marL="4478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
          <p:cNvSpPr txBox="1"/>
          <p:nvPr/>
        </p:nvSpPr>
        <p:spPr>
          <a:xfrm>
            <a:off x="457200" y="499680"/>
            <a:ext cx="8229600" cy="59547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Tal como en la industria tradicional, la industria cultural se fundamenta en lo transitorio: se construye con vistas a la destrucción. El mercado es sólo necesario ahí donde sus objetos están condenados a desaparecer.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lo tanto, en la medida que se trata de objetos de mercado, los productos culturales se sitúan fuera de la esfera del arte: pertenecen al circuito de los negocios.:</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l cine y la radio no necesitan ya darse como arte. La verdad de que no son sino negocio les sirve de ideología que debe legitimar la porquería que producen deliberadamente. Se autodefinen como industrias, y las cifras publicadas de los sueldos de sus directores generales eliminan toda duda respecto a la necesidad social de sus productos.” [Ibid. P. 166]</a:t>
            </a:r>
            <a:endParaRPr b="0" lang="en-US" sz="2000" spc="-1" strike="noStrike">
              <a:solidFill>
                <a:srgbClr val="ffffff"/>
              </a:solidFill>
              <a:latin typeface="Century Gothic"/>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
          <p:cNvSpPr txBox="1"/>
          <p:nvPr/>
        </p:nvSpPr>
        <p:spPr>
          <a:xfrm>
            <a:off x="457200" y="571680"/>
            <a:ext cx="8229600" cy="5883120"/>
          </a:xfrm>
          <a:prstGeom prst="rect">
            <a:avLst/>
          </a:prstGeom>
          <a:noFill/>
          <a:ln w="0">
            <a:noFill/>
          </a:ln>
        </p:spPr>
        <p:txBody>
          <a:bodyPr anchor="t">
            <a:normAutofit fontScale="94000"/>
          </a:bodyPr>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l contexto de la crítica a la racionalidad que se realiza sólo como técnica, Adorno y Horkheimer afirman que este despliegue de aparatos tecnológicos que enorgullecen a la industria de la cultura, sólo reafirma la crisis de la razón, en la medida que ésta se asocia a las lógicas de dominio. Es decir, la racionalidad de la técnica es igual a la racionalidad del dominio.</a:t>
            </a:r>
            <a:endParaRPr b="0" lang="en-US" sz="2000" spc="-1" strike="noStrike">
              <a:solidFill>
                <a:srgbClr val="ffffff"/>
              </a:solidFill>
              <a:latin typeface="Century Gothic"/>
            </a:endParaRPr>
          </a:p>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ideología de la clase dominante encuentra entonces, el mejor vehículo de difusión en los nuevos artefactos de “la cultura”. Se trata de llegar a cada potencial receptor, eliminando así, paradojalmente, las premisas del sujeto moderno autónomo. Nadie deja de ser autónomo, pese a que todos somos ideologizados colectivamente a través del cine y de la radio. Esta es la ilusión que nos obliga a asumir como realidad la industria cultural.</a:t>
            </a:r>
            <a:endParaRPr b="0" lang="en-US" sz="2000" spc="-1" strike="noStrike">
              <a:solidFill>
                <a:srgbClr val="ffffff"/>
              </a:solidFill>
              <a:latin typeface="Century Gothic"/>
            </a:endParaRPr>
          </a:p>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n embargo, Adorno y Horkheimer se cuidan de condenar a la técnica en sí misma: su defecto estriba en la instrumentalización de sus recursos (que es, en defintiva, el uso instrumental de la razón privada de su horizonte crítico), en la función que se le atribuye en la economía actual: reproducir las condiciones de producción.</a:t>
            </a:r>
            <a:endParaRPr b="0" lang="en-US" sz="2000" spc="-1" strike="noStrike">
              <a:solidFill>
                <a:srgbClr val="ffffff"/>
              </a:solidFill>
              <a:latin typeface="Century Gothic"/>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
          <p:cNvSpPr txBox="1"/>
          <p:nvPr/>
        </p:nvSpPr>
        <p:spPr>
          <a:xfrm>
            <a:off x="457200" y="428400"/>
            <a:ext cx="8229600" cy="6026040"/>
          </a:xfrm>
          <a:prstGeom prst="rect">
            <a:avLst/>
          </a:prstGeom>
          <a:noFill/>
          <a:ln w="0">
            <a:noFill/>
          </a:ln>
        </p:spPr>
        <p:txBody>
          <a:bodyPr anchor="t">
            <a:normAutofit fontScale="98000"/>
          </a:bodyPr>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reproducción de las condiciones de producción a través de la industria cultural es tanto más peligrosa en cuanto se constituye a partir de un engaño “placentero”: es la necesidad de placer, de distensión, de distracción que amenaza la existencia del hombre contemporáneo. Necesidad naturalizada pero que no es más, según denuncian Adorno y Horkheimer, que un artilugio: la tecnología de la distracción crea la necesidad. Nos enfrentamos, entonces, a un nuevo colectivo: el público.</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constitución del público, que en teoría y de hecho favorece al sistema de la industria cultural, es una parte del sistema, no su disculpa. Cuando una rama artística procede según la misma receta que otra, muy diversa de ella por lo que respecta al contenido y a los medios expresivos; cuando el nudo dramático en las “óperas de jabón” radiofónicas se convierte en ilustración pedagógica para resolver dificultades técnicas, que son dominadas como “conservas” del mismo modo que en los puntos culminantes de la vida del jazz; o cuando la “adaptación” experimental de una composición de Beethoven se hace según el mismo esquema con el que se lleva una novela de Tolstoi al cine, el recurso a los deseos espontáneos del público se convierte en fútil pretexto.” [p. 167]</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
          <p:cNvSpPr txBox="1"/>
          <p:nvPr/>
        </p:nvSpPr>
        <p:spPr>
          <a:xfrm>
            <a:off x="457200" y="571680"/>
            <a:ext cx="8229600" cy="588312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la masa constituida por el público, la industria cultural introduce diferenciaciones que, en cualquier caso, son programadas: se trata de estratificar a los receptores de los productos que salen al mercado.:</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Para todos hay algo previsto, a fin de que ninguno pueda escapar; las diferencias son acuñadas y propagadas artificialmente. El abastecimiento del público con una jerarquía de cualidades en serie sirve sólo a una cuantificación tanto más compacta. Cada uno debe comportarse, por así decirlo, espontáneamente de acuerdo con su “nivel”, que le ha sido asignado previamente sobre la base de índices estadísticos, y echar mano de la categoría de productos de masa que ha sido fabricada para su tipo. Reducidos a material estadístico, los consumidores son distribuidos sobre el mapa geográfico de las oficinas de investigación de mercado, que ya no se diferencian prácticamente de las de propaganda, en grupos según ingresos, en campos rojos, verdes y azules.” [p. 168]</a:t>
            </a:r>
            <a:endParaRPr b="0" lang="en-US" sz="2000" spc="-1" strike="noStrike">
              <a:solidFill>
                <a:srgbClr val="ffffff"/>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8" name="1 Título" descr=""/>
          <p:cNvPicPr/>
          <p:nvPr/>
        </p:nvPicPr>
        <p:blipFill>
          <a:blip r:embed="rId1"/>
          <a:stretch/>
        </p:blipFill>
        <p:spPr>
          <a:xfrm>
            <a:off x="450720" y="262080"/>
            <a:ext cx="8242560" cy="1103040"/>
          </a:xfrm>
          <a:prstGeom prst="rect">
            <a:avLst/>
          </a:prstGeom>
          <a:ln w="0">
            <a:noFill/>
          </a:ln>
        </p:spPr>
      </p:pic>
      <p:sp>
        <p:nvSpPr>
          <p:cNvPr id="309" name=""/>
          <p:cNvSpPr txBox="1"/>
          <p:nvPr/>
        </p:nvSpPr>
        <p:spPr>
          <a:xfrm>
            <a:off x="457200" y="1285920"/>
            <a:ext cx="8229600" cy="5168880"/>
          </a:xfrm>
          <a:prstGeom prst="rect">
            <a:avLst/>
          </a:prstGeom>
          <a:noFill/>
          <a:ln w="0">
            <a:noFill/>
          </a:ln>
        </p:spPr>
        <p:txBody>
          <a:bodyPr anchor="t">
            <a:normAutofit fontScale="96000"/>
          </a:bodyPr>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 para Kant el alma era el filtro de lo sensible, este filtro, en el contexto de la industria cultural se ubica fuera del sujeto: ahora se encuentra en la misma industria. Ella media entre el mundo y su cognoscibilidad; es decir, el sujeto recibe al objeto ya depurado, filtrado, dispuesto a ser “consumido”. En este sentido, cada detalle de la “obra” anticipa su consecución, sin necesidad de que el sujeto prevea nada. Y esta anticipación, por cierto, está programada. De hecho, el único filtro entre el mundo y el sujeto es la industria cultural.</a:t>
            </a:r>
            <a:endParaRPr b="0" lang="en-US" sz="2000" spc="-1" strike="noStrike">
              <a:solidFill>
                <a:srgbClr val="ffffff"/>
              </a:solidFill>
              <a:latin typeface="Century Gothic"/>
            </a:endParaRPr>
          </a:p>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breve sucesión de intervalos que ha resultado eficaz en una canción exitosa, el fracaso pasajero del héroe que éste debe aceptar deportivamente, los saludables golpes que la amada recibe de las robustas manos del galán, los rudos modales de éste con la heredera pervertida, son, como todos los detalles, clichés hechos para usar a placer aquí y allí, enteramente definidos cada vez por el objetivo que se le asigna en el esquema.” [p. 170]</a:t>
            </a:r>
            <a:endParaRPr b="0" lang="en-US" sz="2000" spc="-1" strike="noStrike">
              <a:solidFill>
                <a:srgbClr val="ffffff"/>
              </a:solidFill>
              <a:latin typeface="Century Gothic"/>
            </a:endParaRPr>
          </a:p>
          <a:p>
            <a:pPr marL="429840" indent="-36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
          <p:cNvSpPr txBox="1"/>
          <p:nvPr/>
        </p:nvSpPr>
        <p:spPr>
          <a:xfrm>
            <a:off x="428760" y="714240"/>
            <a:ext cx="8229600" cy="57405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De ahí la relevancia que adquiere la asociación entre imagen y sonido: una película sonora se asemeja a tal punto a lo real que el filtro reflexivo mínimo que dirime entre realidad y ficción es innecesari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Cuánto más automático es identificarse con los personajes del drama, así como anticipar el devenir del relato, si lo observado se asemeja a la realidad!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l mundo entero es conducido a través del filtro de la industria cultural. La vieja experiencia del espectador de cine, que percibe el exterior, la calle, como continuación del espectáculo que acaba de dejar, porque este último quiere precisamente reproducir fielmente el mundo perceptivo de la vida cotidiana, se ha convertido en el hilo conductor de la producción. Cuanto más completa e integralmente las técnicas cinematográficas dupliquen los objetos empíricos, tanto más fácil se logra hoy la ilusión de creer que el mundo exterior es la simple prolongación del que se conoce en el cine.” [p. 171]</a:t>
            </a:r>
            <a:endParaRPr b="0" lang="en-US" sz="2000" spc="-1" strike="noStrike">
              <a:solidFill>
                <a:srgbClr val="ffffff"/>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1" name="3 Marcador de contenido" descr="la rosa 2.jpg"/>
          <p:cNvPicPr/>
          <p:nvPr/>
        </p:nvPicPr>
        <p:blipFill>
          <a:blip r:embed="rId1"/>
          <a:stretch/>
        </p:blipFill>
        <p:spPr>
          <a:xfrm>
            <a:off x="1285920" y="785880"/>
            <a:ext cx="2357280" cy="2428920"/>
          </a:xfrm>
          <a:prstGeom prst="rect">
            <a:avLst/>
          </a:prstGeom>
          <a:ln w="0">
            <a:noFill/>
          </a:ln>
        </p:spPr>
      </p:pic>
      <p:pic>
        <p:nvPicPr>
          <p:cNvPr id="312" name="4 Imagen" descr="la rosa3.jpg"/>
          <p:cNvPicPr/>
          <p:nvPr/>
        </p:nvPicPr>
        <p:blipFill>
          <a:blip r:embed="rId2"/>
          <a:stretch/>
        </p:blipFill>
        <p:spPr>
          <a:xfrm>
            <a:off x="4214880" y="714240"/>
            <a:ext cx="4143240" cy="2428920"/>
          </a:xfrm>
          <a:prstGeom prst="rect">
            <a:avLst/>
          </a:prstGeom>
          <a:ln w="0">
            <a:noFill/>
          </a:ln>
        </p:spPr>
      </p:pic>
      <p:pic>
        <p:nvPicPr>
          <p:cNvPr id="313" name="5 Imagen" descr="la rosa 4.jpg"/>
          <p:cNvPicPr/>
          <p:nvPr/>
        </p:nvPicPr>
        <p:blipFill>
          <a:blip r:embed="rId3"/>
          <a:stretch/>
        </p:blipFill>
        <p:spPr>
          <a:xfrm>
            <a:off x="714240" y="3571920"/>
            <a:ext cx="3571920" cy="2643120"/>
          </a:xfrm>
          <a:prstGeom prst="rect">
            <a:avLst/>
          </a:prstGeom>
          <a:ln w="0">
            <a:noFill/>
          </a:ln>
        </p:spPr>
      </p:pic>
      <p:pic>
        <p:nvPicPr>
          <p:cNvPr id="314" name="6 Imagen" descr="La rosa 1.jpg"/>
          <p:cNvPicPr/>
          <p:nvPr/>
        </p:nvPicPr>
        <p:blipFill>
          <a:blip r:embed="rId4"/>
          <a:stretch/>
        </p:blipFill>
        <p:spPr>
          <a:xfrm>
            <a:off x="4786200" y="3429000"/>
            <a:ext cx="3857760" cy="27860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02:37:19Z</dcterms:created>
  <dc:creator>Guacolda</dc:creator>
  <dc:description/>
  <dc:language>en-US</dc:language>
  <cp:lastModifiedBy>Guacolda</cp:lastModifiedBy>
  <dcterms:modified xsi:type="dcterms:W3CDTF">2009-09-03T15:29:05Z</dcterms:modified>
  <cp:revision>22</cp:revision>
  <dc:subject/>
  <dc:title>        La industria cultural  </dc:title>
</cp:coreProperties>
</file>