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755E3-D397-46D1-B89C-9366B6797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358E5-5BC3-4F31-B731-A4B6F30C3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726E8-13A0-4F0A-B910-352CA5613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74CD6-D114-45FE-BD38-DA8959005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4AF0E-3EEB-41B1-A359-ED4BCDC6F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56E38-8BD3-4512-B435-77D561F55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8279A-DDC0-4AA0-A4D1-EA5B73FA2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EC58F-D886-456D-B42F-C8FC51915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C78A5-3D45-43D1-82E0-D929B4842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AF578-9F2E-447D-9CD0-45FBCAEB0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5DAC5-DF40-4C88-A661-22FEA6015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5258F-45EC-409F-B091-63E328234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7F18-6E69-4791-BB26-CA86542BCC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836640"/>
            <a:ext cx="6400800" cy="4897440"/>
          </a:xfrm>
          <a:prstGeom prst="rect">
            <a:avLst/>
          </a:prstGeom>
          <a:noFill/>
          <a:ln w="0">
            <a:noFill/>
          </a:ln>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urier New"/>
              </a:rPr>
              <a:t>Ideología:</a:t>
            </a:r>
            <a:r>
              <a:rPr b="0" lang="es-ES_tradnl" sz="2000" spc="-1" strike="noStrike">
                <a:solidFill>
                  <a:srgbClr val="ffffff"/>
                </a:solidFill>
                <a:latin typeface="Courier New"/>
              </a:rPr>
              <a:t> </a:t>
            </a:r>
            <a:endParaRPr b="0" lang="en-US" sz="20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urier New"/>
              </a:rPr>
              <a:t>1. </a:t>
            </a:r>
            <a:r>
              <a:rPr b="0" lang="es-ES_tradnl" sz="2800" spc="-1" strike="noStrike">
                <a:solidFill>
                  <a:srgbClr val="ffffff"/>
                </a:solidFill>
                <a:latin typeface="Courier New"/>
              </a:rPr>
              <a:t>f. Doctrina filosófica centrada en el estudio del origen de las idea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urier New"/>
              </a:rPr>
              <a:t>2. </a:t>
            </a:r>
            <a:r>
              <a:rPr b="0" lang="es-ES_tradnl" sz="2800" spc="-1" strike="noStrike">
                <a:solidFill>
                  <a:srgbClr val="ffffff"/>
                </a:solidFill>
                <a:latin typeface="Courier New"/>
              </a:rPr>
              <a:t>f. Conjunto de ideas fundamentales que caracteriza el pensamiento de una persona, colectividad o época, de un movimiento cultural, religioso o</a:t>
            </a:r>
            <a:r>
              <a:rPr b="0" lang="es-ES_tradnl" sz="2800" spc="-1" strike="noStrike">
                <a:solidFill>
                  <a:srgbClr val="ffffff"/>
                </a:solidFill>
                <a:latin typeface="Arial"/>
              </a:rPr>
              <a:t> </a:t>
            </a:r>
            <a:r>
              <a:rPr b="0" lang="es-ES_tradnl" sz="2800" spc="-1" strike="noStrike">
                <a:solidFill>
                  <a:srgbClr val="ffffff"/>
                </a:solidFill>
                <a:latin typeface="Courier New"/>
              </a:rPr>
              <a:t>político, etc.</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Fuente: www.rae.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a escuela</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al como los medios de producción (empresas, fábricas, servicios, etc.) deben reproducirse incesantemente, la fuerza de trabajo debe también generar las condiciones de su reproducción. Sin embargo, mientras que los medios de producción surten su necesidad de reproducción en el mismo circuito de producción, la fuerza de trabajo, o mano de obra, se reproduce en “otra parte”: la escuela.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r>
              <a:rPr b="0" lang="en-US" sz="1800" spc="-1" strike="noStrike">
                <a:solidFill>
                  <a:srgbClr val="ffffff"/>
                </a:solidFill>
                <a:latin typeface="Courier New"/>
              </a:rPr>
              <a:t>La fuerza de trabajo disponible debe ser “competente”, es decir apta para ser utilizada en el complejo sistema de producción. El desarrollo de las fuerzas productivas y el tipo de unidad históricamente constitutivo de esas fuerzas productivas  en un momento dado determinan que la fuerza de trabajo debe ser (diversamente) calificada, y por lo tanto reproducida como tal. Diversamente, o sea según las exigencias de la división social-técnica del trabajo, en sus distintos “puestos” y “emple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rPr>
              <a:t>“</a:t>
            </a:r>
            <a:r>
              <a:rPr b="0" lang="es-ES_tradnl" sz="1800" spc="-1" strike="noStrike">
                <a:solidFill>
                  <a:srgbClr val="ffffff"/>
                </a:solidFill>
                <a:latin typeface="Courier New"/>
              </a:rPr>
              <a:t>Ahora bien, ¿cómo se asegura esta reproducción de la calificación (diversificada) de la fuerza de trabajo en el régimen capitalista? Contrariamente a lo que sucedía en las formaciones sociales esclavistas y serviles, esta reproducción de la calificación de la fuerza de trabajo tiende (se trata de una ley tendencial) a asegurarse no ya “en el lugar de trabajo” (aprendizaje en la producción misma), sino, cada vez más, fuera de la producción, por medio del sistema educativo capitalista y de otras instancias e institucion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rPr>
              <a:t>¿Qué se aprende en la escuela? Es posible llegar hasta un punto más o menos avanzado de los estudios, pero de todas maneras se aprende a leer, escribir y contar, o sea algunas técnicas, y también otras cosas, incluso elementos (que pueden rudimentarios o por el contrario profundizados) de “cultura científica” o “literaria” directamente utilizables en los distintos puestos de la producción (una instrucción para los obreros, una para los técnicos, una tercera para los ingenieros, otra para los cuadros superiores, etc.). Se aprenden “habilidades” [</a:t>
            </a:r>
            <a:r>
              <a:rPr b="0" i="1" lang="es-ES_tradnl" sz="1800" spc="-1" strike="noStrike">
                <a:solidFill>
                  <a:srgbClr val="ffffff"/>
                </a:solidFill>
                <a:latin typeface="Courier New"/>
              </a:rPr>
              <a:t>savoir-faire</a:t>
            </a:r>
            <a:r>
              <a:rPr b="0" lang="es-ES_tradnl" sz="1800" spc="-1" strike="noStrike">
                <a:solidFill>
                  <a:srgbClr val="ffffff"/>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r>
              <a:rPr b="0" lang="en-US" sz="2000" spc="-1" strike="noStrike">
                <a:solidFill>
                  <a:srgbClr val="ffffff"/>
                </a:solidFill>
                <a:latin typeface="Courier New"/>
              </a:rPr>
              <a:t>Pero al mismo tiempo, y junto con esas técnicas y conocimientos, en la escuela se aprenden las “reglas” del buen uso, es decir de las conveniencias que debe observar todo agente de la división del trabajo, según el puesto que está “destinado” a ocupar: reglas de moral y de conciencia cívica y profesional, lo que significa en realidad reglas del respeto a la división social-técnica del trabajo y, en definitiva, reglas del orden establecido por la dominación de clase. Se aprende también a “hablar bien el idioma”, a “redactar bien”, lo que de hecho significa (para los futuros capitalistas y sus servidores) “saber dar órdenes”, es decir (solución ideal), “saber dirigirse” a los obrero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rPr>
              <a:t>“</a:t>
            </a:r>
            <a:r>
              <a:rPr b="0" lang="es-ES_tradnl" sz="1800" spc="-1" strike="noStrike">
                <a:solidFill>
                  <a:srgbClr val="ffffff"/>
                </a:solidFill>
                <a:latin typeface="Courier New"/>
              </a:rPr>
              <a:t>Enunciando este hecho en un lenguaje más científico, diremos que la reproducción de la fuerza de trabajo no sólo exige una reproducción de su calificación, sino, al mismo tiempo, la reproducción de su sumisión a las reglas del orden establecido, es decir una reproducción de su sumisión a la ideología dominante por parte de los agentes de la explotación y la represión, a fin de que aseguren también “por la palabra” el predominio de la clase dominant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rPr>
              <a:t>En otros términos, la escuela (y también otras instituciones del Estado, como la Iglesia, y otros aparatos como el Ejército) enseña las “habilidades” bajo formas que aseguran el </a:t>
            </a:r>
            <a:r>
              <a:rPr b="0" i="1" lang="es-ES_tradnl" sz="1800" spc="-1" strike="noStrike">
                <a:solidFill>
                  <a:srgbClr val="ffffff"/>
                </a:solidFill>
                <a:latin typeface="Courier New"/>
              </a:rPr>
              <a:t>sometimiento a la ideología dominante</a:t>
            </a:r>
            <a:r>
              <a:rPr b="0" lang="es-ES_tradnl" sz="1800" spc="-1" strike="noStrike">
                <a:solidFill>
                  <a:srgbClr val="ffffff"/>
                </a:solidFill>
                <a:latin typeface="Courier New"/>
              </a:rPr>
              <a:t> o el dominio de su “práctica”. Todos los agentes de la producción, la explotación y la represión, sin hablar de “los profesionales de la ideología” (Marx) deben estar compenetrados en tal o cual carácter con esta ideología para cumplir “concienzudamente” con sus tareas, sea de explotados (los proletarios), de explotadores (los capitalistas), de auxiliares de la explotación (los cuadros), los grandes sacerdotes de la ideología dominante (sus funcionari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En síntesis, bajo la ideología se asegura la reproducción de la calificación de la fuerza de trabajo y, en este sentido, la ideología (en tanto condicionamiento de la relación del sujeto con el mundo) es una “representación” de la relación imaginaria de los individuos con sus condiciones reales de exist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urier New"/>
              </a:rPr>
              <a:t>Por lo tanto, no debe confundirse el concepto de Ideología entendido éste como “representación imaginaria de los individuos con sus condiciones reales de existencia”, con las ideologías, entendidas éstas como manifestaciones particulares de </a:t>
            </a:r>
            <a:r>
              <a:rPr b="0" i="1" lang="es-ES_tradnl" sz="2000" spc="-1" strike="noStrike">
                <a:solidFill>
                  <a:srgbClr val="ffffff"/>
                </a:solidFill>
                <a:latin typeface="Courier New"/>
              </a:rPr>
              <a:t>posiciones de clase</a:t>
            </a:r>
            <a:r>
              <a:rPr b="0" lang="es-ES_tradnl" sz="2000" spc="-1" strike="noStrike">
                <a:solidFill>
                  <a:srgbClr val="ffffff"/>
                </a:solidFill>
                <a:latin typeface="Courier New"/>
              </a:rPr>
              <a:t>, determinadas temporal y espacialmente cualquiera sea su forma (religiosa, moral, política, et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urier New"/>
              </a:rPr>
              <a:t>La Ideología es transhistórica, es decir, omnipresente a la historia, inmutable en su forma en todo el transcurso de la historia. De ahí que la Ideología señale la representación de la </a:t>
            </a:r>
            <a:r>
              <a:rPr b="1" i="1" lang="es-ES_tradnl" sz="2000" spc="-1" strike="noStrike">
                <a:solidFill>
                  <a:srgbClr val="ffffff"/>
                </a:solidFill>
                <a:latin typeface="Courier New"/>
              </a:rPr>
              <a:t>relación</a:t>
            </a:r>
            <a:r>
              <a:rPr b="0" lang="es-ES_tradnl" sz="2000" spc="-1" strike="noStrike">
                <a:solidFill>
                  <a:srgbClr val="ffffff"/>
                </a:solidFill>
                <a:latin typeface="Courier New"/>
              </a:rPr>
              <a:t> de los individuos con sus condiciones reales de existencia y no éstas condiciones propiamente tal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urier New"/>
              </a:rPr>
              <a:t>“</a:t>
            </a:r>
            <a:r>
              <a:rPr b="0" lang="es-ES_tradnl" sz="2000" spc="-1" strike="noStrike">
                <a:solidFill>
                  <a:srgbClr val="ffffff"/>
                </a:solidFill>
                <a:latin typeface="Courier New"/>
              </a:rPr>
              <a:t>Para llegar a un exacto conocimiento del proceso psíquico es condición imprescindible dar a la conciencia su verdadero valor, tan distinto del que ha venido atribuyéndosele con exageración manifiesta. En lo inconsciente tenemos que ver, como afirma Lipps, la base general de la vida psíquica. </a:t>
            </a:r>
            <a:r>
              <a:rPr b="0" i="1" lang="es-ES_tradnl" sz="2000" spc="-1" strike="noStrike">
                <a:solidFill>
                  <a:srgbClr val="ffffff"/>
                </a:solidFill>
                <a:latin typeface="Courier New"/>
              </a:rPr>
              <a:t>Lo inconsciente es el círculo más amplio en el que se halla inscrito el de lo consciente</a:t>
            </a:r>
            <a:r>
              <a:rPr b="0" lang="es-ES_tradnl" sz="2000" spc="-1" strike="noStrike">
                <a:solidFill>
                  <a:srgbClr val="ffffff"/>
                </a:solidFill>
                <a:latin typeface="Courier New"/>
              </a:rPr>
              <a:t>. Todo lo consciente tiene un grado preliminar inconsciente, mientras que lo inconsciente puede permanecer en este grado y aspirar, sin embargo, al valor completo de una función psíquica. Lo inconsciente es lo psíquico verdaderamente real: su naturaleza interna nos es tan desconocida como la realidad del mundo exterior y nos es dado por el testimonio de nuestra conciencia tan incompletamente como el mundo exterior por el de nuestros órganos sensoriale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Sigmund Freud. </a:t>
            </a:r>
            <a:r>
              <a:rPr b="0" i="1" lang="es-ES_tradnl" sz="1600" spc="-1" strike="noStrike">
                <a:solidFill>
                  <a:srgbClr val="ffffff"/>
                </a:solidFill>
                <a:latin typeface="Courier New"/>
              </a:rPr>
              <a:t>Interpretación de los sueños</a:t>
            </a:r>
            <a:r>
              <a:rPr b="0" lang="es-ES_tradnl" sz="1600" spc="-1" strike="noStrike">
                <a:solidFill>
                  <a:srgbClr val="ffffff"/>
                </a:solidFill>
                <a:latin typeface="Courier New"/>
              </a:rPr>
              <a:t>. P. 357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09680" y="571680"/>
            <a:ext cx="4724640" cy="571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68360" y="1916280"/>
            <a:ext cx="8229600" cy="4032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r>
              <a:rPr b="0" lang="en-US" sz="2000" spc="-1" strike="noStrike">
                <a:solidFill>
                  <a:srgbClr val="ffffff"/>
                </a:solidFill>
                <a:latin typeface="Courier New"/>
              </a:rPr>
              <a:t>Se puede decir que los pisos de la superestructura no son determinantes en última instancia sino que son determinados por la eficacia básica; que si son determinantes a su manera (no definida aún), lo son en tanto están determinados por la bas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u índice de eficacia (o de determinación), en tanto ésta se halla determinada por la determinación en última instancia de la base, es pensado en la tradición marxista bajo dos formas: 1) existe una “autonomía relativa” de la superestructura con respecto a la base; 2) existe una “reacción” de la superestructura sobre la base”.</a:t>
            </a:r>
            <a:endParaRPr b="0" lang="en-US" sz="2000" spc="-1" strike="noStrike">
              <a:solidFill>
                <a:srgbClr val="000000"/>
              </a:solidFill>
              <a:latin typeface="Arial"/>
            </a:endParaRPr>
          </a:p>
        </p:txBody>
      </p:sp>
      <p:sp>
        <p:nvSpPr>
          <p:cNvPr id="43" name=""/>
          <p:cNvSpPr/>
          <p:nvPr/>
        </p:nvSpPr>
        <p:spPr>
          <a:xfrm>
            <a:off x="1832400" y="907920"/>
            <a:ext cx="5484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Índice de eficacia respec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2411280" y="907920"/>
          <a:ext cx="4248360" cy="4465440"/>
        </p:xfrm>
        <a:graphic>
          <a:graphicData uri="http://schemas.openxmlformats.org/drawingml/2006/table">
            <a:tbl>
              <a:tblPr/>
              <a:tblGrid>
                <a:gridCol w="4248360"/>
              </a:tblGrid>
              <a:tr h="22327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uperestructura</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stancia jurídico-política</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stancia ideológica</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2327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fraestructura</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uerzas productivas (fuerza de trabajo y medios de producción)</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 name=""/>
          <p:cNvSpPr/>
          <p:nvPr/>
        </p:nvSpPr>
        <p:spPr>
          <a:xfrm>
            <a:off x="1692360" y="2276640"/>
            <a:ext cx="718920" cy="2304720"/>
          </a:xfrm>
          <a:custGeom>
            <a:avLst/>
            <a:gdLst>
              <a:gd name="textAreaLeft" fmla="*/ 0 w 718920"/>
              <a:gd name="textAreaRight" fmla="*/ 719280 w 718920"/>
              <a:gd name="textAreaTop" fmla="*/ 0 h 2304720"/>
              <a:gd name="textAreaBottom" fmla="*/ 2305080 h 2304720"/>
            </a:gdLst>
            <a:ahLst/>
            <a:rect l="textAreaLeft" t="textAreaTop" r="textAreaRight" b="textAreaBottom"/>
            <a:pathLst>
              <a:path w="21600" h="21600">
                <a:moveTo>
                  <a:pt x="0" y="21600"/>
                </a:moveTo>
                <a:lnTo>
                  <a:pt x="0" y="12160"/>
                </a:lnTo>
                <a:arcTo wR="12427" hR="8258" stAng="10800000" swAng="5400000"/>
                <a:lnTo>
                  <a:pt x="13589" y="3902"/>
                </a:lnTo>
                <a:lnTo>
                  <a:pt x="13589" y="0"/>
                </a:lnTo>
                <a:lnTo>
                  <a:pt x="21600" y="6079"/>
                </a:lnTo>
                <a:lnTo>
                  <a:pt x="13589" y="12158"/>
                </a:lnTo>
                <a:lnTo>
                  <a:pt x="13589" y="8256"/>
                </a:lnTo>
                <a:lnTo>
                  <a:pt x="12427" y="8256"/>
                </a:lnTo>
                <a:arcTo wR="8073" hR="3904" stAng="16200000" swAng="-5400000"/>
                <a:lnTo>
                  <a:pt x="4354"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6659640" y="278136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50920" y="29242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79280" y="3645000"/>
            <a:ext cx="153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etermin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conómica</a:t>
            </a:r>
            <a:endParaRPr b="0" lang="en-US" sz="1200" spc="-1" strike="noStrike">
              <a:solidFill>
                <a:srgbClr val="000000"/>
              </a:solidFill>
              <a:latin typeface="Arial"/>
            </a:endParaRPr>
          </a:p>
        </p:txBody>
      </p:sp>
      <p:sp>
        <p:nvSpPr>
          <p:cNvPr id="49" name=""/>
          <p:cNvSpPr/>
          <p:nvPr/>
        </p:nvSpPr>
        <p:spPr>
          <a:xfrm>
            <a:off x="7457400" y="3068640"/>
            <a:ext cx="1369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urier New"/>
              </a:rPr>
              <a:t>Determin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urier New"/>
              </a:rPr>
              <a:t>deriva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urier New"/>
              </a:rPr>
              <a:t>(no definid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urier New"/>
              </a:rPr>
              <a:t>por Marx)</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r>
              <a:rPr b="0" lang="en-US" sz="2000" spc="-1" strike="noStrike">
                <a:solidFill>
                  <a:srgbClr val="ffffff"/>
                </a:solidFill>
                <a:latin typeface="Courier New"/>
              </a:rPr>
              <a:t>Para resumir este aspecto de la “teoría marxista” del Estado, podemos decir que los clásicos del marxismo siempre han afirmado que: 1) el Estado es el aparato represivo de Estado; 2)se debe distinguir entre el poder de Estado y el aparato de Estado; 3) el objetivo de la lucha de clases concierne al poder de Estado y, en consecuencia, a la utilización del aparato de Estado por las clases (o alianza de clases o fracciones de clases) que tienen el poder de Estado para destruir el aparato burgués existente, reemplazarlo en una primera etapa por un aparato de Estado completamente diferente, proletario, y elaborar en las etapas posteriores un proceso radical, el de la destrucción del Estado (fin del poder de Estado y de todo aparato de Est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Distinción entre Aparato represivo de Estado (ARE) y Aparatos ideológicos de Estado (AIE)</a:t>
            </a:r>
            <a:endParaRPr b="0" lang="en-US" sz="2400" spc="-1" strike="noStrike">
              <a:solidFill>
                <a:srgbClr val="000000"/>
              </a:solidFill>
              <a:latin typeface="Arial"/>
            </a:endParaRPr>
          </a:p>
        </p:txBody>
      </p:sp>
      <p:sp>
        <p:nvSpPr>
          <p:cNvPr id="5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Que el aparato de Estado sea “represivo” significa que “</a:t>
            </a:r>
            <a:r>
              <a:rPr b="0" i="1" lang="en-US" sz="1800" spc="-1" strike="noStrike">
                <a:solidFill>
                  <a:srgbClr val="ffffff"/>
                </a:solidFill>
                <a:latin typeface="Courier New"/>
              </a:rPr>
              <a:t>funciona mediante la violencia</a:t>
            </a:r>
            <a:r>
              <a:rPr b="0" lang="en-US" sz="1800" spc="-1" strike="noStrike">
                <a:solidFill>
                  <a:srgbClr val="ffffff"/>
                </a:solidFill>
                <a:latin typeface="Courier New"/>
              </a:rPr>
              <a:t>, por lo menos en situaciones límite (pues la represión administrativa, por ejemplo, puede revestir formas no físic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En cambio, los Aparatos ideológicos de Estado designan “cierto número de realidades que se presentan al observador inmediato bajo la forma de instituciones distintas y especializad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or lo tanto, la distinción fundamental entre ambos es que mientras el ARE funciona masivamente con la represión (incluso física), como forma predominante, los AIE funcionan masivamente con la ideología como forma predominante, pero utilizan secundariamente, y en situaciones límite, una represión muy atenuada, disimulada, es decir simbó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Ejemplos de AIE</a:t>
            </a:r>
            <a:endParaRPr b="0" lang="en-US" sz="2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r>
              <a:rPr b="0" lang="en-US" sz="2000" spc="-1" strike="noStrike">
                <a:solidFill>
                  <a:srgbClr val="ffffff"/>
                </a:solidFill>
                <a:latin typeface="Courier New"/>
              </a:rPr>
              <a:t>AIE religiosos (el sistema de las distintas Iglesi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escolar (el sistema de las distintas “Escuelas”, públicas y privad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familia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jurídic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político (el sistema político del cual forman parte los distintos partido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sindica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de información (prensa, radio, TV, et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cultural (literatura, artes, deporte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Qué unifica a los AIE, si estos están compuestos por “instituciones distintas y especializad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o que determina la unidad de los AIE es su funcionamiento masivo en tanto ideología, “en la medida en que la ideología con la que funcionan está, en realidad, siempre unificada, a pesar de su diversidad y sus contradicciones, </a:t>
            </a:r>
            <a:r>
              <a:rPr b="0" i="1" lang="en-US" sz="2000" spc="-1" strike="noStrike">
                <a:solidFill>
                  <a:srgbClr val="ffffff"/>
                </a:solidFill>
                <a:latin typeface="Courier New"/>
              </a:rPr>
              <a:t>bajo la ideología dominante</a:t>
            </a:r>
            <a:r>
              <a:rPr b="0" lang="en-US" sz="2000" spc="-1" strike="noStrike">
                <a:solidFill>
                  <a:srgbClr val="ffffff"/>
                </a:solidFill>
                <a:latin typeface="Courier New"/>
              </a:rPr>
              <a:t>, que es la de la clase dominant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 ahí que los AIE no sean sólo un objeto a alcanzar en la lucha por el poder; son al mismo tiempo, el lugar (el campo de batalla) en el que se da esa luch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rPr>
              <a:t>En términos de la totalidad social y de las relaciones entre infraestructura y superestructura, el concepto de Aparatos ideológicos de Estado viene a dar respuesta a la interrogante abierta por Marx respecto de la determinación derivada:</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rPr>
              <a:t>“</a:t>
            </a:r>
            <a:r>
              <a:rPr b="0" lang="es-ES_tradnl" sz="1800" spc="-1" strike="noStrike">
                <a:solidFill>
                  <a:srgbClr val="ffffff"/>
                </a:solidFill>
                <a:latin typeface="Courier New"/>
              </a:rPr>
              <a:t>El rol del aparato represivo de Estado consiste esencialmente, en tanto aparato represivo, en asegurar por la fuerza (sea o no física) las condiciones políticas de reproducción de las relaciones de producción que son, en última instancia, </a:t>
            </a:r>
            <a:r>
              <a:rPr b="0" i="1" lang="es-ES_tradnl" sz="1800" spc="-1" strike="noStrike">
                <a:solidFill>
                  <a:srgbClr val="ffffff"/>
                </a:solidFill>
                <a:latin typeface="Courier New"/>
              </a:rPr>
              <a:t>relaciones de explotación</a:t>
            </a:r>
            <a:r>
              <a:rPr b="0" lang="es-ES_tradnl" sz="1800" spc="-1" strike="noStrike">
                <a:solidFill>
                  <a:srgbClr val="ffffff"/>
                </a:solidFill>
                <a:latin typeface="Courier New"/>
              </a:rPr>
              <a:t>. El aparato de Estado no solamente contribuye en gran medida a su propia reproducción (existen en el Estado capitalista dinastías de hombres políticos, dinastías de militares, etc.)sino también, y sobre todo, asegura mediante la represión (desde la fuerza más brutal hasta más las simples ordenanzas y prohibiciones administrativas, la censura abierta o tácita, etc.) las condiciones políticas de la actuación de los Aparatos ideológicos de Estado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Ellos, en efecto, aseguran en gran parte, tras el “escudo” del aparato represivo de Estado, la reproducción misma de las relaciones de producción. Es aquí donde interviene masivamente el rol de la ideología dominante, la de la clase dominante, que tiene el poder de Estado. A través de la ideología dominante se asegura la “armonía” (a veces estridente) entre el aparato represivo de Estado y los Aparatos ideológicos de Est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3T02:15:18Z</dcterms:created>
  <dc:creator>WinuE</dc:creator>
  <dc:description/>
  <dc:language>en-US</dc:language>
  <cp:lastModifiedBy>WinuE</cp:lastModifiedBy>
  <dcterms:modified xsi:type="dcterms:W3CDTF">2009-08-18T05:30:46Z</dcterms:modified>
  <cp:revision>4</cp:revision>
  <dc:subject/>
  <dc:title>Diapositiva 1</dc:title>
</cp:coreProperties>
</file>