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7005638" cy="92154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52D26-39E3-43BD-AB98-929AEF1F0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8360" y="3773160"/>
            <a:ext cx="822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5517F-CA72-42BC-B240-E61CF58E2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68360" y="3773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85400" y="3773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26C5F-7442-4B73-8455-F40C42E2F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8360" y="377316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250800" y="377316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6033240" y="377316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B0462-6BF4-422C-9204-3F73CB921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8360" y="3773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5BF7B-4BE6-4685-9B6F-FFE7EB3C2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85400" y="3773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8360" y="3773160"/>
            <a:ext cx="822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8360" y="3773160"/>
            <a:ext cx="822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8360" y="3773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85400" y="3773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8360" y="377316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50800" y="377316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33240" y="377316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9462D-FDFA-42C3-9857-A9DF13498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C0370-8C86-458D-A324-C6E565352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E0A16-EDAD-4210-94D0-5352F8E84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AB98A-9722-4AA3-9B42-6BED9B307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8360" y="3773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2841C-FA49-47B7-AA2D-BF4387139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85400" y="3773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2B847-594E-4D23-9CD3-2DEE0A801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8360" y="3773160"/>
            <a:ext cx="822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84E5C-7532-49FA-8BB9-042408E74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556000" y="1412640"/>
            <a:ext cx="527832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6000"/>
          </a:bodyPr>
          <a:p>
            <a:pPr marL="191880" indent="-191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1580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640080" indent="-127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896040" indent="-127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152000" indent="-127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152000" indent="-127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152000" indent="-127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40217-F886-4C72-A060-BEC9C4605C5C}" type="slidenum"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31 Elipse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33 Elipse"/>
          <p:cNvSpPr/>
          <p:nvPr/>
        </p:nvSpPr>
        <p:spPr>
          <a:xfrm>
            <a:off x="1908000" y="4508640"/>
            <a:ext cx="365400" cy="365040"/>
          </a:xfrm>
          <a:prstGeom prst="ellipse">
            <a:avLst/>
          </a:prstGeom>
          <a:solidFill>
            <a:srgbClr val="000080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25" descr="logo cms"/>
          <p:cNvPicPr/>
          <p:nvPr/>
        </p:nvPicPr>
        <p:blipFill>
          <a:blip r:embed="rId2"/>
          <a:stretch/>
        </p:blipFill>
        <p:spPr>
          <a:xfrm>
            <a:off x="5867280" y="4724280"/>
            <a:ext cx="2846520" cy="1606680"/>
          </a:xfrm>
          <a:prstGeom prst="rect">
            <a:avLst/>
          </a:prstGeom>
          <a:ln w="0">
            <a:noFill/>
          </a:ln>
        </p:spPr>
      </p:pic>
      <p:pic>
        <p:nvPicPr>
          <p:cNvPr id="7" name="Picture 24" descr="logo fcfm"/>
          <p:cNvPicPr/>
          <p:nvPr/>
        </p:nvPicPr>
        <p:blipFill>
          <a:blip r:embed="rId3"/>
          <a:stretch/>
        </p:blipFill>
        <p:spPr>
          <a:xfrm>
            <a:off x="5867280" y="404640"/>
            <a:ext cx="2818080" cy="925560"/>
          </a:xfrm>
          <a:prstGeom prst="rect">
            <a:avLst/>
          </a:prstGeom>
          <a:ln w="0">
            <a:noFill/>
          </a:ln>
        </p:spPr>
      </p:pic>
      <p:sp>
        <p:nvSpPr>
          <p:cNvPr id="8" name="16 Rectángulo"/>
          <p:cNvSpPr/>
          <p:nvPr/>
        </p:nvSpPr>
        <p:spPr>
          <a:xfrm>
            <a:off x="395280" y="0"/>
            <a:ext cx="609480" cy="6858000"/>
          </a:xfrm>
          <a:prstGeom prst="rect">
            <a:avLst/>
          </a:prstGeom>
          <a:solidFill>
            <a:srgbClr val="b2c1db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17 Rectángulo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d0d8e8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18 Rectángulo"/>
          <p:cNvSpPr/>
          <p:nvPr/>
        </p:nvSpPr>
        <p:spPr>
          <a:xfrm>
            <a:off x="971640" y="0"/>
            <a:ext cx="182520" cy="6858000"/>
          </a:xfrm>
          <a:prstGeom prst="rect">
            <a:avLst/>
          </a:prstGeom>
          <a:solidFill>
            <a:srgbClr val="d0d8e8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19 Rectángulo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9edf4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20 Conector recto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b2c1db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23 Conector recto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9edf4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24 Conector recto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25 Conector recto"/>
          <p:cNvSpPr/>
          <p:nvPr/>
        </p:nvSpPr>
        <p:spPr>
          <a:xfrm>
            <a:off x="1692360" y="0"/>
            <a:ext cx="0" cy="6858000"/>
          </a:xfrm>
          <a:prstGeom prst="line">
            <a:avLst/>
          </a:prstGeom>
          <a:ln w="28440">
            <a:solidFill>
              <a:srgbClr val="b2c1db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26 Conector recto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28 Rectángulo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b2c1db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29 Elipse"/>
          <p:cNvSpPr/>
          <p:nvPr/>
        </p:nvSpPr>
        <p:spPr>
          <a:xfrm>
            <a:off x="611280" y="3429000"/>
            <a:ext cx="1295280" cy="1295280"/>
          </a:xfrm>
          <a:prstGeom prst="ellipse">
            <a:avLst/>
          </a:prstGeom>
          <a:solidFill>
            <a:srgbClr val="000080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30 Elipse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00008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468360" y="1628640"/>
            <a:ext cx="82296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1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16 Conector recto"/>
          <p:cNvSpPr/>
          <p:nvPr/>
        </p:nvSpPr>
        <p:spPr>
          <a:xfrm>
            <a:off x="87487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16 Conector recto"/>
          <p:cNvSpPr/>
          <p:nvPr/>
        </p:nvSpPr>
        <p:spPr>
          <a:xfrm>
            <a:off x="8964720" y="21600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16 Conector recto"/>
          <p:cNvSpPr/>
          <p:nvPr/>
        </p:nvSpPr>
        <p:spPr>
          <a:xfrm>
            <a:off x="9180360" y="43164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13" descr="logo cms"/>
          <p:cNvPicPr/>
          <p:nvPr/>
        </p:nvPicPr>
        <p:blipFill>
          <a:blip r:embed="rId2"/>
          <a:stretch/>
        </p:blipFill>
        <p:spPr>
          <a:xfrm>
            <a:off x="539640" y="5950080"/>
            <a:ext cx="1295640" cy="7318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4" descr="logo fcfm"/>
          <p:cNvPicPr/>
          <p:nvPr/>
        </p:nvPicPr>
        <p:blipFill>
          <a:blip r:embed="rId3"/>
          <a:stretch/>
        </p:blipFill>
        <p:spPr>
          <a:xfrm>
            <a:off x="6516720" y="6021360"/>
            <a:ext cx="2087640" cy="687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11280" y="1052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¿Cómo hacemos que nuestros productos tengan éxito en el mercad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115640" y="328428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Marketing y Venta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un proceso indispensable para sobrevivir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rebuchet MS"/>
              </a:rPr>
              <a:t>El Modelo</a:t>
            </a:r>
            <a:r>
              <a:rPr b="0" lang="en-US" sz="4400" spc="-1" strike="noStrike">
                <a:solidFill>
                  <a:srgbClr val="333399"/>
                </a:solidFill>
                <a:latin typeface="Trebuchet MS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692360" y="1484280"/>
            <a:ext cx="5400720" cy="15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ahoma"/>
              </a:rPr>
              <a:t>S.T.P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ahoma"/>
              <a:ea typeface="Tahoma"/>
            </a:endParaRPr>
          </a:p>
        </p:txBody>
      </p:sp>
      <p:sp>
        <p:nvSpPr>
          <p:cNvPr id="146" name=""/>
          <p:cNvSpPr/>
          <p:nvPr/>
        </p:nvSpPr>
        <p:spPr>
          <a:xfrm>
            <a:off x="1403280" y="3213000"/>
            <a:ext cx="1657440" cy="2303640"/>
          </a:xfrm>
          <a:prstGeom prst="upArrow">
            <a:avLst>
              <a:gd name="adj1" fmla="val 50000"/>
              <a:gd name="adj2" fmla="val 3474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SEGMENT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851280" y="3429000"/>
            <a:ext cx="1657440" cy="2303640"/>
          </a:xfrm>
          <a:prstGeom prst="upArrow">
            <a:avLst>
              <a:gd name="adj1" fmla="val 50000"/>
              <a:gd name="adj2" fmla="val 3474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TARGE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12000" y="3141720"/>
            <a:ext cx="1657080" cy="2303280"/>
          </a:xfrm>
          <a:prstGeom prst="upArrow">
            <a:avLst>
              <a:gd name="adj1" fmla="val 50000"/>
              <a:gd name="adj2" fmla="val 3474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POSICIONAMI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11280" y="285264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rebuchet MS"/>
              </a:rPr>
              <a:t>AHORA A LA TÁCT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07552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rebuchet MS"/>
              </a:rPr>
              <a:t>Las 4 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39280" y="1268280"/>
            <a:ext cx="78217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rebuchet MS"/>
              </a:rPr>
              <a:t>Producto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Básico </a:t>
            </a: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Aspectos intangibles     Aspecto aument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rebuchet MS"/>
              </a:rPr>
              <a:t>Precio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¿Cómo defino el preci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irculo virtuoso </a:t>
            </a: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Calidad – Prec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rebuchet MS"/>
              </a:rPr>
              <a:t>Plaza (distribución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Gestión de la </a:t>
            </a: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Cadena de distribu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rebuchet MS"/>
              </a:rPr>
              <a:t>Promoción (publicidad, promociones, ventas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84360" y="5445000"/>
            <a:ext cx="2016000" cy="936720"/>
          </a:xfrm>
          <a:prstGeom prst="rightArrow">
            <a:avLst>
              <a:gd name="adj1" fmla="val 50000"/>
              <a:gd name="adj2" fmla="val 5380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276720" y="5373720"/>
            <a:ext cx="2158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Las ventas son sólo una parte del plan de marke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084720" y="5392800"/>
            <a:ext cx="2159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Sin embargo es una de las más importa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195640" y="1989000"/>
            <a:ext cx="28872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59280" y="1989000"/>
            <a:ext cx="28908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2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7" dur="5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3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8" dur="500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3" dur="500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8" dur="500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3" dur="500"/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8" dur="500"/>
                                        <p:tgtEl>
                                          <p:spTgt spid="1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3" dur="500"/>
                                        <p:tgtEl>
                                          <p:spTgt spid="1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rebuchet MS"/>
              </a:rPr>
              <a:t>Prec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24000" y="1483920"/>
            <a:ext cx="82087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Trebuchet MS"/>
              </a:rPr>
              <a:t>Precio: precio de etiqueta + tiempo de compra + otros costo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rebuchet MS"/>
              </a:rPr>
              <a:t>Las empresas fijan precios dentro de un rango (fijado por la competenci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rebuchet MS"/>
              </a:rPr>
              <a:t>El precio se elige según el lugar que quieran ocupar en el merc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Trebuchet MS"/>
              </a:rPr>
              <a:t>Costos v/s disposición a pagar del clien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24000" y="4797360"/>
            <a:ext cx="835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3399"/>
                </a:solidFill>
                <a:latin typeface="Trebuchet MS"/>
              </a:rPr>
              <a:t>El precio es la más sensible de las 4P, y afecta notoriamente las utilidades del negocio en el corto plaz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2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7" dur="5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2" dur="5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7" dur="500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259920"/>
            <a:ext cx="8002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ec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24000" y="1196640"/>
            <a:ext cx="82087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rebuchet MS"/>
              </a:rPr>
              <a:t>1.-Descremar el mercado: partir con precios altos y bajarlos con el tiemp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99"/>
                </a:solidFill>
                <a:latin typeface="Trebuchet MS"/>
              </a:rPr>
              <a:t>Ventajas: equilibra demanda con capacidad de producción, Crea efecto deseo y es ren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99"/>
                </a:solidFill>
                <a:latin typeface="Trebuchet MS"/>
              </a:rPr>
              <a:t>Desventajas: atrae competidores rápidamente, puede desposicionar el producto, fuerte inversión en promo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rebuchet MS"/>
              </a:rPr>
              <a:t>2.- Penetración de mercado: partir con precios bajos y subirlos con el tiemp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99"/>
                </a:solidFill>
                <a:latin typeface="Trebuchet MS"/>
              </a:rPr>
              <a:t>Ventajas: desanima competencia, rápidamente uno se posiciona, ventas amplias (economías de escal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99"/>
                </a:solidFill>
                <a:latin typeface="Trebuchet MS"/>
              </a:rPr>
              <a:t>Desventajas: si nos equivocamos podemos arruinarnos, no es aconsejable en marcados de status, poco entable si el ciclo de vida del negocio es cor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4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9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4" dur="5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9" dur="500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4" dur="500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9" dur="500"/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859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ec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23640" y="1341360"/>
            <a:ext cx="8326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Trebuchet MS"/>
              </a:rPr>
              <a:t>Precio personaliz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rebuchet MS"/>
              </a:rPr>
              <a:t>Precios distinto según cli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rebuchet MS"/>
              </a:rPr>
              <a:t>Ejemplos: gasfiter, abogado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s-MX" sz="2800" spc="-1" strike="noStrike">
                <a:solidFill>
                  <a:srgbClr val="333399"/>
                </a:solidFill>
                <a:latin typeface="Trebuchet MS"/>
              </a:rPr>
              <a:t>Versonalización del produc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rebuchet MS"/>
              </a:rPr>
              <a:t>Variantes del producto a distintos prec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rebuchet MS"/>
              </a:rPr>
              <a:t>Ejemplos: líneas aérea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s-MX" sz="2800" spc="-1" strike="noStrike">
                <a:solidFill>
                  <a:srgbClr val="333399"/>
                </a:solidFill>
                <a:latin typeface="Trebuchet MS"/>
              </a:rPr>
              <a:t>Precios por segm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rebuchet MS"/>
              </a:rPr>
              <a:t>Líneas de productos, descuentos por cantidad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6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1" dur="5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6" dur="5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1" dur="5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6" dur="500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1" dur="500"/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6" dur="500"/>
                                        <p:tgtEl>
                                          <p:spTgt spid="1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1" dur="500"/>
                                        <p:tgtEl>
                                          <p:spTgt spid="1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09400" y="287280"/>
            <a:ext cx="8173800" cy="7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ec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2 Marcador de contenido"/>
          <p:cNvSpPr/>
          <p:nvPr/>
        </p:nvSpPr>
        <p:spPr>
          <a:xfrm>
            <a:off x="324000" y="1268280"/>
            <a:ext cx="785808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rebuchet MS"/>
                <a:ea typeface="Arial"/>
              </a:rPr>
              <a:t>Consideraciones importa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bbe0e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rebuchet MS"/>
                <a:ea typeface="Arial"/>
              </a:rPr>
              <a:t>Percepciones sobre las diferencias de Prec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bbe0e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rebuchet MS"/>
                <a:ea typeface="Arial"/>
              </a:rPr>
              <a:t>Las personas evalúan la diferencia de precio entre dos productos de forma porcentual, sobre el precio b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bbe0e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rebuchet MS"/>
                <a:ea typeface="Arial"/>
              </a:rPr>
              <a:t>Ejemplo:   Azúcar : 550 a 450 (20%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rebuchet MS"/>
                <a:ea typeface="Arial"/>
              </a:rPr>
              <a:t>                    </a:t>
            </a:r>
            <a:r>
              <a:rPr b="0" lang="es-MX" sz="1600" spc="-1" strike="noStrike">
                <a:solidFill>
                  <a:srgbClr val="000000"/>
                </a:solidFill>
                <a:latin typeface="Trebuchet MS"/>
                <a:ea typeface="Arial"/>
              </a:rPr>
              <a:t>Aceite de Oliva: 2500 a 2400(4%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bbe0e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rebuchet MS"/>
                <a:ea typeface="Arial"/>
              </a:rPr>
              <a:t>Los números impa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bbe0e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rebuchet MS"/>
                <a:ea typeface="Arial"/>
              </a:rPr>
              <a:t>Es conveniente terminar en números impar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bbe0e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rebuchet MS"/>
                <a:ea typeface="Arial"/>
              </a:rPr>
              <a:t>Los precios de la línea como referen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bbe0e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rebuchet MS"/>
                <a:ea typeface="Arial"/>
              </a:rPr>
              <a:t>Más vale tener 3 productos que 2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bbe0e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bbe0e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bbe0e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9400" y="287280"/>
            <a:ext cx="8173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rebuchet MS"/>
              </a:rPr>
              <a:t>Prec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2 Marcador de contenido"/>
          <p:cNvSpPr/>
          <p:nvPr/>
        </p:nvSpPr>
        <p:spPr>
          <a:xfrm>
            <a:off x="324000" y="1125360"/>
            <a:ext cx="785808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bbe0e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rebuchet MS"/>
                <a:ea typeface="Arial"/>
              </a:rPr>
              <a:t>Elasticidades asimétric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bbe0e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rebuchet MS"/>
                <a:ea typeface="Arial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Trebuchet MS"/>
                <a:ea typeface="Arial"/>
              </a:rPr>
              <a:t>No conviene hacer promociones de los precios más bajos, sí de los superiores o intermedios. Salvo que sea por ganar nuevos compradores o por generar imag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bbe0e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rebuchet MS"/>
                <a:ea typeface="Arial"/>
              </a:rPr>
              <a:t>Efectos de Or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bbe0e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rebuchet MS"/>
                <a:ea typeface="Arial"/>
              </a:rPr>
              <a:t>3.500, 5.600, 9.900.,15.800, 21.3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bbe0e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rebuchet MS"/>
                <a:ea typeface="Arial"/>
              </a:rPr>
              <a:t>21.350, 15.800, 9.900, 5.600, 3.5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bbe0e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rebuchet MS"/>
                <a:ea typeface="Arial"/>
              </a:rPr>
              <a:t>Ventas promedios mayor en el segundo ca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bbe0e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rebuchet MS"/>
                <a:ea typeface="Arial"/>
              </a:rPr>
              <a:t>El último precio pagado como precio de referen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bbe0e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rebuchet MS"/>
                <a:ea typeface="Arial"/>
              </a:rPr>
              <a:t>Hacer referencia la último precio paga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rebuchet MS"/>
              </a:rPr>
              <a:t>Promoción</a:t>
            </a:r>
            <a:r>
              <a:rPr b="0" lang="en-US" sz="4400" spc="-1" strike="noStrike">
                <a:solidFill>
                  <a:srgbClr val="333399"/>
                </a:solidFill>
                <a:latin typeface="Trebuchet MS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Es la acción de COMUNICAR, ejercida por el PRODUCTOR, destinada al potencial comprador con el objeto de influenciar sus: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Actitu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Comportami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entimiento post-comp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8" dur="20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3" dur="5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8" dur="5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3" dur="500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rebuchet MS"/>
              </a:rPr>
              <a:t>Las acciones de Promo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68000" y="1484280"/>
            <a:ext cx="626436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333399"/>
                </a:solidFill>
                <a:latin typeface="Trebuchet MS"/>
              </a:rPr>
              <a:t>Venta Person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rebuchet MS"/>
              </a:rPr>
              <a:t>Directamente con el cliente, vía correo electrónico, teléfono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333399"/>
                </a:solidFill>
                <a:latin typeface="Trebuchet MS"/>
              </a:rPr>
              <a:t>Promoción de vent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rebuchet MS"/>
              </a:rPr>
              <a:t>Estimular la venta en el momento de la decisión de comp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rebuchet MS"/>
              </a:rPr>
              <a:t>Presentación del producto, descuent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333399"/>
                </a:solidFill>
                <a:latin typeface="Trebuchet MS"/>
              </a:rPr>
              <a:t>Publicida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bbe0e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rebuchet MS"/>
              </a:rPr>
              <a:t>A través de un medio masivo: Radio, Diario, Revistas, T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333399"/>
                </a:solidFill>
                <a:latin typeface="Trebuchet MS"/>
              </a:rPr>
              <a:t>Relaciones Públic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333399"/>
                </a:solidFill>
                <a:latin typeface="Trebuchet MS"/>
              </a:rPr>
              <a:t>Boca en Boc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804000" y="1484280"/>
            <a:ext cx="1943280" cy="3745080"/>
          </a:xfrm>
          <a:prstGeom prst="upArrow">
            <a:avLst>
              <a:gd name="adj1" fmla="val 50000"/>
              <a:gd name="adj2" fmla="val 4818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0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5" dur="5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0" dur="5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5" dur="5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0" dur="5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5" dur="5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0" dur="5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5" dur="5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0" dur="5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27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rebuchet MS"/>
              </a:rPr>
              <a:t>Tengamos en cuenta que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79520" y="1719360"/>
            <a:ext cx="7859520" cy="36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rebuchet MS"/>
              </a:rPr>
              <a:t>El proceso de la venta</a:t>
            </a: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 corresponde a una etapa particular de la </a:t>
            </a:r>
            <a:r>
              <a:rPr b="1" lang="en-US" sz="3000" spc="-1" strike="noStrike">
                <a:solidFill>
                  <a:srgbClr val="333399"/>
                </a:solidFill>
                <a:latin typeface="Trebuchet MS"/>
              </a:rPr>
              <a:t>Táctica de Marketing</a:t>
            </a: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 de una Empres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85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rebuchet MS"/>
              </a:rPr>
              <a:t>Promoc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799128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99"/>
                </a:solidFill>
                <a:latin typeface="Trebuchet MS"/>
              </a:rPr>
              <a:t>Tipos de promocion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rebuchet MS"/>
              </a:rPr>
              <a:t>Basadas en el produc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rebuchet MS"/>
              </a:rPr>
              <a:t>Generar conciencia (prueba gratis): Productos nue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rebuchet MS"/>
              </a:rPr>
              <a:t>Generar volumen (lleve 2 y pague 1): Aumento del consumo, rot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rebuchet MS"/>
              </a:rPr>
              <a:t>Basadas en el prec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rebuchet MS"/>
              </a:rPr>
              <a:t>Rebajas en el prec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rebuchet MS"/>
              </a:rPr>
              <a:t>Cupones de descu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rebuchet MS"/>
              </a:rPr>
              <a:t>Premios y concurs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rebuchet MS"/>
              </a:rPr>
              <a:t>Debe tener valor para el consumi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4" dur="2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9" dur="2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4" dur="20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9" dur="20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4" dur="2000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9" dur="2000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4" dur="2000"/>
                                        <p:tgtEl>
                                          <p:spTgt spid="1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9" dur="2000"/>
                                        <p:tgtEl>
                                          <p:spTgt spid="1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4" dur="2000"/>
                                        <p:tgtEl>
                                          <p:spTgt spid="17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rebuchet MS"/>
              </a:rPr>
              <a:t>Vent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95280" y="1557000"/>
            <a:ext cx="82296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La venta es un proces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Inic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Desarroll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érmi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La venta es una actividad de conquista humana, </a:t>
            </a:r>
            <a:r>
              <a:rPr b="1" lang="en-US" sz="3200" spc="-1" strike="noStrike">
                <a:solidFill>
                  <a:srgbClr val="333399"/>
                </a:solidFill>
                <a:latin typeface="Trebuchet MS"/>
              </a:rPr>
              <a:t>no de engaño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83" dur="10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90" dur="10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95" dur="1000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00" dur="1000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0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rebuchet MS"/>
              </a:rPr>
              <a:t>Pasos del Proceso de Ven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  <a:ea typeface="Aharoni"/>
              </a:rPr>
              <a:t>Prospect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  <a:ea typeface="Aharoni"/>
              </a:rPr>
              <a:t>Entrevis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  <a:ea typeface="Aharoni"/>
              </a:rPr>
              <a:t>Presentación del produc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  <a:ea typeface="Aharoni"/>
              </a:rPr>
              <a:t>Obje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  <a:ea typeface="Aharoni"/>
              </a:rPr>
              <a:t>Cierre y Post-Ven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0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rebuchet MS"/>
              </a:rPr>
              <a:t>Pasos del Proceso de Ven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68000" y="1628640"/>
            <a:ext cx="806436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Prospect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onsiste en identificar buenos clientes potenciales, o buscar posibles nuevos negocios con clientes actua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Se debe aprender todo lo posible del potencial cliente antes del primer contac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 debe planificar hasta el más mínimo detalle, para el momento de la entrevis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 algn="just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0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rebuchet MS"/>
              </a:rPr>
              <a:t>Pasos del Proceso de Ven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24000" y="1557360"/>
            <a:ext cx="820872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Entrevis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Generar empatí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Saludo cordial, … pero no adula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Cuidar detalles (saberse el nombre, no invadir su espacio, etc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Vender” al cliente que es importante hablar conmig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Venderse”, pero cuidado con sonar soberbio o arrogante o parecer “charlatán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    </a:t>
            </a:r>
            <a:r>
              <a:rPr b="0" lang="en-US" sz="2200" spc="-1" strike="noStrike">
                <a:solidFill>
                  <a:srgbClr val="333399"/>
                </a:solidFill>
                <a:latin typeface="Trebuchet MS"/>
              </a:rPr>
              <a:t>La idea es hacer atractivo el encuentro, o sea, que el encuentro con el potencial comprador sea de importancia para él (que le genere valor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0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rebuchet MS"/>
              </a:rPr>
              <a:t>Pasos del Proceso de Ven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79200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Antes de presentar el producto, debe decidir alguno de estos 3 enfoqu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 algn="just">
              <a:lnSpc>
                <a:spcPct val="90000"/>
              </a:lnSpc>
              <a:spcBef>
                <a:spcPts val="550"/>
              </a:spcBef>
              <a:buClr>
                <a:srgbClr val="333399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rebuchet MS"/>
              </a:rPr>
              <a:t>Detección de necesidad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Vendedor primero sólo hace preguntas y ESCUCH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Luego diseña un “traje a la medida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0" algn="just">
              <a:lnSpc>
                <a:spcPct val="90000"/>
              </a:lnSpc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 algn="just">
              <a:lnSpc>
                <a:spcPct val="90000"/>
              </a:lnSpc>
              <a:spcBef>
                <a:spcPts val="550"/>
              </a:spcBef>
              <a:buClr>
                <a:srgbClr val="333399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rebuchet MS"/>
              </a:rPr>
              <a:t>Presentación envasad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Vendedor hace una presentación estándar previamente prepar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0" algn="just">
              <a:lnSpc>
                <a:spcPct val="90000"/>
              </a:lnSpc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 algn="just">
              <a:lnSpc>
                <a:spcPct val="90000"/>
              </a:lnSpc>
              <a:spcBef>
                <a:spcPts val="550"/>
              </a:spcBef>
              <a:buClr>
                <a:srgbClr val="333399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rebuchet MS"/>
              </a:rPr>
              <a:t>Mixt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Vendedor primero sólo hace preguntas, y luego hace una presentación previamente preparad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rebuchet MS"/>
              </a:rPr>
              <a:t>Pasos del Proceso de Ven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82296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422640" indent="-42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Presentar el produc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26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816840" indent="-392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¿Qué es el product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6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816840" indent="-392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¿Qué son cada uno de sus atributo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6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816840" indent="-392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¿Para que sirve cada uno de sus atributo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6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816840" indent="-392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¿Para que sirve el product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6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816840" indent="-392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¿Cómo se usa el product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6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816840" indent="-392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¿Por qué el producto es bueno para el client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6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816840" indent="-392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¿Cómo beneficia el producto a mi client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6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816840" indent="-392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¿Cómo transformar cada atributo en beneficios para cada client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rebuchet MS"/>
              </a:rPr>
              <a:t>Pasos del Proceso de Ven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39640" y="2349360"/>
            <a:ext cx="1584360" cy="719280"/>
          </a:xfrm>
          <a:prstGeom prst="rightArrow">
            <a:avLst>
              <a:gd name="adj1" fmla="val 50000"/>
              <a:gd name="adj2" fmla="val 5506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39640" y="3502080"/>
            <a:ext cx="1584360" cy="718920"/>
          </a:xfrm>
          <a:prstGeom prst="rightArrow">
            <a:avLst>
              <a:gd name="adj1" fmla="val 50000"/>
              <a:gd name="adj2" fmla="val 5509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340000" y="2490840"/>
            <a:ext cx="640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Uno no vende productos, vende benefic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340000" y="3571920"/>
            <a:ext cx="640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Transformar cada atributo en benefic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39640" y="4726080"/>
            <a:ext cx="1584360" cy="718920"/>
          </a:xfrm>
          <a:prstGeom prst="rightArrow">
            <a:avLst>
              <a:gd name="adj1" fmla="val 50000"/>
              <a:gd name="adj2" fmla="val 5509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340000" y="4653000"/>
            <a:ext cx="640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i el vendedor no conoce, ni está convencido de los beneficios de su oferta, es difícil que venda!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11280" y="1484280"/>
            <a:ext cx="64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Presentación del produc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5" dur="indefinite" restart="never" nodeType="tmRoot">
          <p:childTnLst>
            <p:seq>
              <p:cTn id="596" dur="indefinite" nodeType="mainSeq">
                <p:childTnLst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1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2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11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6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7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26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1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2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41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48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0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rebuchet MS"/>
              </a:rPr>
              <a:t>Pasos del Proceso de Ven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799128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Objec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Las objeciones son juicios de oposición ante el discurso de alguna persona en particul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Lo común es enojarse ante las objeciones que propone el cliente o consumid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rebuchet MS"/>
              </a:rPr>
              <a:t>Perder vent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rebuchet MS"/>
              </a:rPr>
              <a:t>Perder fidel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rebuchet MS"/>
              </a:rPr>
              <a:t>Empeora la ima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rebuchet MS"/>
              </a:rPr>
              <a:t>Un cliente mal atendido comunica más que uno cont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rebuchet MS"/>
              </a:rPr>
              <a:t>Pasos del Proceso de Ven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Objec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55640" y="2781360"/>
            <a:ext cx="1728720" cy="863640"/>
          </a:xfrm>
          <a:prstGeom prst="rightArrow">
            <a:avLst>
              <a:gd name="adj1" fmla="val 50000"/>
              <a:gd name="adj2" fmla="val 5004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843280" y="2924280"/>
            <a:ext cx="568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Que las objeciones no nos moles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556000" y="3716280"/>
            <a:ext cx="1728720" cy="649440"/>
          </a:xfrm>
          <a:prstGeom prst="rightArrow">
            <a:avLst>
              <a:gd name="adj1" fmla="val 50000"/>
              <a:gd name="adj2" fmla="val 6654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643280" y="3789360"/>
            <a:ext cx="28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No cambiar actitu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643280" y="4365720"/>
            <a:ext cx="28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No perder la cal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643280" y="4941720"/>
            <a:ext cx="28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Intercambiar id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9" dur="indefinite" restart="never" nodeType="tmRoot">
          <p:childTnLst>
            <p:seq>
              <p:cTn id="650" dur="indefinite" nodeType="mainSeq">
                <p:childTnLst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5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65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0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8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3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8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rebuchet MS"/>
                <a:ea typeface="Aharoni"/>
              </a:rPr>
              <a:t>¿Qué es el marketi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rebuchet MS"/>
              </a:rPr>
              <a:t>Marketing es el proceso de planificar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Trebuchet MS"/>
              </a:rPr>
              <a:t>El segmento de mercado al cual me voy a atacar y ver como me quiero posicion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Trebuchet MS"/>
              </a:rPr>
              <a:t>la concepción, precio, promoción y distribución de bienes y servicio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333399"/>
                </a:solidFill>
                <a:latin typeface="Trebuchet MS"/>
              </a:rPr>
              <a:t>"Marketing es tener el producto adecuado, en el momento adecuado, adaptado a la demanda, en el tiempo correcto y con el precio mas justo".</a:t>
            </a:r>
            <a:r>
              <a:rPr b="0" lang="es-CL" sz="2200" spc="-1" strike="noStrike">
                <a:solidFill>
                  <a:srgbClr val="000000"/>
                </a:solidFill>
                <a:latin typeface="Trebuchet MS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1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" dur="10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" dur="10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1000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0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rebuchet MS"/>
              </a:rPr>
              <a:t>Pasos del Proceso de Ven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79200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rebuchet MS"/>
              </a:rPr>
              <a:t>Objec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El Manejo de objeciones: Aprender a “surfear” en el mar de dudas y comentarios (des)calificadores del cli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En general las objeciones se repiten</a:t>
            </a:r>
            <a:r>
              <a:rPr b="0" lang="es-CL" sz="2400" spc="-1" strike="noStrike">
                <a:solidFill>
                  <a:srgbClr val="000000"/>
                </a:solidFill>
                <a:latin typeface="Trebuchet MS"/>
              </a:rPr>
              <a:t>, son predecibles y control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rebuchet MS"/>
              </a:rPr>
              <a:t>Ej.: Seguros de vi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rebuchet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rebuchet MS"/>
              </a:rPr>
              <a:t>“</a:t>
            </a:r>
            <a:r>
              <a:rPr b="0" lang="es-ES" sz="1800" spc="-1" strike="noStrike">
                <a:solidFill>
                  <a:srgbClr val="000000"/>
                </a:solidFill>
                <a:latin typeface="Trebuchet MS"/>
              </a:rPr>
              <a:t>No tengo plata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rebuchet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rebuchet MS"/>
              </a:rPr>
              <a:t>“</a:t>
            </a:r>
            <a:r>
              <a:rPr b="0" lang="es-ES" sz="1800" spc="-1" strike="noStrike">
                <a:solidFill>
                  <a:srgbClr val="000000"/>
                </a:solidFill>
                <a:latin typeface="Trebuchet MS"/>
              </a:rPr>
              <a:t>Déjeme consultarlo con mi señora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95280" y="5300640"/>
            <a:ext cx="1800360" cy="936720"/>
          </a:xfrm>
          <a:prstGeom prst="rightArrow">
            <a:avLst>
              <a:gd name="adj1" fmla="val 50000"/>
              <a:gd name="adj2" fmla="val 4805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627280" y="5229360"/>
            <a:ext cx="5689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Es vital contar con un discurso que    sea capaz de manejar las distintas objeciones que el cliente prop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9" dur="indefinite" restart="never" nodeType="tmRoot">
          <p:childTnLst>
            <p:seq>
              <p:cTn id="690" dur="indefinite" nodeType="mainSeq">
                <p:childTnLst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5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0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rebuchet MS"/>
              </a:rPr>
              <a:t>Pasos del Proceso de Ven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799128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Cier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Generalmente el cliente “necesita un empujoncito”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Pero se debe buscar el momento oportuno, sin apresurarlo pero tampoco dilatarl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Post-Ven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La venta no termina una vez que el producto ha sido entrega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Una variable importante en la fidelización del cliente es el </a:t>
            </a: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seguimi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Un cliente fiel me compra nuevamente (y es más rentable que un cliente nuev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5" dur="indefinite" restart="never" nodeType="tmRoot">
          <p:childTnLst>
            <p:seq>
              <p:cTn id="706" dur="indefinite" nodeType="mainSeq">
                <p:childTnLst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13" dur="1000"/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8" dur="1000" fill="hold"/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1000" fill="hold"/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1000" fill="hold"/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1000" fill="hold"/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28" dur="1000"/>
                                        <p:tgtEl>
                                          <p:spTgt spid="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0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rebuchet MS"/>
              </a:rPr>
              <a:t>Pasos del Proceso de Ven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784872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Post-Ven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Ofrecer Soporte Técn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Ofrecer nuevos productos y/o Servicios asocia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Retroalimentació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5508720" y="836640"/>
            <a:ext cx="2952720" cy="79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rebuchet MS"/>
              </a:rPr>
              <a:t>Surgimiento de la ide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5508720" y="2852280"/>
            <a:ext cx="2952720" cy="1154520"/>
            <a:chOff x="5508720" y="2852280"/>
            <a:chExt cx="2952720" cy="1154520"/>
          </a:xfrm>
        </p:grpSpPr>
        <p:sp>
          <p:nvSpPr>
            <p:cNvPr id="108" name=""/>
            <p:cNvSpPr/>
            <p:nvPr/>
          </p:nvSpPr>
          <p:spPr>
            <a:xfrm>
              <a:off x="5508720" y="3213000"/>
              <a:ext cx="2952720" cy="793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rebuchet MS"/>
                </a:rPr>
                <a:t>Segmentación y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rebuchet MS"/>
                </a:rPr>
                <a:t>Targeting (Objetivo)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9" name=""/>
            <p:cNvCxnSpPr>
              <a:stCxn id="110" idx="2"/>
              <a:endCxn id="108" idx="0"/>
            </p:cNvCxnSpPr>
            <p:nvPr/>
          </p:nvCxnSpPr>
          <p:spPr>
            <a:xfrm>
              <a:off x="6984720" y="2852280"/>
              <a:ext cx="1080" cy="36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11" name=""/>
          <p:cNvGrpSpPr/>
          <p:nvPr/>
        </p:nvGrpSpPr>
        <p:grpSpPr>
          <a:xfrm>
            <a:off x="5508720" y="5230440"/>
            <a:ext cx="2952720" cy="1222920"/>
            <a:chOff x="5508720" y="5230440"/>
            <a:chExt cx="2952720" cy="1222920"/>
          </a:xfrm>
        </p:grpSpPr>
        <p:sp>
          <p:nvSpPr>
            <p:cNvPr id="112" name=""/>
            <p:cNvSpPr/>
            <p:nvPr/>
          </p:nvSpPr>
          <p:spPr>
            <a:xfrm>
              <a:off x="5508720" y="5661000"/>
              <a:ext cx="2952720" cy="792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rebuchet MS"/>
                </a:rPr>
                <a:t>Las 4 P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rebuchet MS"/>
                </a:rPr>
                <a:t>(</a:t>
              </a:r>
              <a:r>
                <a:rPr b="1" lang="en-US" sz="1500" spc="-1" strike="noStrike">
                  <a:solidFill>
                    <a:srgbClr val="333399"/>
                  </a:solidFill>
                  <a:latin typeface="Trebuchet MS"/>
                </a:rPr>
                <a:t>P</a:t>
              </a:r>
              <a:r>
                <a:rPr b="1" lang="en-US" sz="1500" spc="-1" strike="noStrike">
                  <a:solidFill>
                    <a:srgbClr val="000000"/>
                  </a:solidFill>
                  <a:latin typeface="Trebuchet MS"/>
                </a:rPr>
                <a:t>roducto, </a:t>
              </a:r>
              <a:r>
                <a:rPr b="1" lang="en-US" sz="1500" spc="-1" strike="noStrike">
                  <a:solidFill>
                    <a:srgbClr val="333399"/>
                  </a:solidFill>
                  <a:latin typeface="Trebuchet MS"/>
                </a:rPr>
                <a:t>P</a:t>
              </a:r>
              <a:r>
                <a:rPr b="1" lang="en-US" sz="1500" spc="-1" strike="noStrike">
                  <a:solidFill>
                    <a:srgbClr val="000000"/>
                  </a:solidFill>
                  <a:latin typeface="Trebuchet MS"/>
                </a:rPr>
                <a:t>recio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rebuchet MS"/>
                </a:rPr>
                <a:t> </a:t>
              </a:r>
              <a:r>
                <a:rPr b="1" lang="en-US" sz="1500" spc="-1" strike="noStrike">
                  <a:solidFill>
                    <a:srgbClr val="333399"/>
                  </a:solidFill>
                  <a:latin typeface="Trebuchet MS"/>
                </a:rPr>
                <a:t>P</a:t>
              </a:r>
              <a:r>
                <a:rPr b="1" lang="en-US" sz="1500" spc="-1" strike="noStrike">
                  <a:solidFill>
                    <a:srgbClr val="000000"/>
                  </a:solidFill>
                  <a:latin typeface="Trebuchet MS"/>
                </a:rPr>
                <a:t>laza y </a:t>
              </a:r>
              <a:r>
                <a:rPr b="1" lang="en-US" sz="1500" spc="-1" strike="noStrike">
                  <a:solidFill>
                    <a:srgbClr val="333399"/>
                  </a:solidFill>
                  <a:latin typeface="Trebuchet MS"/>
                </a:rPr>
                <a:t>P</a:t>
              </a:r>
              <a:r>
                <a:rPr b="1" lang="en-US" sz="1500" spc="-1" strike="noStrike">
                  <a:solidFill>
                    <a:srgbClr val="000000"/>
                  </a:solidFill>
                  <a:latin typeface="Trebuchet MS"/>
                </a:rPr>
                <a:t>romoción)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3" name=""/>
            <p:cNvCxnSpPr>
              <a:stCxn id="114" idx="2"/>
              <a:endCxn id="112" idx="0"/>
            </p:cNvCxnSpPr>
            <p:nvPr/>
          </p:nvCxnSpPr>
          <p:spPr>
            <a:xfrm>
              <a:off x="6984720" y="5230440"/>
              <a:ext cx="1080" cy="430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15" name=""/>
          <p:cNvSpPr/>
          <p:nvPr/>
        </p:nvSpPr>
        <p:spPr>
          <a:xfrm>
            <a:off x="4859280" y="836640"/>
            <a:ext cx="73080" cy="2016000"/>
          </a:xfrm>
          <a:custGeom>
            <a:avLst/>
            <a:gdLst>
              <a:gd name="textAreaLeft" fmla="*/ 46800 w 73080"/>
              <a:gd name="textAreaRight" fmla="*/ 73440 w 73080"/>
              <a:gd name="textAreaTop" fmla="*/ 52560 h 2016000"/>
              <a:gd name="textAreaBottom" fmla="*/ 1963440 h 201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859280" y="3213000"/>
            <a:ext cx="73080" cy="2016360"/>
          </a:xfrm>
          <a:custGeom>
            <a:avLst/>
            <a:gdLst>
              <a:gd name="textAreaLeft" fmla="*/ 46800 w 73080"/>
              <a:gd name="textAreaRight" fmla="*/ 73440 w 73080"/>
              <a:gd name="textAreaTop" fmla="*/ 52560 h 2016360"/>
              <a:gd name="textAreaBottom" fmla="*/ 1963800 h 20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12720" y="1197000"/>
            <a:ext cx="3959280" cy="13820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Alineación con l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Trebuchet MS"/>
              </a:rPr>
              <a:t>Estrategia de la empresa</a:t>
            </a: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su misión, las fortalezas y debilidades ante la competencia y las oportunidades y amenazas existentes en el merca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187280" y="3860640"/>
            <a:ext cx="3024360" cy="6314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Desarrollo d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Trebuchet MS"/>
              </a:rPr>
              <a:t>la Estrategia de Marke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258920" y="5734080"/>
            <a:ext cx="3024000" cy="6314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Trebuchet MS"/>
              </a:rPr>
              <a:t>Plan de marke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La Táct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5508720" y="1233000"/>
            <a:ext cx="3211920" cy="1619640"/>
            <a:chOff x="5508720" y="1233000"/>
            <a:chExt cx="3211920" cy="1619640"/>
          </a:xfrm>
        </p:grpSpPr>
        <p:cxnSp>
          <p:nvCxnSpPr>
            <p:cNvPr id="121" name=""/>
            <p:cNvCxnSpPr>
              <a:stCxn id="106" idx="2"/>
              <a:endCxn id="110" idx="0"/>
            </p:cNvCxnSpPr>
            <p:nvPr/>
          </p:nvCxnSpPr>
          <p:spPr>
            <a:xfrm>
              <a:off x="6984720" y="1628640"/>
              <a:ext cx="1080" cy="43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122" name=""/>
            <p:cNvGrpSpPr/>
            <p:nvPr/>
          </p:nvGrpSpPr>
          <p:grpSpPr>
            <a:xfrm>
              <a:off x="5508720" y="1233000"/>
              <a:ext cx="3211920" cy="1619640"/>
              <a:chOff x="5508720" y="1233000"/>
              <a:chExt cx="3211920" cy="1619640"/>
            </a:xfrm>
          </p:grpSpPr>
          <p:sp>
            <p:nvSpPr>
              <p:cNvPr id="110" name=""/>
              <p:cNvSpPr/>
              <p:nvPr/>
            </p:nvSpPr>
            <p:spPr>
              <a:xfrm>
                <a:off x="5508720" y="2060640"/>
                <a:ext cx="2952720" cy="7920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Trebuchet MS"/>
                  </a:rPr>
                  <a:t>Análisis Interno/Externo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Trebuchet MS"/>
                  </a:rPr>
                  <a:t>(</a:t>
                </a:r>
                <a:r>
                  <a:rPr b="1" lang="en-US" sz="1500" spc="-1" strike="noStrike">
                    <a:solidFill>
                      <a:srgbClr val="333399"/>
                    </a:solidFill>
                    <a:latin typeface="Trebuchet MS"/>
                  </a:rPr>
                  <a:t>FODA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Trebuchet MS"/>
                  </a:rPr>
                  <a:t>)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23" name=""/>
              <p:cNvCxnSpPr>
                <a:stCxn id="110" idx="3"/>
                <a:endCxn id="106" idx="3"/>
              </p:cNvCxnSpPr>
              <p:nvPr/>
            </p:nvCxnSpPr>
            <p:spPr>
              <a:xfrm flipV="1">
                <a:off x="8461440" y="1233000"/>
                <a:ext cx="2160" cy="1224720"/>
              </a:xfrm>
              <a:prstGeom prst="bentConnector3">
                <a:avLst>
                  <a:gd name="adj1" fmla="val 14400000"/>
                </a:avLst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</p:grpSp>
      <p:grpSp>
        <p:nvGrpSpPr>
          <p:cNvPr id="124" name=""/>
          <p:cNvGrpSpPr/>
          <p:nvPr/>
        </p:nvGrpSpPr>
        <p:grpSpPr>
          <a:xfrm>
            <a:off x="5508720" y="3609720"/>
            <a:ext cx="3211920" cy="1621080"/>
            <a:chOff x="5508720" y="3609720"/>
            <a:chExt cx="3211920" cy="1621080"/>
          </a:xfrm>
        </p:grpSpPr>
        <p:cxnSp>
          <p:nvCxnSpPr>
            <p:cNvPr id="125" name=""/>
            <p:cNvCxnSpPr>
              <a:stCxn id="108" idx="2"/>
              <a:endCxn id="114" idx="0"/>
            </p:cNvCxnSpPr>
            <p:nvPr/>
          </p:nvCxnSpPr>
          <p:spPr>
            <a:xfrm>
              <a:off x="6984720" y="4006440"/>
              <a:ext cx="1080" cy="430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126" name=""/>
            <p:cNvGrpSpPr/>
            <p:nvPr/>
          </p:nvGrpSpPr>
          <p:grpSpPr>
            <a:xfrm>
              <a:off x="5508720" y="3609720"/>
              <a:ext cx="3211920" cy="1621080"/>
              <a:chOff x="5508720" y="3609720"/>
              <a:chExt cx="3211920" cy="1621080"/>
            </a:xfrm>
          </p:grpSpPr>
          <p:sp>
            <p:nvSpPr>
              <p:cNvPr id="114" name=""/>
              <p:cNvSpPr/>
              <p:nvPr/>
            </p:nvSpPr>
            <p:spPr>
              <a:xfrm>
                <a:off x="5508720" y="4437000"/>
                <a:ext cx="2952720" cy="7938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Trebuchet MS"/>
                  </a:rPr>
                  <a:t>Posicionamiento 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Trebuchet MS"/>
                  </a:rPr>
                  <a:t>(Desarrollo de concepto)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27" name=""/>
              <p:cNvCxnSpPr>
                <a:stCxn id="114" idx="3"/>
                <a:endCxn id="108" idx="3"/>
              </p:cNvCxnSpPr>
              <p:nvPr/>
            </p:nvCxnSpPr>
            <p:spPr>
              <a:xfrm flipV="1">
                <a:off x="8461440" y="3609720"/>
                <a:ext cx="2160" cy="1224720"/>
              </a:xfrm>
              <a:prstGeom prst="bentConnector3">
                <a:avLst>
                  <a:gd name="adj1" fmla="val 14400000"/>
                </a:avLst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</p:grp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000" y="115560"/>
            <a:ext cx="80010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rebuchet MS"/>
              </a:rPr>
              <a:t>Proceso General del Marketing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1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rebuchet MS"/>
              </a:rPr>
              <a:t>Estrategia: Segment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77040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Corresponde a dividir el mercado en grupos identificables y distinguibles entre si, de manera tal de poder realizar una oferta concreta según las necesidades y cualidades como grup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550"/>
              </a:spcBef>
              <a:buClr>
                <a:srgbClr val="333399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rebuchet MS"/>
              </a:rPr>
              <a:t>Se pueden orientar esfuerzos de MKTG de manera más eficiente, por ejemplo la promoción y las vent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550"/>
              </a:spcBef>
              <a:buClr>
                <a:srgbClr val="333399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rebuchet MS"/>
              </a:rPr>
              <a:t>Es posible identificar el grupo de personas indicadas a quién debo vender mis producto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 algn="just">
              <a:lnSpc>
                <a:spcPct val="10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250920" y="1393560"/>
            <a:ext cx="71294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rebuchet MS"/>
              </a:rPr>
              <a:t>Geográfi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Ejemplo: buses interurbanos, fanta en brasi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rebuchet MS"/>
              </a:rPr>
              <a:t>Demografía: edad, sexo, ciclo de vida, edu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Ejemplo: alimentos para bebés, revistas según sex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rebuchet MS"/>
              </a:rPr>
              <a:t>De conduc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Cantidad de uso (Ejemplo: zapatillas para corr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Beneficios o atributos deseados (Ejemplo: pasajes aéreos, pasta de dient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rebuchet MS"/>
              </a:rPr>
              <a:t>Psicográfica o “Estilos de vida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Incorpora variables de opinión, interés. (Ejemplo: agua mineral, pisco, cervez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rebuchet MS"/>
              </a:rPr>
              <a:t>Estrategia: Segment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7236000" y="1341360"/>
            <a:ext cx="1403280" cy="4444560"/>
            <a:chOff x="7236000" y="1341360"/>
            <a:chExt cx="1403280" cy="4444560"/>
          </a:xfrm>
        </p:grpSpPr>
        <p:sp>
          <p:nvSpPr>
            <p:cNvPr id="134" name=""/>
            <p:cNvSpPr/>
            <p:nvPr/>
          </p:nvSpPr>
          <p:spPr>
            <a:xfrm flipH="1" flipV="1">
              <a:off x="7888320" y="2420640"/>
              <a:ext cx="20880" cy="2205000"/>
            </a:xfrm>
            <a:prstGeom prst="line">
              <a:avLst/>
            </a:prstGeom>
            <a:ln w="76320">
              <a:solidFill>
                <a:srgbClr val="00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236000" y="4726080"/>
              <a:ext cx="1403280" cy="105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buClr>
                  <a:srgbClr val="333399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333399"/>
                  </a:solidFill>
                  <a:latin typeface="Times New Roman"/>
                </a:rPr>
                <a:t>Latente (oculta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buClr>
                  <a:srgbClr val="333399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333399"/>
                  </a:solidFill>
                  <a:latin typeface="Times New Roman"/>
                </a:rPr>
                <a:t>Complej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58320" y="1341360"/>
              <a:ext cx="1380960" cy="105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buClr>
                  <a:srgbClr val="333399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333399"/>
                  </a:solidFill>
                  <a:latin typeface="Times New Roman"/>
                </a:rPr>
                <a:t>Manifiesta (visible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buClr>
                  <a:srgbClr val="333399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333399"/>
                  </a:solidFill>
                  <a:latin typeface="Times New Roman"/>
                </a:rPr>
                <a:t>Simp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Requerimientos para una segmentación efecti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rebuchet MS"/>
              </a:rPr>
              <a:t>Tamaño justific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rebuchet MS"/>
              </a:rPr>
              <a:t>Distinción entre segmen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rebuchet MS"/>
              </a:rPr>
              <a:t>Homogeneidad (similares) entre los consumidores del segm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rebuchet MS"/>
              </a:rPr>
              <a:t>Estrategia: Segment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rebuchet MS"/>
              </a:rPr>
              <a:t>Estrategia: Targeting (objetivo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68000" y="1628640"/>
            <a:ext cx="777564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Proceso de selección de aquellos segmentos que presenten el mayor atractivo considerando como base la estrategia de la empresa y la compatibilidad de los recursos y experiencias de la mis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229600" cy="95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rebuchet MS"/>
              </a:rPr>
              <a:t>Estrategia: Posicionamien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8353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99"/>
                </a:solidFill>
                <a:latin typeface="Trebuchet MS"/>
              </a:rPr>
              <a:t>Capacidad de las empresas de construir en la mente del consumidor un lugar preciado, por sobre el que ocupa la competencia, con los distintos productos que ofre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rebuchet MS"/>
              </a:rPr>
              <a:t>Pas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rebuchet MS"/>
              </a:rPr>
              <a:t>Identificar los atributos relevantes para el mercado en el cual participa la marca que se desea posicion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 algn="just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rebuchet MS"/>
              </a:rPr>
              <a:t>Evaluar la percepción que tienen los consumidores de la marca y sus competidores en relación a estas dimensiones relevan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 algn="just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rebuchet MS"/>
              </a:rPr>
              <a:t>Determinar cuál es la mejor posición que la marca debe ocupar en la mente de los consumidores teniendo en cuenta las preferencias de éstos y las posiciones ya ocupadas por la competenc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 algn="just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rebuchet MS"/>
              </a:rPr>
              <a:t>Determinar cuáles son las herramientas de marketing que van a permitir que la marca defienda esta posi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55640" y="5661000"/>
            <a:ext cx="7848720" cy="1079640"/>
          </a:xfrm>
          <a:custGeom>
            <a:avLst/>
            <a:gdLst>
              <a:gd name="textAreaLeft" fmla="*/ 1962000 w 7848720"/>
              <a:gd name="textAreaRight" fmla="*/ 5886720 w 7848720"/>
              <a:gd name="textAreaTop" fmla="*/ 31680 h 1079640"/>
              <a:gd name="textAreaBottom" fmla="*/ 810000 h 1079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99"/>
                </a:solidFill>
                <a:latin typeface="Trebuchet MS"/>
              </a:rPr>
              <a:t>Diferenci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7T03:48:16Z</dcterms:created>
  <dc:creator>Pino</dc:creator>
  <dc:description/>
  <dc:language>en-US</dc:language>
  <cp:lastModifiedBy>NeoAula</cp:lastModifiedBy>
  <dcterms:modified xsi:type="dcterms:W3CDTF">2009-10-22T15:52:09Z</dcterms:modified>
  <cp:revision>68</cp:revision>
  <dc:subject/>
  <dc:title>¿Cómo hacemos para vender nuestros productos?</dc:title>
</cp:coreProperties>
</file>