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2459-6EBC-4F8A-8EB4-A60253117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9308-FBC2-4E82-8CA5-8480845E2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CF0A-9CC7-4EFD-9B26-12745C38A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B371-D197-40E5-8469-2E1D2633A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805A-300A-49D4-B5E2-E24CAA2AD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CDD2-AFF9-4201-B97A-C1AD71944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FE53-63DC-4D1D-AB0E-2AC4209A4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0A38-48F4-4230-B36E-1E5764C72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86D1-BE85-409D-B70D-BD66ABA55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3C58-55A7-4723-9B30-EEA65A231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92FA-85F7-4E47-9095-12DB78592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961B-B8D2-4E32-9016-238174435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517A-3B45-4217-920A-64345FE96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 ADMINIST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 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NeoAula</cp:lastModifiedBy>
  <dcterms:modified xsi:type="dcterms:W3CDTF">2009-11-02T18:06:04Z</dcterms:modified>
  <cp:revision>22</cp:revision>
  <dc:subject/>
  <dc:title>ADMINISTRACIÓN BÁSICA DE UN NEGOCIO</dc:title>
</cp:coreProperties>
</file>