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3740-06C2-485B-9B37-96ED7E8AB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177F-A7C4-485A-911C-B2EA018DC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6350-B68A-4473-9DF7-E65D87B8D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7E81-3F65-4B49-9AE8-9E324B5DD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8E56-21FB-4A58-B620-506EB04D0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E0F7-D674-4CDB-9ED3-A58E17644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71EF-5081-4499-827D-303DEE814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F6E9-1F63-4A8A-81A3-FA39A3F5F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7421-047D-4275-AB40-6EF8E8BEE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FE06-52E5-4FDB-861B-67442C7B5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FDA3-0447-4F12-8E92-DA471EB70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67CF-904D-43E9-BC54-7757C362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E73-81F4-4612-B5B6-6964EC55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 ADMINIST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NeoAula</cp:lastModifiedBy>
  <dcterms:modified xsi:type="dcterms:W3CDTF">2009-11-02T18:06:04Z</dcterms:modified>
  <cp:revision>22</cp:revision>
  <dc:subject/>
  <dc:title>ADMINISTRACIÓN BÁSICA DE UN NEGOCIO</dc:title>
</cp:coreProperties>
</file>