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86AD-3936-4F4F-ABE7-CAA6A7248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EAA7-4981-4237-8664-86A66D3F2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93BA-0D24-46E1-A708-212EE58D3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DF48-A2D2-4BAA-9D9B-625874B25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E5A8-749A-4898-BBCB-4E228B424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D118-60DC-4CA8-97D9-573805EB1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CAD6-227D-46D7-9B44-345604882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1F1A-CE1E-499C-B730-0F9BEBA8B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5C8C-97A4-413C-93E5-FA497C932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5711-99CA-4804-BFD5-8AEDDB092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16BD-E845-41B8-96E6-08936A4A2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E97F-BBC6-42C6-81FC-25709D3F1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F88-A880-439A-A6AB-BEC5E0D26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 ADMINIST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 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0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NeoAula</cp:lastModifiedBy>
  <dcterms:modified xsi:type="dcterms:W3CDTF">2009-11-02T18:06:04Z</dcterms:modified>
  <cp:revision>22</cp:revision>
  <dc:subject/>
  <dc:title>ADMINISTRACIÓN BÁSICA DE UN NEGOCIO</dc:title>
</cp:coreProperties>
</file>