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5638" cy="921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33D-41CB-49B9-83CD-3A51AF05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283-9BFC-4409-9D97-BCBA7DF1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8FA-09DC-4D90-8B15-15C33E9E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AF2-09AA-4282-8430-CFFE4B0C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BA7-9B74-47EF-AEAB-83F6E42F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36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5080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33240" y="3773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577-9A2A-47B9-A0F9-17AD6862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0F4-10D5-455D-8A29-4AFB8A04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96A-7968-4DDC-A34B-9BF53611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F04-0D11-4284-9919-36FAECF9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A98-4990-45BB-9357-9FB7D3A6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5400" y="3773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7F2-D237-43E5-B5A4-0E42F5F2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773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F7B-7D23-495D-B6F8-B93BDB55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556000" y="1412640"/>
            <a:ext cx="52783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B7CD-0087-4E98-A2B6-36BF7FBA4680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3 Elipse"/>
          <p:cNvSpPr/>
          <p:nvPr/>
        </p:nvSpPr>
        <p:spPr>
          <a:xfrm>
            <a:off x="1908000" y="4508640"/>
            <a:ext cx="365400" cy="36504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5" descr="logo cms"/>
          <p:cNvPicPr/>
          <p:nvPr/>
        </p:nvPicPr>
        <p:blipFill>
          <a:blip r:embed="rId2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4" descr="logo fcfm"/>
          <p:cNvPicPr/>
          <p:nvPr/>
        </p:nvPicPr>
        <p:blipFill>
          <a:blip r:embed="rId3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sp>
        <p:nvSpPr>
          <p:cNvPr id="8" name="16 Rectángulo"/>
          <p:cNvSpPr/>
          <p:nvPr/>
        </p:nvSpPr>
        <p:spPr>
          <a:xfrm>
            <a:off x="395280" y="0"/>
            <a:ext cx="60948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8 Rectángulo"/>
          <p:cNvSpPr/>
          <p:nvPr/>
        </p:nvSpPr>
        <p:spPr>
          <a:xfrm>
            <a:off x="97164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25 Conector recto"/>
          <p:cNvSpPr/>
          <p:nvPr/>
        </p:nvSpPr>
        <p:spPr>
          <a:xfrm>
            <a:off x="169236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29 Elipse"/>
          <p:cNvSpPr/>
          <p:nvPr/>
        </p:nvSpPr>
        <p:spPr>
          <a:xfrm>
            <a:off x="611280" y="3429000"/>
            <a:ext cx="1295280" cy="1295280"/>
          </a:xfrm>
          <a:prstGeom prst="ellipse">
            <a:avLst/>
          </a:prstGeom>
          <a:solidFill>
            <a:srgbClr val="00008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6 Conector recto"/>
          <p:cNvSpPr/>
          <p:nvPr/>
        </p:nvSpPr>
        <p:spPr>
          <a:xfrm>
            <a:off x="87487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6 Conector recto"/>
          <p:cNvSpPr/>
          <p:nvPr/>
        </p:nvSpPr>
        <p:spPr>
          <a:xfrm>
            <a:off x="8964720" y="21600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6 Conector recto"/>
          <p:cNvSpPr/>
          <p:nvPr/>
        </p:nvSpPr>
        <p:spPr>
          <a:xfrm>
            <a:off x="9180360" y="43164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logo cms"/>
          <p:cNvPicPr/>
          <p:nvPr/>
        </p:nvPicPr>
        <p:blipFill>
          <a:blip r:embed="rId2"/>
          <a:stretch/>
        </p:blipFill>
        <p:spPr>
          <a:xfrm>
            <a:off x="539640" y="5950080"/>
            <a:ext cx="1295640" cy="73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logo fcfm"/>
          <p:cNvPicPr/>
          <p:nvPr/>
        </p:nvPicPr>
        <p:blipFill>
          <a:blip r:embed="rId3"/>
          <a:stretch/>
        </p:blipFill>
        <p:spPr>
          <a:xfrm>
            <a:off x="6516720" y="6021360"/>
            <a:ext cx="208764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hacemos que nuestros productos tengan éxito en el merc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5640" y="3284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rketing y Vent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 proceso indispensable para sobrevivi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l Modelo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92360" y="1484280"/>
            <a:ext cx="540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S.T.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3213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3429000"/>
            <a:ext cx="1657440" cy="2303640"/>
          </a:xfrm>
          <a:prstGeom prst="upArrow">
            <a:avLst>
              <a:gd name="adj1" fmla="val 50000"/>
              <a:gd name="adj2" fmla="val 347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41720"/>
            <a:ext cx="1657080" cy="2303280"/>
          </a:xfrm>
          <a:prstGeom prst="upArrow">
            <a:avLst>
              <a:gd name="adj1" fmla="val 50000"/>
              <a:gd name="adj2" fmla="val 34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AHORA A LA TÁC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Las 4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82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duc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ásico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pectos intangibles     Aspecto aume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defino el prec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rculo virtuoso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lidad –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laza (distribució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stión de l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adena de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Promoción (publicidad, promociones, venta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5445000"/>
            <a:ext cx="2016000" cy="936720"/>
          </a:xfrm>
          <a:prstGeom prst="rightArrow">
            <a:avLst>
              <a:gd name="adj1" fmla="val 50000"/>
              <a:gd name="adj2" fmla="val 53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537372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Las ventas son sólo una parte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539280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in embargo es una de las más impor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989000"/>
            <a:ext cx="288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1989000"/>
            <a:ext cx="2890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recio: precio de etiqueta + tiempo de compra + otr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s empresas fijan precios dentro de un rango (fijado por la compet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precio se elige según el lugar que quieran ocupar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ostos v/s disposición a pagar del cl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97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rebuchet MS"/>
              </a:rPr>
              <a:t>El precio es la más sensible de las 4P, y afecta notoriamente las utilidades del negocio en el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002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1.-Descremar el mercado: partir con precios altos y bajarlos co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equilibra demanda con capacidad de producción, Crea efecto deseo y es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atrae competidores rápidamente, puede desposicionar el producto, fuerte inversión en promo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2.- Penetración de mercado: partir con precios bajos y subirlos con 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Ventajas: desanima competencia, rápidamente uno se posiciona, ventas amplias (economías de esca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rebuchet MS"/>
              </a:rPr>
              <a:t>Desventajas: si nos equivocamos podemos arruinarnos, no es aconsejable en marcados de status, poco entable si el ciclo de vida del negocio es c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26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 person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Precios distinto según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gasfiter, abogad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Versonaliz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Variantes del producto a distintos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Ejemplos: líneas aére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Precios por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Líneas de productos, descuentos por cantid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324000" y="126828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  <a:ea typeface="Arial"/>
              </a:rPr>
              <a:t>Consideracione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Percepciones sobre las diferencias de 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Las personas evalúan la diferencia de precio entre dos productos de forma porcentual, sobre el precio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jemplo:   Azúcar : 550 a 450 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Aceite de Oliva: 2500 a 2400(4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números im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Es conveniente terminar en números imp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Los precios de la línea como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Más vale tener 3 productos que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9400" y="287280"/>
            <a:ext cx="817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e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324000" y="1125360"/>
            <a:ext cx="7858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asticidades asimé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No conviene hacer promociones de los precios más bajos, sí de los superiores o intermedios. Salvo que sea por ganar nuevos compradores o por generar ima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fectos de 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3.500, 5.600, 9.900.,15.800, 21.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rebuchet MS"/>
                <a:ea typeface="Arial"/>
              </a:rPr>
              <a:t>21.350, 15.800, 9.900, 5.600,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Ventas promedios mayor en el segundo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l último precio pagado como precio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  <a:ea typeface="Arial"/>
              </a:rPr>
              <a:t>Hacer referencia la último precio pa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ón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 la acción de COMUNICAR, ejercida por el PRODUCTOR, destinada al potencial comprador con el objeto de influenciar sus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timiento post-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as acciones de Promo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626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Venta 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irectamente con el cliente, vía correo electrónico, teléfon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romoción de ve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Estimular la venta en el momento de la decisión de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Presentación del producto, descu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Publi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 través de un medio masivo: Radio, Diario, Revistas,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Relaciones Púb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99"/>
                </a:solidFill>
                <a:latin typeface="Trebuchet MS"/>
              </a:rPr>
              <a:t>Boca en Bo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1484280"/>
            <a:ext cx="1943280" cy="3745080"/>
          </a:xfrm>
          <a:prstGeom prst="upArrow">
            <a:avLst>
              <a:gd name="adj1" fmla="val 50000"/>
              <a:gd name="adj2" fmla="val 481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engamos en cuenta qu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9520" y="1719360"/>
            <a:ext cx="785952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El proceso de la venta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corresponde a una etapa particular de la </a:t>
            </a:r>
            <a:r>
              <a:rPr b="1" lang="en-US" sz="3000" spc="-1" strike="noStrike">
                <a:solidFill>
                  <a:srgbClr val="333399"/>
                </a:solidFill>
                <a:latin typeface="Trebuchet MS"/>
              </a:rPr>
              <a:t>Táctica de Marketing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de una Empre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romo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991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Tipos de promo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conciencia (prueba gratis): Producto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enerar volumen (lleve 2 y pague 1): Aumento del consumo, r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Basadas en el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Rebajas en el 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Cupones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remios y con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ebe tener valor para 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V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 proc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nta es una actividad de conquista humana, </a:t>
            </a: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no de engañ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ospec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Presentación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Obje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haroni"/>
              </a:rPr>
              <a:t>Cierre y Post-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sp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iste en identificar buenos clientes potenciales, o buscar posibles nuevos negocios con clientes actu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 debe aprender todo lo posible del potencial cliente antes del primer conta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 debe planificar hasta el más mínimo detalle, para el momento de la entrev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tre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enerar empat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aludo cordial, … pero no ad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uidar detalles (saberse el nombre, no invadir su espacio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Vender” al cliente que es importante hablar conmi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rse”, pero cuidado con sonar soberbio o arrogante o parecer “charlatá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La idea es hacer atractivo el encuentro, o sea, que el encuentro con el potencial comprador sea de importancia para él (que le genere val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7920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tes de presentar el producto, debe decidir alguno de estos 3 enfo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Detección de necesid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 y ESCU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uego diseña un “traje a la medi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Presentación envas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hace una presentación estándar previamente prepa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Mi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ndedor primero sólo hace preguntas, y luego hace una presentación previamente prep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r 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es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Qué son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cada uno de su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ara que sirve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se usa el produ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Por qué el producto es bueno para el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beneficia el producto a mi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16840" indent="-39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¿Cómo transformar cada atributo en beneficios para cada cli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2349360"/>
            <a:ext cx="1584360" cy="719280"/>
          </a:xfrm>
          <a:prstGeom prst="rightArrow">
            <a:avLst>
              <a:gd name="adj1" fmla="val 50000"/>
              <a:gd name="adj2" fmla="val 550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3502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249084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o no vende productos, vende benef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571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nsformar cada atributo en benef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4726080"/>
            <a:ext cx="1584360" cy="718920"/>
          </a:xfrm>
          <a:prstGeom prst="rightArrow">
            <a:avLst>
              <a:gd name="adj1" fmla="val 50000"/>
              <a:gd name="adj2" fmla="val 550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0000" y="4653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el vendedor no conoce, ni está convencido de los beneficios de su oferta, es difícil que vend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1484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entación d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s objeciones son juicios de oposición ante el discurso de alguna persona en parti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 común es enojarse ante las objeciones que propone el cliente 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ven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Perder fide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Empeora la im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Un cliente mal atendido comunica más que uno cont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781360"/>
            <a:ext cx="1728720" cy="863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292428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 las objeciones no nos mole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716280"/>
            <a:ext cx="1728720" cy="649440"/>
          </a:xfrm>
          <a:prstGeom prst="rightArrow">
            <a:avLst>
              <a:gd name="adj1" fmla="val 50000"/>
              <a:gd name="adj2" fmla="val 665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378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cambiar act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3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perder la c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941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cambia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  <a:ea typeface="Aharoni"/>
              </a:rPr>
              <a:t>¿Qué es el marke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Marketing es el proceso de planific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l segmento de mercado al cual me voy a atacar y ver como me quiero posicion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 concepción, precio, promoción y distribución de bienes y servic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99"/>
                </a:solidFill>
                <a:latin typeface="Trebuchet MS"/>
              </a:rPr>
              <a:t>"Marketing es tener el producto adecuado, en el momento adecuado, adaptado a la demanda, en el tiempo correcto y con el precio mas justo".</a:t>
            </a: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Obje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Manejo de objeciones: Aprender a “surfear” en el mar de dudas y comentarios (des)calificadore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n general las objeciones se repiten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, son predecibles y contro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j.: Seguros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No tengo pl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éjeme consultarlo con mi seño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300640"/>
            <a:ext cx="1800360" cy="936720"/>
          </a:xfrm>
          <a:prstGeom prst="rightArrow">
            <a:avLst>
              <a:gd name="adj1" fmla="val 50000"/>
              <a:gd name="adj2" fmla="val 48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5229360"/>
            <a:ext cx="56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Es vital contar con un discurso que    sea capaz de manejar las distintas objeciones que el cliente pro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91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i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almente el cliente “necesita un empujoncito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o se debe buscar el momento oportuno, sin apresurarlo pero tampoco dila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 venta no termina una vez que el producto ha sido entre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a variable importante en la fidelización del cliente es el 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 cliente fiel me compra nuevamente (y es más rentable que un cliente nue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Pasos del Proceso de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-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Soporte Téc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r nuevos productos y/o Servicios asoc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troalim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08720" y="836640"/>
            <a:ext cx="2952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urgimiento de la id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08720" y="2852280"/>
            <a:ext cx="2952720" cy="1154520"/>
            <a:chOff x="5508720" y="2852280"/>
            <a:chExt cx="2952720" cy="1154520"/>
          </a:xfrm>
        </p:grpSpPr>
        <p:sp>
          <p:nvSpPr>
            <p:cNvPr id="108" name=""/>
            <p:cNvSpPr/>
            <p:nvPr/>
          </p:nvSpPr>
          <p:spPr>
            <a:xfrm>
              <a:off x="5508720" y="3213000"/>
              <a:ext cx="2952720" cy="79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Segmentación 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Targeting (Objetiv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10" idx="2"/>
              <a:endCxn id="108" idx="0"/>
            </p:cNvCxnSpPr>
            <p:nvPr/>
          </p:nvCxnSpPr>
          <p:spPr>
            <a:xfrm>
              <a:off x="6984720" y="285228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1" name=""/>
          <p:cNvGrpSpPr/>
          <p:nvPr/>
        </p:nvGrpSpPr>
        <p:grpSpPr>
          <a:xfrm>
            <a:off x="5508720" y="5230440"/>
            <a:ext cx="2952720" cy="1222920"/>
            <a:chOff x="5508720" y="5230440"/>
            <a:chExt cx="2952720" cy="1222920"/>
          </a:xfrm>
        </p:grpSpPr>
        <p:sp>
          <p:nvSpPr>
            <p:cNvPr id="112" name=""/>
            <p:cNvSpPr/>
            <p:nvPr/>
          </p:nvSpPr>
          <p:spPr>
            <a:xfrm>
              <a:off x="5508720" y="5661000"/>
              <a:ext cx="295272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s 4 P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(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ducto,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ec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laza y </a:t>
              </a:r>
              <a:r>
                <a:rPr b="1" lang="en-US" sz="1500" spc="-1" strike="noStrike">
                  <a:solidFill>
                    <a:srgbClr val="333399"/>
                  </a:solidFill>
                  <a:latin typeface="Trebuchet MS"/>
                </a:rPr>
                <a:t>P</a:t>
              </a: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romoción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4" idx="2"/>
              <a:endCxn id="112" idx="0"/>
            </p:cNvCxnSpPr>
            <p:nvPr/>
          </p:nvCxnSpPr>
          <p:spPr>
            <a:xfrm>
              <a:off x="6984720" y="5230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5" name=""/>
          <p:cNvSpPr/>
          <p:nvPr/>
        </p:nvSpPr>
        <p:spPr>
          <a:xfrm>
            <a:off x="4859280" y="836640"/>
            <a:ext cx="73080" cy="201600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3213000"/>
            <a:ext cx="73080" cy="2016360"/>
          </a:xfrm>
          <a:custGeom>
            <a:avLst/>
            <a:gdLst>
              <a:gd name="textAreaLeft" fmla="*/ 46800 w 73080"/>
              <a:gd name="textAreaRight" fmla="*/ 73440 w 730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2720" y="1197000"/>
            <a:ext cx="3959280" cy="1382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lineación co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Estrategia de la empresa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u misión, las fortalezas y debilidades ante la competencia y las oportunidades y amenazas existentes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3860640"/>
            <a:ext cx="302436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esarroll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la Estrategia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5734080"/>
            <a:ext cx="3024000" cy="631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a Tác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508720" y="1233000"/>
            <a:ext cx="3211920" cy="1619640"/>
            <a:chOff x="5508720" y="1233000"/>
            <a:chExt cx="3211920" cy="1619640"/>
          </a:xfrm>
        </p:grpSpPr>
        <p:cxnSp>
          <p:nvCxnSpPr>
            <p:cNvPr id="121" name=""/>
            <p:cNvCxnSpPr>
              <a:stCxn id="106" idx="2"/>
              <a:endCxn id="110" idx="0"/>
            </p:cNvCxnSpPr>
            <p:nvPr/>
          </p:nvCxnSpPr>
          <p:spPr>
            <a:xfrm>
              <a:off x="6984720" y="1628640"/>
              <a:ext cx="10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2" name=""/>
            <p:cNvGrpSpPr/>
            <p:nvPr/>
          </p:nvGrpSpPr>
          <p:grpSpPr>
            <a:xfrm>
              <a:off x="5508720" y="1233000"/>
              <a:ext cx="3211920" cy="1619640"/>
              <a:chOff x="5508720" y="1233000"/>
              <a:chExt cx="3211920" cy="1619640"/>
            </a:xfrm>
          </p:grpSpPr>
          <p:sp>
            <p:nvSpPr>
              <p:cNvPr id="110" name=""/>
              <p:cNvSpPr/>
              <p:nvPr/>
            </p:nvSpPr>
            <p:spPr>
              <a:xfrm>
                <a:off x="5508720" y="2060640"/>
                <a:ext cx="2952720" cy="792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Análisis Interno/Extern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</a:t>
                </a:r>
                <a:r>
                  <a:rPr b="1" lang="en-US" sz="1500" spc="-1" strike="noStrike">
                    <a:solidFill>
                      <a:srgbClr val="333399"/>
                    </a:solidFill>
                    <a:latin typeface="Trebuchet MS"/>
                  </a:rPr>
                  <a:t>FODA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3" name=""/>
              <p:cNvCxnSpPr>
                <a:stCxn id="110" idx="3"/>
                <a:endCxn id="106" idx="3"/>
              </p:cNvCxnSpPr>
              <p:nvPr/>
            </p:nvCxnSpPr>
            <p:spPr>
              <a:xfrm flipV="1">
                <a:off x="8461440" y="123300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24" name=""/>
          <p:cNvGrpSpPr/>
          <p:nvPr/>
        </p:nvGrpSpPr>
        <p:grpSpPr>
          <a:xfrm>
            <a:off x="5508720" y="3609720"/>
            <a:ext cx="3211920" cy="1621080"/>
            <a:chOff x="5508720" y="3609720"/>
            <a:chExt cx="3211920" cy="1621080"/>
          </a:xfrm>
        </p:grpSpPr>
        <p:cxnSp>
          <p:nvCxnSpPr>
            <p:cNvPr id="125" name=""/>
            <p:cNvCxnSpPr>
              <a:stCxn id="108" idx="2"/>
              <a:endCxn id="114" idx="0"/>
            </p:cNvCxnSpPr>
            <p:nvPr/>
          </p:nvCxnSpPr>
          <p:spPr>
            <a:xfrm>
              <a:off x="6984720" y="4006440"/>
              <a:ext cx="1080" cy="43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6" name=""/>
            <p:cNvGrpSpPr/>
            <p:nvPr/>
          </p:nvGrpSpPr>
          <p:grpSpPr>
            <a:xfrm>
              <a:off x="5508720" y="3609720"/>
              <a:ext cx="3211920" cy="1621080"/>
              <a:chOff x="5508720" y="3609720"/>
              <a:chExt cx="3211920" cy="1621080"/>
            </a:xfrm>
          </p:grpSpPr>
          <p:sp>
            <p:nvSpPr>
              <p:cNvPr id="114" name=""/>
              <p:cNvSpPr/>
              <p:nvPr/>
            </p:nvSpPr>
            <p:spPr>
              <a:xfrm>
                <a:off x="5508720" y="4437000"/>
                <a:ext cx="2952720" cy="793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Posicionamiento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rebuchet MS"/>
                  </a:rPr>
                  <a:t>(Desarrollo de concepto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" name=""/>
              <p:cNvCxnSpPr>
                <a:stCxn id="114" idx="3"/>
                <a:endCxn id="108" idx="3"/>
              </p:cNvCxnSpPr>
              <p:nvPr/>
            </p:nvCxnSpPr>
            <p:spPr>
              <a:xfrm flipV="1">
                <a:off x="8461440" y="3609720"/>
                <a:ext cx="2160" cy="122472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rebuchet MS"/>
              </a:rPr>
              <a:t>Proceso General del Marke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7040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rresponde a dividir el mercado en grupos identificables y distinguibles entre si, de manera tal de poder realizar una oferta concreta según las necesidades y cualidades com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Se pueden orientar esfuerzos de MKTG de manera más eficiente, por ejemplo la promoción y las ven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rebuchet MS"/>
              </a:rPr>
              <a:t>Es posible identificar el grupo de personas indicadas a quién debo vender mis produ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393560"/>
            <a:ext cx="712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Geográ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buses interurbanos, fanta en bras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mografía: edad, sexo, ciclo de vida, edu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jemplo: alimentos para bebés, revistas según s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 condu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tidad de uso (Ejemplo: zapatillas para corr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eneficios o atributos deseados (Ejemplo: pasajes aéreos, pasta de d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Psicográfica o “Estilos de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corpora variables de opinión, interés. (Ejemplo: agua mineral, pisco, cerv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236000" y="1341360"/>
            <a:ext cx="1403280" cy="4444560"/>
            <a:chOff x="7236000" y="1341360"/>
            <a:chExt cx="1403280" cy="4444560"/>
          </a:xfrm>
        </p:grpSpPr>
        <p:sp>
          <p:nvSpPr>
            <p:cNvPr id="134" name=""/>
            <p:cNvSpPr/>
            <p:nvPr/>
          </p:nvSpPr>
          <p:spPr>
            <a:xfrm flipH="1" flipV="1">
              <a:off x="7888320" y="2420640"/>
              <a:ext cx="20880" cy="220500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6000" y="4726080"/>
              <a:ext cx="1403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Latente (ocult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le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58320" y="1341360"/>
              <a:ext cx="1380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Manifiesta (visib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querimientos para una segmentación efe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Tamaño justif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istinción entre seg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omogeneidad (similares) entre los consumidores del seg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Seg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Targeting (objetiv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ceso de selección de aquellos segmentos que presenten el mayor atractivo considerando como base la estrategia de la empresa y la compatibilidad de los recursos y experiencias de la mi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strategia: Posi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Capacidad de las empresas de construir en la mente del consumidor un lugar preciado, por sobre el que ocupa la competencia, con los distintos productos que ofr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Identificar los atributos relevantes para el mercado en el cual participa la marca que se desea posicion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valuar la percepción que tienen los consumidores de la marca y sus competidores en relación a estas dimensiones relev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 es la mejor posición que la marca debe ocupar en la mente de los consumidores teniendo en cuenta las preferencias de éstos y las posiciones ya ocupadas por la compe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Determinar cuáles son las herramientas de marketing que van a permitir que la marca defienda esta 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661000"/>
            <a:ext cx="7848720" cy="1079640"/>
          </a:xfrm>
          <a:custGeom>
            <a:avLst/>
            <a:gdLst>
              <a:gd name="textAreaLeft" fmla="*/ 1962000 w 7848720"/>
              <a:gd name="textAreaRight" fmla="*/ 5886720 w 7848720"/>
              <a:gd name="textAreaTop" fmla="*/ 3168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rebuchet MS"/>
              </a:rPr>
              <a:t>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3:48:16Z</dcterms:created>
  <dc:creator>Pino</dc:creator>
  <dc:description/>
  <dc:language>en-US</dc:language>
  <cp:lastModifiedBy>NeoAula</cp:lastModifiedBy>
  <dcterms:modified xsi:type="dcterms:W3CDTF">2009-10-22T15:52:09Z</dcterms:modified>
  <cp:revision>68</cp:revision>
  <dc:subject/>
  <dc:title>¿Cómo hacemos para vender nuestros productos?</dc:title>
</cp:coreProperties>
</file>