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" name="Picture 13" descr="logo cms"/>
          <p:cNvPicPr/>
          <p:nvPr/>
        </p:nvPicPr>
        <p:blipFill>
          <a:blip r:embed="rId2"/>
          <a:stretch/>
        </p:blipFill>
        <p:spPr>
          <a:xfrm>
            <a:off x="733320" y="5983200"/>
            <a:ext cx="1295640" cy="731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logo fcfm"/>
          <p:cNvPicPr/>
          <p:nvPr/>
        </p:nvPicPr>
        <p:blipFill>
          <a:blip r:embed="rId3"/>
          <a:stretch/>
        </p:blipFill>
        <p:spPr>
          <a:xfrm>
            <a:off x="6227640" y="6000840"/>
            <a:ext cx="194472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6699"/>
                </a:solidFill>
                <a:latin typeface="Tahoma"/>
              </a:rPr>
              <a:t>Ciclo Básico de la Acción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336699"/>
                </a:solidFill>
                <a:latin typeface="Tahoma"/>
              </a:rPr>
              <a:t>Producció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3049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clo Básico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9800" y="2484360"/>
            <a:ext cx="1783800" cy="167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sm" type="oval" w="sm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95920" y="2486160"/>
            <a:ext cx="1785240" cy="167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69" swAng="5592967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69" swAng="5592967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sm" type="oval" w="sm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96280" y="2580120"/>
            <a:ext cx="1785960" cy="176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1"/>
                </a:moveTo>
                <a:arcTo wR="10800" hR="10800" stAng="395909" swAng="5188533"/>
                <a:lnTo>
                  <a:pt x="10800" y="10800"/>
                </a:lnTo>
                <a:close/>
              </a:path>
              <a:path fill="none" w="21600" h="21600">
                <a:moveTo>
                  <a:pt x="21528" y="12041"/>
                </a:moveTo>
                <a:arcTo wR="10800" hR="10800" stAng="395909" swAng="5188533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sm" type="oval" w="sm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3040" y="2580840"/>
            <a:ext cx="1780920" cy="176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94" y="21508"/>
                </a:moveTo>
                <a:arcTo wR="10800" hR="10800" stAng="5848685" swAng="4951315"/>
                <a:lnTo>
                  <a:pt x="10800" y="10800"/>
                </a:lnTo>
                <a:close/>
              </a:path>
              <a:path fill="none" w="21600" h="21600">
                <a:moveTo>
                  <a:pt x="9394" y="21508"/>
                </a:moveTo>
                <a:arcTo wR="10800" hR="10800" stAng="5848685" swAng="4951315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sm" type="oval" w="sm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8640" y="3267000"/>
            <a:ext cx="1404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Cli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51440" y="3297240"/>
            <a:ext cx="1130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Realizad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04920" y="2116080"/>
            <a:ext cx="155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dido / 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28960" y="4437000"/>
            <a:ext cx="1628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5120" y="1841400"/>
            <a:ext cx="4869000" cy="334008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462480"/>
            <a:ext cx="369720" cy="144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3487680"/>
            <a:ext cx="2286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49400" y="1833480"/>
            <a:ext cx="0" cy="27936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49400" y="4902120"/>
            <a:ext cx="0" cy="27936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0800" y="1927080"/>
            <a:ext cx="1278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Prepar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1887480"/>
            <a:ext cx="1278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Negoci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782960"/>
            <a:ext cx="1447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Realiz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0800" y="4782960"/>
            <a:ext cx="1506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Evalu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2725560"/>
            <a:ext cx="1148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romesas Mut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962520" y="3106800"/>
            <a:ext cx="241200" cy="22860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38480" y="3182760"/>
            <a:ext cx="131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3333cc"/>
                </a:solidFill>
                <a:latin typeface="Arial Narrow"/>
              </a:rPr>
              <a:t>Preocupación a Cuid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16200" y="3449520"/>
            <a:ext cx="188640" cy="1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86120" y="3449520"/>
            <a:ext cx="189000" cy="1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849400" y="2392200"/>
            <a:ext cx="0" cy="1857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849400" y="4298760"/>
            <a:ext cx="0" cy="1854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2960" y="3716280"/>
            <a:ext cx="126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394640" y="3508200"/>
            <a:ext cx="468360" cy="1857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2860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 Narrow"/>
              </a:rPr>
              <a:t>Desperd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5920" y="1565280"/>
            <a:ext cx="3067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Problemas tí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liente no satisf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Realizador sin posibilidad de aprendizaje o mejor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Ausencia de aprendizaje del 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rganización con baja capacidad de mejorar y apr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3049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clo Básico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57200" y="1833480"/>
            <a:ext cx="4876920" cy="3348000"/>
            <a:chOff x="457200" y="1833480"/>
            <a:chExt cx="4876920" cy="3348000"/>
          </a:xfrm>
        </p:grpSpPr>
        <p:sp>
          <p:nvSpPr>
            <p:cNvPr id="267" name=""/>
            <p:cNvSpPr/>
            <p:nvPr/>
          </p:nvSpPr>
          <p:spPr>
            <a:xfrm>
              <a:off x="1909800" y="2484360"/>
              <a:ext cx="178380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23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231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sm" type="oval" w="sm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95920" y="2485800"/>
              <a:ext cx="1785240" cy="167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769" swAng="55929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769" swAng="5592967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sm" type="oval" w="sm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96280" y="2579400"/>
              <a:ext cx="1785960" cy="176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1"/>
                  </a:moveTo>
                  <a:arcTo wR="10800" hR="10800" stAng="395909" swAng="51885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1"/>
                  </a:moveTo>
                  <a:arcTo wR="10800" hR="10800" stAng="395909" swAng="5188533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sm" type="oval" w="sm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3040" y="2580120"/>
              <a:ext cx="1780920" cy="176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94" y="21508"/>
                  </a:moveTo>
                  <a:arcTo wR="10800" hR="10800" stAng="5848685" swAng="4951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94" y="21508"/>
                  </a:moveTo>
                  <a:arcTo wR="10800" hR="10800" stAng="5848685" swAng="4951315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sm" type="oval" w="sm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98640" y="3267000"/>
              <a:ext cx="14047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</a:rPr>
                <a:t>Clien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51440" y="3297240"/>
              <a:ext cx="1130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</a:rPr>
                <a:t>Realizado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04920" y="2116080"/>
              <a:ext cx="1552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edido / Ofe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8960" y="4437000"/>
              <a:ext cx="1628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Declaración de Cumpl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5120" y="1841400"/>
              <a:ext cx="4869000" cy="334008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3462120"/>
              <a:ext cx="369720" cy="18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05520" y="3487680"/>
              <a:ext cx="2286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49400" y="1833480"/>
              <a:ext cx="0" cy="27936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49400" y="4902120"/>
              <a:ext cx="0" cy="27936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0800" y="1927080"/>
              <a:ext cx="1278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</a:rPr>
                <a:t>Prepara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1887480"/>
              <a:ext cx="12780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</a:rPr>
                <a:t>Negocia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09880" y="4782960"/>
              <a:ext cx="14479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</a:rPr>
                <a:t>Realiza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0800" y="4782960"/>
              <a:ext cx="150660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</a:rPr>
                <a:t>Evalua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38480" y="2725560"/>
              <a:ext cx="1148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romesas Mutu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962520" y="3106440"/>
              <a:ext cx="241200" cy="22860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38480" y="3182760"/>
              <a:ext cx="131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3333cc"/>
                  </a:solidFill>
                  <a:latin typeface="Arial Narrow"/>
                </a:rPr>
                <a:t>Preocupación a Cuid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16200" y="3449520"/>
              <a:ext cx="188640" cy="144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86120" y="3449520"/>
              <a:ext cx="189000" cy="144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849400" y="2392200"/>
              <a:ext cx="0" cy="18576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849400" y="4298760"/>
              <a:ext cx="0" cy="18576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2960" y="3716280"/>
              <a:ext cx="12621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3333cc"/>
                  </a:solidFill>
                  <a:latin typeface="Arial"/>
                </a:rPr>
                <a:t>Declaración de Satisf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394640" y="3508200"/>
              <a:ext cx="468360" cy="1857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486400" y="22860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 Narrow"/>
              </a:rPr>
              <a:t>Desperd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1565280"/>
            <a:ext cx="30481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0000"/>
                </a:solidFill>
                <a:latin typeface="Arial"/>
              </a:rPr>
              <a:t>Problemas típic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Arial"/>
              </a:rPr>
              <a:t>Trabajo Burocrátic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Arial"/>
              </a:rPr>
              <a:t>Ausencia de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Arial"/>
              </a:rPr>
              <a:t>No agrega valor a la órganiz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Arial"/>
              </a:rPr>
              <a:t>No disponibilidad para los cambios y las mejor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Arial"/>
              </a:rPr>
              <a:t>Perdida de recurs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1"/>
          <p:cNvSpPr/>
          <p:nvPr/>
        </p:nvSpPr>
        <p:spPr>
          <a:xfrm>
            <a:off x="250920" y="1628640"/>
            <a:ext cx="86421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ETAPA DE EJEC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Producción y gestión de oper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2419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1"/>
          <p:cNvSpPr/>
          <p:nvPr/>
        </p:nvSpPr>
        <p:spPr>
          <a:xfrm>
            <a:off x="3492360" y="6165720"/>
            <a:ext cx="212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Enero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24000" y="40464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006699"/>
                </a:solidFill>
                <a:latin typeface="Trebuchet MS"/>
              </a:rPr>
              <a:t>Operaciones del Nego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39640" y="1557360"/>
            <a:ext cx="82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adena de Suminis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Proceso productiv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nstal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Inventari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Control de calid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Distribu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rebuchet MS"/>
              </a:rPr>
              <a:t>Servicio al cl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395280" y="40464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Gestión de Oper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250920" y="1413000"/>
            <a:ext cx="828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studio de conceptos, métodos y herramientas necesarias para enfrentar y resolver los problemas relacionados a la producción de los bienes o serv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Algunos paradigmas de ho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alidad y mejoramiento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os servicios son cada vez un componente más relevante en la 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Todo negocio tiene componentes de servicio y de manufactura (bienes). Hay pocas excep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24000" y="47628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Tipos 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250920" y="1341360"/>
            <a:ext cx="849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rebuchet MS"/>
              </a:rPr>
              <a:t>Estratégicas (Largo plaz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Son decisiones de alta importancia, de poca reversibilidad, de alta incertidumbre, de baja complejidad y estructuración (Metas, recurs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Ej: Qué tipo de producto fabricaremos?, donde nos instalaremos?, que mercado atacare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rebuchet MS"/>
              </a:rPr>
              <a:t>Tácticas (mediano plaz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Decisiones de mediana importancia a nivel de producción, personal, inventario, maquinarias, marketing, finanzas (12 meses prome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</a:rPr>
              <a:t>Ej: Cuanto producir en los próximos 12 meses?, Cuanta materia prima necesitamos para el próximo perio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rebuchet MS"/>
              </a:rPr>
              <a:t>Operativas (día a dí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rebuchet MS"/>
              </a:rPr>
              <a:t>Son decisiones de baja importancia, de alta reversibilidad,), de baja incertidumbre, de alta complejidad y estructur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</a:rPr>
              <a:t>Que hacer y en que maquinas en las próximas 2 horas?, pedidos de repuestos y materias primas, Programación de producción diaria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404640"/>
            <a:ext cx="8715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Cadena de Suminis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250920" y="134136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s una red de instalaciones y medios de distribución que tiene por función la obtención de materiales, transformación de dichos materiales en productos intermedios y productos terminados y distribución de estos productos terminados a lo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3 grandes áre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Suministro: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cómo, dónde y cuándo se consiguen y suministran las materias primas para fabricación (Red prov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Fabricación: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convierte estas materias primas en productos terminados (Demanda, Proceso productivo, Inventarios, cali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Distribución: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asegura de que dichos productos finales llegan al consumidor (distribuidores, local venta, trasporte, clie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Objetivos: reducir costos en la cadena de suministro, mejorar los niveles de servicio, entre los distintos participantes de la cad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404640"/>
            <a:ext cx="8715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Gestión Cadena de Suminist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2000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324000" y="306864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006699"/>
                </a:solidFill>
                <a:latin typeface="Trebuchet MS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95280" y="33336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Proceso produ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395280" y="1341360"/>
            <a:ext cx="82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selección del proceso productivo se relaciona fuertemente con el diseño de producto, los volúmenes de producción y las tecnologías utiliz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Según tipo de clientes podemos ver dos maneras de operar: a pedido o para inventa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Tahoma"/>
              </a:rPr>
              <a:t>Proponemos que Trabajar es: “Construir un Juicio de Satisfacción en una red de 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Tahoma"/>
              </a:rPr>
              <a:t>Clientes</a:t>
            </a:r>
            <a:r>
              <a:rPr b="0" lang="es-ES_tradnl" sz="3200" spc="-1" strike="noStrike">
                <a:solidFill>
                  <a:srgbClr val="336699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407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95280" y="40464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Proceso según cl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24000" y="1268280"/>
            <a:ext cx="8245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RODUCTOS A PED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l producto es elaborado de acuerdo a las especificaciones del cliente (fecha, tipo, etc.), tiene una alta variabilidad y un alto cos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Medida de eficiencia: Costos, cumplimiento de plazos, cumplimiento de especific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os principales problemas en la operación son las promesas de entrega y los tiempos de entreg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j: Restaurant, Sastre, Imprenta, Fundas para muebl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324000" y="33336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Proceso según cl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95280" y="1268280"/>
            <a:ext cx="8245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RODUCTOS PARA INVENT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laborado para venta por stock contra dema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l producto es especificado por el productor, tiene baja variedad y es poco costo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Medida de eficiencia: Servicio (ventas no cumplidas), cos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rincipales problemas en las operaciones: pronósticos de demanda, planeación y control de inventario y 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j: Autos, Ropa en tiendas, comida rápida, tienda de artesanía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24000" y="40464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324000" y="1268280"/>
            <a:ext cx="824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PUEDE SER CONVEN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Combinar pedidos 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Posponer el ensamble del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lmacenar inventario de producto gené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900000" y="2997360"/>
          <a:ext cx="7020000" cy="2808000"/>
        </p:xfrm>
        <a:graphic>
          <a:graphicData uri="http://schemas.openxmlformats.org/drawingml/2006/table">
            <a:tbl>
              <a:tblPr/>
              <a:tblGrid>
                <a:gridCol w="1871640"/>
                <a:gridCol w="2698920"/>
                <a:gridCol w="24494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aracterísti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abricación por invent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Fabricación por pedid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Especificado por el produ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aja variabil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co costo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Especificado por el clie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lta variabil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osto al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bjetiv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alancear inventari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Capacidad /servic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Administrar tiempos de entrega y capac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incipales problemas en operacion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onósticos deman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laneación y control de inventarios y produc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romesas de entreg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Tiempos de entreg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4000" y="306864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006699"/>
                </a:solidFill>
                <a:latin typeface="Trebuchet MS"/>
              </a:rPr>
              <a:t>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95280" y="40464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Dema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395280" y="1268280"/>
            <a:ext cx="8137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2 métod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Cualitativos: aquellos que dependen de los juicios. Se posee poca información, existe alta incertidumbre, horizonte mediano y largo plazo. Ej: productos nuev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Grupos de expertos (introducción nuevos productos, alto cos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Encuestas de mercado (buenos a corto plazo, alto cos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Analogía ciclos de vida (fase de vida del producto: Introducción, crecimiento, maduración o saturación. Son para ver demanda a largo plaz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Juicio bien informado (experiencia e intuición. Tiene un gran uso, es de bajo costo, pero posee poca exactitu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395280" y="40464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Dema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95280" y="1413000"/>
            <a:ext cx="82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Cuantitativos: aquellos que poseen un mode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Series de tiemp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Utilizan datos históricos y los proyectan a futu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s necesario contar con datos inter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Son de corto plazo y no captan patrones de camb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Compon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stacionalidad (Helados, Empanadas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Tendencia (Aut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501480" y="3068640"/>
            <a:ext cx="82472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006699"/>
                </a:solidFill>
                <a:latin typeface="Trebuchet MS"/>
              </a:rPr>
              <a:t>Decisiones sobre Insta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24000" y="40464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Instal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s decisiones sobre instalaciones son a largo plazo. Pueden ser a nivel táctico, pero generalmente son a nivel estratég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Preguntas importantes: Cuanta capacidad se necesita?, donde localizarl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Factores a consider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</a:rPr>
              <a:t>Estrategia general de la empresa (costos o diferenci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</a:rPr>
              <a:t>C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</a:rPr>
              <a:t>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Localización de comercio competitivo (Tiendas, restaurant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</a:rPr>
              <a:t>Atracción v/s competencia (Parque Arauco, Barrio Bellavista, Suecia, Muebles Arturo Prat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</a:rPr>
              <a:t>Cuantos clientes pasan por mi puerta?, cuantos puedo atra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501480" y="306864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006699"/>
                </a:solidFill>
                <a:latin typeface="Trebuchet MS"/>
              </a:rPr>
              <a:t>Invent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324000" y="40464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Invent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324000" y="1268280"/>
            <a:ext cx="8351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Se considera inventario a las cantidades almacenadas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oductos en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oductos termi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Re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Motivos para llevar inventar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otección contra la incertidumbre (oferta, demanda, tiempo fabricación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conomías de esca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ambios en la demanda (oferta estac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ermite flexibilidad al momento de programar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</a:rPr>
              <a:t>CICLO DEL TRABAJO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El </a:t>
            </a:r>
            <a:r>
              <a:rPr b="1" i="1" lang="en-US" sz="3200" spc="-1" strike="noStrike">
                <a:solidFill>
                  <a:srgbClr val="336699"/>
                </a:solidFill>
                <a:latin typeface="Tahoma"/>
              </a:rPr>
              <a:t>Ciclo del Trabajo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 es una herramienta de suma utilidad para la coordinación entre las distintas actividades realizadas desde la oferta (pedido) hasta la entrega de un producto.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24000" y="40464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Invent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250920" y="126828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s principales decisiones de la administración de inventario s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Que artículos mantener en inventa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uanto ordenar?, cuando orden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ómo los voy a administr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Estructura de costo de inventar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sto del arti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sto de poner ordenes de compra y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sto inventario: Capital, Costo de almacenamiento, Seguros, perdidas, obsolescenc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sto inexistencia: ventas perdidas, ventas 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179280" y="40464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Invent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324000" y="1341360"/>
            <a:ext cx="8135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Como llevar el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istema de revisión continua (se conoce a cada momento el inventario, de decide cuando orden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rebuchet MS"/>
              </a:rPr>
              <a:t>Sistema de revisión periódica (se conoce el inventario periódicamente al revisar. Ej.: pedidos semanales). Se debe cubrir la demanda entre cuando revise y cuando hice el pe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501480" y="306864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006699"/>
                </a:solidFill>
                <a:latin typeface="Trebuchet MS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95280" y="40464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Control de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395280" y="141300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calidad se ha definido como adecuación al uso, es decir, a la manera que el producto o servicio satisface las necesidades del usu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Dimensiones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Calidad de diseño (como le gusta a la g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Calidad de conformancia (tecnología del producto o servi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Calidad de la disponibilidad y confiabilidad (cuanto se puede usar el producto antes que fa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Servicio al cliente (puntualidad, competencia, integridad</a:t>
            </a:r>
            <a:r>
              <a:rPr b="0" lang="es-CL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24000" y="40464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Ciclo de calidad - pa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324000" y="1341360"/>
            <a:ext cx="85341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Definir los atributos de calidad (Ej. auto: velocidad, duración, suavidad, elega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Decidir de que manera medir cada atributo (Ej. Velocidad: segundos en llegar a los 100 km/ho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stablecer estándares de calidad (velocidad: 7 se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Diseñar un programa de inspección (muestreo, revisión de produc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ncontrar y corregir causas de baja calidad (materia prima, diseño, operacion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ntinuar haciendo mej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24000" y="40464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Ciclo de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Recomendacion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Identificar partes críticas donde se necesita inspec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Materias primas (proveed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oductos en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Productos termi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Identificar la cantidad a inspeccionar (todos o un muestre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Identificar quien hace la inspección (trabajadores, clientes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428760" y="2781360"/>
            <a:ext cx="8715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006699"/>
                </a:solidFill>
                <a:latin typeface="Trebuchet MS"/>
              </a:rPr>
              <a:t>Calidad de servi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95280" y="476280"/>
            <a:ext cx="82472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Servicios v/s Bie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1413000"/>
            <a:ext cx="381636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1341360"/>
            <a:ext cx="38880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Manufa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2276640"/>
            <a:ext cx="3960720" cy="32774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Clientes es parte integral del proceso de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El servicio es intan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El servicio no puede revend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El servicio no puede almacen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La producción y el consumo deben ocurrir en el mismo lu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Se necesita un contacto directo con 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3280" y="2205000"/>
            <a:ext cx="4032360" cy="355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El cliente no puede intervenir en el proceso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El producto es tang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Puede revend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El producto puede almacenarse (demostración del produc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La producción y el consumo pueden separ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  <a:ea typeface="SimSun"/>
              </a:rPr>
              <a:t>Es posible un contacto indirecto con 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24000" y="404640"/>
            <a:ext cx="8175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Calidad de serv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250920" y="134136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componente intangible predomina, lo que permite gestionar las percep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La idea es entregar un producto que supere lo que espera el cl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rebuchet MS"/>
              </a:rPr>
              <a:t>Hay que cuidar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tiempos de esp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interacciones pers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Calidad (brecha entre expectativas y percep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395280" y="404640"/>
            <a:ext cx="81756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6699"/>
                </a:solidFill>
                <a:latin typeface="Trebuchet MS"/>
              </a:rPr>
              <a:t>Gestionar tiempos de esp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34920" y="1413000"/>
            <a:ext cx="88581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Los principios de la espe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Tiempo desocupado parece más largo que el ocupado (revistas, televisores, radio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Tiempo pre proceso parece más largo que tiempo en proceso (fichas medicas, atención por 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Ansiedad aumenta la duración de los tiempos de espera (música suave, ilumin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Espera de duración incierta parece más larga que espera con certeza  (informar tiempo de espe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Esperas injustas parecen más largas que esperas justas (fi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Mientras más se valora el servicio, menores parecen las esperas (medico v/s hela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rebuchet MS"/>
              </a:rPr>
              <a:t>Esperas solitarias parecen más largas que en gru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838080"/>
            <a:ext cx="0" cy="45720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5867280"/>
            <a:ext cx="0" cy="45720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049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clo Básico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835200"/>
            <a:ext cx="7924680" cy="5473440"/>
            <a:chOff x="685800" y="835200"/>
            <a:chExt cx="7924680" cy="5473440"/>
          </a:xfrm>
        </p:grpSpPr>
        <p:sp>
          <p:nvSpPr>
            <p:cNvPr id="48" name=""/>
            <p:cNvSpPr/>
            <p:nvPr/>
          </p:nvSpPr>
          <p:spPr>
            <a:xfrm>
              <a:off x="7772400" y="3505320"/>
              <a:ext cx="83808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85800" y="835200"/>
              <a:ext cx="7924680" cy="5473440"/>
              <a:chOff x="685800" y="835200"/>
              <a:chExt cx="7924680" cy="5473440"/>
            </a:xfrm>
          </p:grpSpPr>
          <p:sp>
            <p:nvSpPr>
              <p:cNvPr id="50" name=""/>
              <p:cNvSpPr/>
              <p:nvPr/>
            </p:nvSpPr>
            <p:spPr>
              <a:xfrm>
                <a:off x="3581280" y="2975040"/>
                <a:ext cx="21337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3333cc"/>
                    </a:solidFill>
                    <a:latin typeface="Arial Narrow"/>
                  </a:rPr>
                  <a:t>Preocupación a Cuida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685800" y="835200"/>
                <a:ext cx="7924680" cy="5473440"/>
                <a:chOff x="685800" y="835200"/>
                <a:chExt cx="7924680" cy="54734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048120" y="1889280"/>
                  <a:ext cx="2894760" cy="2742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962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96231"/>
                    </a:path>
                  </a:pathLst>
                </a:custGeom>
                <a:noFill/>
                <a:ln cap="rnd" w="76320">
                  <a:solidFill>
                    <a:srgbClr val="339966"/>
                  </a:solidFill>
                  <a:miter/>
                  <a:headEnd len="med" type="oval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353040" y="1890720"/>
                  <a:ext cx="2895120" cy="274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88" y="0"/>
                      </a:moveTo>
                      <a:arcTo wR="10800" hR="10800" stAng="-5403769" swAng="55929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88" y="0"/>
                      </a:moveTo>
                      <a:arcTo wR="10800" hR="10800" stAng="-5403769" swAng="5592967"/>
                    </a:path>
                  </a:pathLst>
                </a:custGeom>
                <a:noFill/>
                <a:ln cap="rnd" w="76320">
                  <a:solidFill>
                    <a:srgbClr val="339966"/>
                  </a:solidFill>
                  <a:miter/>
                  <a:headEnd len="med" type="oval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353760" y="2041920"/>
                  <a:ext cx="2895840" cy="289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28" y="12041"/>
                      </a:moveTo>
                      <a:arcTo wR="10800" hR="10800" stAng="395909" swAng="51885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28" y="12041"/>
                      </a:moveTo>
                      <a:arcTo wR="10800" hR="10800" stAng="395909" swAng="5188533"/>
                    </a:path>
                  </a:pathLst>
                </a:custGeom>
                <a:noFill/>
                <a:ln cap="rnd" w="76320">
                  <a:solidFill>
                    <a:srgbClr val="339966"/>
                  </a:solidFill>
                  <a:miter/>
                  <a:headEnd len="med" type="oval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051000" y="2042280"/>
                  <a:ext cx="2895480" cy="289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394" y="21508"/>
                      </a:moveTo>
                      <a:arcTo wR="10800" hR="10800" stAng="5848685" swAng="49513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394" y="21508"/>
                      </a:moveTo>
                      <a:arcTo wR="10800" hR="10800" stAng="5848685" swAng="4951315"/>
                    </a:path>
                  </a:pathLst>
                </a:custGeom>
                <a:noFill/>
                <a:ln cap="rnd" w="76320">
                  <a:solidFill>
                    <a:srgbClr val="339966"/>
                  </a:solidFill>
                  <a:miter/>
                  <a:headEnd len="med" type="oval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981080" y="3260880"/>
                  <a:ext cx="1067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Clien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400800" y="3260880"/>
                  <a:ext cx="14479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Realizad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733920" y="1432080"/>
                  <a:ext cx="1904760" cy="35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3333cc"/>
                      </a:solidFill>
                      <a:latin typeface="Arial"/>
                    </a:rPr>
                    <a:t>Pedido / Oferta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733920" y="5089680"/>
                  <a:ext cx="1904760" cy="61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3333cc"/>
                      </a:solidFill>
                      <a:latin typeface="Arial"/>
                    </a:rPr>
                    <a:t>Declaración de Cumplimiento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98400" y="835200"/>
                  <a:ext cx="7912080" cy="5473440"/>
                </a:xfrm>
                <a:prstGeom prst="rect">
                  <a:avLst/>
                </a:prstGeom>
                <a:noFill/>
                <a:ln w="255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5800" y="3489480"/>
                  <a:ext cx="1143000" cy="0"/>
                </a:xfrm>
                <a:prstGeom prst="line">
                  <a:avLst/>
                </a:prstGeom>
                <a:ln w="255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38080" y="974880"/>
                  <a:ext cx="1600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Prepar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934320" y="959040"/>
                  <a:ext cx="1600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Negoci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010280" y="5851440"/>
                  <a:ext cx="13716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Realiz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8080" y="5851440"/>
                  <a:ext cx="13716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Evalu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238880" y="2803680"/>
                  <a:ext cx="1371600" cy="61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3333cc"/>
                      </a:solidFill>
                      <a:latin typeface="Arial"/>
                    </a:rPr>
                    <a:t>Promesas Mutuas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6477120" y="2955960"/>
                  <a:ext cx="761760" cy="30492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895480" y="3470400"/>
                  <a:ext cx="304920" cy="0"/>
                </a:xfrm>
                <a:prstGeom prst="line">
                  <a:avLst/>
                </a:prstGeom>
                <a:ln w="88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095880" y="3470400"/>
                  <a:ext cx="304920" cy="0"/>
                </a:xfrm>
                <a:prstGeom prst="line">
                  <a:avLst/>
                </a:prstGeom>
                <a:ln w="88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4572000" y="1736280"/>
                  <a:ext cx="0" cy="304920"/>
                </a:xfrm>
                <a:prstGeom prst="line">
                  <a:avLst/>
                </a:prstGeom>
                <a:ln w="88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4572000" y="4861080"/>
                  <a:ext cx="0" cy="304560"/>
                </a:xfrm>
                <a:prstGeom prst="line">
                  <a:avLst/>
                </a:prstGeom>
                <a:ln w="889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90720" y="3946680"/>
                  <a:ext cx="1752480" cy="61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700" spc="-1" strike="noStrike">
                      <a:solidFill>
                        <a:srgbClr val="3333cc"/>
                      </a:solidFill>
                      <a:latin typeface="Arial"/>
                    </a:rPr>
                    <a:t>Declaración de Satisfacción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V="1">
                  <a:off x="2208960" y="3565080"/>
                  <a:ext cx="762120" cy="30492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81080" y="327672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276720"/>
            <a:ext cx="144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447920"/>
            <a:ext cx="1524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Ofer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8400" y="851040"/>
            <a:ext cx="7912080" cy="54734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505320"/>
            <a:ext cx="11430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3505320"/>
            <a:ext cx="9144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838080"/>
            <a:ext cx="0" cy="45720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5943600"/>
            <a:ext cx="0" cy="38088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9907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9748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g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586728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86728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819520"/>
            <a:ext cx="1371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romesas Mutu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7120" y="2971800"/>
            <a:ext cx="761760" cy="304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049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clo Básico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 Narrow"/>
              </a:rPr>
              <a:t>Preocupación a Cui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43828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vestigación de Preocup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6765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nticipación de Quie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106668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Áreas de Oport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819520"/>
            <a:ext cx="761760" cy="75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205740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600200"/>
            <a:ext cx="15264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105520"/>
            <a:ext cx="19047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Declaración de Cumplimi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3962520"/>
            <a:ext cx="175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3333cc"/>
                </a:solidFill>
                <a:latin typeface="Arial"/>
              </a:rPr>
              <a:t>Declaración de Satisfac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08960" y="3580920"/>
            <a:ext cx="762120" cy="304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95480" y="1752120"/>
            <a:ext cx="3505320" cy="3429360"/>
            <a:chOff x="2895480" y="1752120"/>
            <a:chExt cx="3505320" cy="3429360"/>
          </a:xfrm>
        </p:grpSpPr>
        <p:sp>
          <p:nvSpPr>
            <p:cNvPr id="100" name=""/>
            <p:cNvSpPr/>
            <p:nvPr/>
          </p:nvSpPr>
          <p:spPr>
            <a:xfrm>
              <a:off x="3048120" y="1905120"/>
              <a:ext cx="289476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23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231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53040" y="1906560"/>
              <a:ext cx="2895120" cy="274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769" swAng="55929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769" swAng="5592967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3760" y="2057760"/>
              <a:ext cx="289584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1"/>
                  </a:moveTo>
                  <a:arcTo wR="10800" hR="10800" stAng="395909" swAng="51885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1"/>
                  </a:moveTo>
                  <a:arcTo wR="10800" hR="10800" stAng="395909" swAng="5188533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51000" y="2058120"/>
              <a:ext cx="2895480" cy="289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94" y="21508"/>
                  </a:moveTo>
                  <a:arcTo wR="10800" hR="10800" stAng="5848685" swAng="4951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94" y="21508"/>
                  </a:moveTo>
                  <a:arcTo wR="10800" hR="10800" stAng="5848685" swAng="4951315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3486240"/>
              <a:ext cx="30492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5880" y="3486240"/>
              <a:ext cx="30492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572000" y="1752120"/>
              <a:ext cx="0" cy="30492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572000" y="4876920"/>
              <a:ext cx="0" cy="30456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34120" y="304920"/>
            <a:ext cx="335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Realización de una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81080" y="327672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144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8400" y="851040"/>
            <a:ext cx="7912080" cy="54734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11430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505320"/>
            <a:ext cx="9144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838080"/>
            <a:ext cx="0" cy="45720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943600"/>
            <a:ext cx="0" cy="38088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9907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9748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g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586728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586728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2819520"/>
            <a:ext cx="1371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romesas Mutu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477120" y="2971800"/>
            <a:ext cx="761760" cy="304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049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clo Básico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 Narrow"/>
              </a:rPr>
              <a:t>Preocupación a Cui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1295280"/>
            <a:ext cx="182880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Contra ofrec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Prometo Prome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Declin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Negoci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Prome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343400"/>
            <a:ext cx="2209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Lidiar con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quieb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Cambiar condicion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Cancelar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 /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Revoc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495680"/>
            <a:ext cx="1828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Evaluar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Re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clam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Disculpar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30492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 Narrow"/>
              </a:rPr>
              <a:t>Destrezas asoci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447920"/>
            <a:ext cx="1904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edido / Ofer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105520"/>
            <a:ext cx="19047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Declaración de Cumplimi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962520"/>
            <a:ext cx="175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3333cc"/>
                </a:solidFill>
                <a:latin typeface="Arial"/>
              </a:rPr>
              <a:t>Declaración de Satisfac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208960" y="3580920"/>
            <a:ext cx="762120" cy="2667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895480" y="1752120"/>
            <a:ext cx="3505320" cy="3429360"/>
            <a:chOff x="2895480" y="1752120"/>
            <a:chExt cx="3505320" cy="3429360"/>
          </a:xfrm>
        </p:grpSpPr>
        <p:sp>
          <p:nvSpPr>
            <p:cNvPr id="133" name=""/>
            <p:cNvSpPr/>
            <p:nvPr/>
          </p:nvSpPr>
          <p:spPr>
            <a:xfrm>
              <a:off x="3048120" y="1905120"/>
              <a:ext cx="289476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23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231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3040" y="1906560"/>
              <a:ext cx="2895120" cy="274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769" swAng="55929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769" swAng="5592967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3760" y="2057760"/>
              <a:ext cx="2895840" cy="28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1"/>
                  </a:moveTo>
                  <a:arcTo wR="10800" hR="10800" stAng="395909" swAng="51885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1"/>
                  </a:moveTo>
                  <a:arcTo wR="10800" hR="10800" stAng="395909" swAng="5188533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51000" y="2058120"/>
              <a:ext cx="2895480" cy="289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94" y="21508"/>
                  </a:moveTo>
                  <a:arcTo wR="10800" hR="10800" stAng="5848685" swAng="4951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94" y="21508"/>
                  </a:moveTo>
                  <a:arcTo wR="10800" hR="10800" stAng="5848685" swAng="4951315"/>
                </a:path>
              </a:pathLst>
            </a:custGeom>
            <a:noFill/>
            <a:ln cap="rnd" w="76320">
              <a:solidFill>
                <a:srgbClr val="339966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95480" y="3486240"/>
              <a:ext cx="30492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5880" y="3486240"/>
              <a:ext cx="304920" cy="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72000" y="1752120"/>
              <a:ext cx="0" cy="30492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572000" y="4876920"/>
              <a:ext cx="0" cy="30456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4360" y="1484280"/>
            <a:ext cx="1066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Arial Narrow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*Quie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*Neces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3333ff"/>
                </a:solidFill>
                <a:latin typeface="Arial Narrow"/>
              </a:rPr>
              <a:t>Ped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484280"/>
            <a:ext cx="21333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50021"/>
                </a:solidFill>
                <a:uFillTx/>
                <a:latin typeface="Arial Narrow"/>
              </a:rPr>
              <a:t>Real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*Escuchar y Comunicar Habilidades Cent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*IQPO’s de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Wingdings"/>
                <a:ea typeface="Wingdings"/>
              </a:rPr>
              <a:t></a:t>
            </a:r>
            <a:r>
              <a:rPr b="0" lang="en-US" sz="1400" spc="-1" strike="noStrike">
                <a:solidFill>
                  <a:srgbClr val="3333ff"/>
                </a:solidFill>
                <a:latin typeface="Arial Narrow"/>
              </a:rPr>
              <a:t>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8120" y="1905120"/>
            <a:ext cx="28947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27672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3276720"/>
            <a:ext cx="144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8400" y="851040"/>
            <a:ext cx="7912080" cy="54734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505320"/>
            <a:ext cx="11430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3505320"/>
            <a:ext cx="9144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838080"/>
            <a:ext cx="0" cy="45720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943600"/>
            <a:ext cx="0" cy="38088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9907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9748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g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586728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586728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2819520"/>
            <a:ext cx="1371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romesas Mutu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477120" y="2971800"/>
            <a:ext cx="761760" cy="304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049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clo Básico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 Narrow"/>
              </a:rPr>
              <a:t>Preocupación a Cui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1676520"/>
            <a:ext cx="1828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Asomb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Ambi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Sereni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1557360"/>
            <a:ext cx="1828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Confianz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Resol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Seguri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4343400"/>
            <a:ext cx="2209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Seguri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Resol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Confianz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Colabor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4495680"/>
            <a:ext cx="18288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Acept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n-US" sz="1700" spc="-1" strike="noStrike">
                <a:solidFill>
                  <a:srgbClr val="800000"/>
                </a:solidFill>
                <a:latin typeface="Arial Narrow"/>
              </a:rPr>
              <a:t>Sereni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228600"/>
            <a:ext cx="38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 Narrow"/>
              </a:rPr>
              <a:t>Estados de ánimo / Emo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1447920"/>
            <a:ext cx="1904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edido / Ofer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5105520"/>
            <a:ext cx="19047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Declaración de Cumplimi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3886200"/>
            <a:ext cx="175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3333cc"/>
                </a:solidFill>
                <a:latin typeface="Arial"/>
              </a:rPr>
              <a:t>Declaración de Satisfac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08960" y="3580920"/>
            <a:ext cx="762120" cy="304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3040" y="1906560"/>
            <a:ext cx="2895120" cy="274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69" swAng="5592967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69" swAng="5592967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3760" y="2057760"/>
            <a:ext cx="2895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1"/>
                </a:moveTo>
                <a:arcTo wR="10800" hR="10800" stAng="395909" swAng="5188533"/>
                <a:lnTo>
                  <a:pt x="10800" y="10800"/>
                </a:lnTo>
                <a:close/>
              </a:path>
              <a:path fill="none" w="21600" h="21600">
                <a:moveTo>
                  <a:pt x="21528" y="12041"/>
                </a:moveTo>
                <a:arcTo wR="10800" hR="10800" stAng="395909" swAng="5188533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1000" y="2058120"/>
            <a:ext cx="2895480" cy="289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94" y="21508"/>
                </a:moveTo>
                <a:arcTo wR="10800" hR="10800" stAng="5848685" swAng="4951315"/>
                <a:lnTo>
                  <a:pt x="10800" y="10800"/>
                </a:lnTo>
                <a:close/>
              </a:path>
              <a:path fill="none" w="21600" h="21600">
                <a:moveTo>
                  <a:pt x="9394" y="21508"/>
                </a:moveTo>
                <a:arcTo wR="10800" hR="10800" stAng="5848685" swAng="4951315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3486240"/>
            <a:ext cx="304920" cy="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3486240"/>
            <a:ext cx="304920" cy="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572000" y="1752120"/>
            <a:ext cx="0" cy="30492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572000" y="4876920"/>
            <a:ext cx="0" cy="3045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8120" y="1905120"/>
            <a:ext cx="28947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27672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3276720"/>
            <a:ext cx="144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400" y="851040"/>
            <a:ext cx="7912080" cy="547344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505320"/>
            <a:ext cx="11430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3505320"/>
            <a:ext cx="9144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838080"/>
            <a:ext cx="0" cy="45720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5943600"/>
            <a:ext cx="0" cy="38088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99072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97488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g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586728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86728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2819520"/>
            <a:ext cx="1371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romesas Mutu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477120" y="2971800"/>
            <a:ext cx="761760" cy="304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049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clo Básico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 Narrow"/>
              </a:rPr>
              <a:t>Preocupación a Cui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1676520"/>
            <a:ext cx="1828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Abrir o cerrar posibilida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Futur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1295280"/>
            <a:ext cx="1828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6840" indent="-96840"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Claridad e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n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la negoci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63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Evocar</a:t>
            </a: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confianz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4343400"/>
            <a:ext cx="22096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Impecabili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Productivi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4495680"/>
            <a:ext cx="1828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Cali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0" lang="es-MX" sz="1700" spc="-1" strike="noStrike">
                <a:solidFill>
                  <a:srgbClr val="800000"/>
                </a:solidFill>
                <a:latin typeface="Arial Narrow"/>
              </a:rPr>
              <a:t>Relación futura con el cli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22860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 Narrow"/>
              </a:rPr>
              <a:t>Preocupaciones a cui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1447920"/>
            <a:ext cx="1904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Pedido / Ofer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5105520"/>
            <a:ext cx="19047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Declaración de Cumplimien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962520"/>
            <a:ext cx="17524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3333cc"/>
                </a:solidFill>
                <a:latin typeface="Arial"/>
              </a:rPr>
              <a:t>Declaración de Satisfac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208960" y="3580920"/>
            <a:ext cx="762120" cy="30492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3040" y="1906560"/>
            <a:ext cx="2895120" cy="274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69" swAng="5592967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69" swAng="5592967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3760" y="2057760"/>
            <a:ext cx="2895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1"/>
                </a:moveTo>
                <a:arcTo wR="10800" hR="10800" stAng="395909" swAng="5188533"/>
                <a:lnTo>
                  <a:pt x="10800" y="10800"/>
                </a:lnTo>
                <a:close/>
              </a:path>
              <a:path fill="none" w="21600" h="21600">
                <a:moveTo>
                  <a:pt x="21528" y="12041"/>
                </a:moveTo>
                <a:arcTo wR="10800" hR="10800" stAng="395909" swAng="5188533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1000" y="2058120"/>
            <a:ext cx="2895480" cy="289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94" y="21508"/>
                </a:moveTo>
                <a:arcTo wR="10800" hR="10800" stAng="5848685" swAng="4951315"/>
                <a:lnTo>
                  <a:pt x="10800" y="10800"/>
                </a:lnTo>
                <a:close/>
              </a:path>
              <a:path fill="none" w="21600" h="21600">
                <a:moveTo>
                  <a:pt x="9394" y="21508"/>
                </a:moveTo>
                <a:arcTo wR="10800" hR="10800" stAng="5848685" swAng="4951315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486240"/>
            <a:ext cx="304920" cy="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3486240"/>
            <a:ext cx="304920" cy="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572000" y="1752120"/>
            <a:ext cx="0" cy="30492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72000" y="4876920"/>
            <a:ext cx="0" cy="3045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304920"/>
            <a:ext cx="32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clo Básico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9800" y="2484360"/>
            <a:ext cx="1783800" cy="167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sm" type="oval" w="sm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95920" y="2486160"/>
            <a:ext cx="1785240" cy="167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69" swAng="5592967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69" swAng="5592967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sm" type="oval" w="sm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96280" y="2580120"/>
            <a:ext cx="1785960" cy="176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1"/>
                </a:moveTo>
                <a:arcTo wR="10800" hR="10800" stAng="395909" swAng="5188533"/>
                <a:lnTo>
                  <a:pt x="10800" y="10800"/>
                </a:lnTo>
                <a:close/>
              </a:path>
              <a:path fill="none" w="21600" h="21600">
                <a:moveTo>
                  <a:pt x="21528" y="12041"/>
                </a:moveTo>
                <a:arcTo wR="10800" hR="10800" stAng="395909" swAng="5188533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sm" type="oval" w="sm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13040" y="2580840"/>
            <a:ext cx="1780920" cy="176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94" y="21508"/>
                </a:moveTo>
                <a:arcTo wR="10800" hR="10800" stAng="5848685" swAng="4951315"/>
                <a:lnTo>
                  <a:pt x="10800" y="10800"/>
                </a:lnTo>
                <a:close/>
              </a:path>
              <a:path fill="none" w="21600" h="21600">
                <a:moveTo>
                  <a:pt x="9394" y="21508"/>
                </a:moveTo>
                <a:arcTo wR="10800" hR="10800" stAng="5848685" swAng="4951315"/>
              </a:path>
            </a:pathLst>
          </a:custGeom>
          <a:noFill/>
          <a:ln cap="rnd" w="76320">
            <a:solidFill>
              <a:srgbClr val="339966"/>
            </a:solidFill>
            <a:miter/>
            <a:headEnd len="sm" type="oval" w="sm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8640" y="3267000"/>
            <a:ext cx="1404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Clien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51440" y="3297240"/>
            <a:ext cx="1130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Realizad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04920" y="2116080"/>
            <a:ext cx="155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edido / Of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28960" y="4437000"/>
            <a:ext cx="1628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5120" y="1841400"/>
            <a:ext cx="4869000" cy="334008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462480"/>
            <a:ext cx="369720" cy="144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487680"/>
            <a:ext cx="2286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49400" y="1833480"/>
            <a:ext cx="0" cy="27936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49400" y="4902120"/>
            <a:ext cx="0" cy="27936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00" y="1927080"/>
            <a:ext cx="1278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Prepar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1887480"/>
            <a:ext cx="1278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Negoci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4782960"/>
            <a:ext cx="1447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Realiz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0800" y="4782960"/>
            <a:ext cx="1506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Evalu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2725560"/>
            <a:ext cx="1148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romesas Mut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962520" y="3106800"/>
            <a:ext cx="241200" cy="22860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38480" y="3182760"/>
            <a:ext cx="131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3333cc"/>
                </a:solidFill>
                <a:latin typeface="Arial Narrow"/>
              </a:rPr>
              <a:t>Preocupación a Cuid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16200" y="3449520"/>
            <a:ext cx="188640" cy="1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86120" y="3449520"/>
            <a:ext cx="189000" cy="18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849400" y="2392200"/>
            <a:ext cx="0" cy="18576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849400" y="4298760"/>
            <a:ext cx="0" cy="1854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2960" y="3716280"/>
            <a:ext cx="126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394640" y="3508200"/>
            <a:ext cx="468360" cy="1857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22860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 Narrow"/>
              </a:rPr>
              <a:t>Desperd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95920" y="1565280"/>
            <a:ext cx="306720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0000"/>
                </a:solidFill>
                <a:latin typeface="Arial"/>
              </a:rPr>
              <a:t>Problemas típic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Arial"/>
              </a:rPr>
              <a:t>Realización desintonizada de las preocupaciones de los clie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0000"/>
                </a:solidFill>
                <a:latin typeface="Arial"/>
              </a:rPr>
              <a:t>Sobrecarga o trabajo extra del realizad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20:34:10Z</dcterms:created>
  <dc:creator>KMT Consultores</dc:creator>
  <dc:description/>
  <dc:language>en-US</dc:language>
  <cp:lastModifiedBy>NeoAula</cp:lastModifiedBy>
  <dcterms:modified xsi:type="dcterms:W3CDTF">2009-10-19T16:56:28Z</dcterms:modified>
  <cp:revision>125</cp:revision>
  <dc:subject/>
  <dc:title>Presentación de PowerPoint</dc:title>
</cp:coreProperties>
</file>