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6FF-3374-4A12-A270-91BE20FC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EF1-4C20-4F8D-B32F-671C3B6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4DF-95A9-44AB-8CD2-0DF9E75C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8FA-5146-4439-AD38-1B648EB5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A01-E68F-49DE-90A8-40880D7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8B7-A598-4125-A366-ED9D259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EDE-64B6-4D17-A15A-EC94DF41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BA0-868C-446C-8288-164238D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ADF-2122-4CD1-A06F-CFDC7134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4C1-58C6-4A07-A791-99F50879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F2B-2444-417A-836A-DDE1EEA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864-EBF3-4208-B876-C1DD749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2D1-73C6-4D3E-9A54-F9DB57EB2D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2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6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83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93372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889440"/>
            <a:ext cx="4572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97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0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3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4360" y="1413000"/>
          <a:ext cx="8002440" cy="38703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4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5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8"/>
          <p:cNvGrpSpPr/>
          <p:nvPr/>
        </p:nvGrpSpPr>
        <p:grpSpPr>
          <a:xfrm>
            <a:off x="324000" y="1773360"/>
            <a:ext cx="9072360" cy="3740040"/>
            <a:chOff x="324000" y="1773360"/>
            <a:chExt cx="9072360" cy="3740040"/>
          </a:xfrm>
        </p:grpSpPr>
        <p:grpSp>
          <p:nvGrpSpPr>
            <p:cNvPr id="256" name="Group 39"/>
            <p:cNvGrpSpPr/>
            <p:nvPr/>
          </p:nvGrpSpPr>
          <p:grpSpPr>
            <a:xfrm>
              <a:off x="324000" y="1773360"/>
              <a:ext cx="7200360" cy="3450960"/>
              <a:chOff x="324000" y="1773360"/>
              <a:chExt cx="7200360" cy="3450960"/>
            </a:xfrm>
          </p:grpSpPr>
          <p:grpSp>
            <p:nvGrpSpPr>
              <p:cNvPr id="257" name="Group 40"/>
              <p:cNvGrpSpPr/>
              <p:nvPr/>
            </p:nvGrpSpPr>
            <p:grpSpPr>
              <a:xfrm>
                <a:off x="1320840" y="1773360"/>
                <a:ext cx="6203520" cy="2232000"/>
                <a:chOff x="1320840" y="1773360"/>
                <a:chExt cx="6203520" cy="2232000"/>
              </a:xfrm>
            </p:grpSpPr>
            <p:sp>
              <p:nvSpPr>
                <p:cNvPr id="258" name="Oval 41"/>
                <p:cNvSpPr/>
                <p:nvPr/>
              </p:nvSpPr>
              <p:spPr>
                <a:xfrm>
                  <a:off x="361980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42"/>
                <p:cNvSpPr/>
                <p:nvPr/>
              </p:nvSpPr>
              <p:spPr>
                <a:xfrm>
                  <a:off x="132084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Line 43"/>
              <p:cNvSpPr/>
              <p:nvPr/>
            </p:nvSpPr>
            <p:spPr>
              <a:xfrm flipH="1">
                <a:off x="133164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32400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45"/>
            <p:cNvSpPr/>
            <p:nvPr/>
          </p:nvSpPr>
          <p:spPr>
            <a:xfrm>
              <a:off x="615636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687564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mayoría de los chilenos encuentra trabajo a través de redes de cont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6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494172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948360" y="47970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3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4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Los chilenos están cada vez más conec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l 69% de los chilenos tiene perfil en alguna red social (Facebook, fotolog, tw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8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2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0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4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10-05T18:31:50Z</dcterms:modified>
  <cp:revision>460</cp:revision>
  <dc:subject/>
  <dc:title>Presentación de PowerPoint</dc:title>
</cp:coreProperties>
</file>