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362-1CAC-4FA2-8245-1D207FDB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701-5236-432E-AE09-9A068DC8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930-D6A5-4F61-95BF-ED278B21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9BB-A953-4536-A3AF-C229118B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AF5-A429-4D44-991D-62FC2632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DA7-9572-4D27-90D0-05C38381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73D-8A92-45F7-BC5A-AC403701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62D-AED9-4E55-9CB9-43E04381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A2C-5254-435E-B37E-6E9E7F91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955-2F2A-4C2A-9ED3-A0736C74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CE1-EA29-45B9-9DDB-54724460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E5E-7F99-4B77-9B2F-2CCCAD5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DB1E-5F9E-48A1-B7DE-79FABC0FED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2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6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51"/>
          <p:cNvSpPr/>
          <p:nvPr/>
        </p:nvSpPr>
        <p:spPr>
          <a:xfrm>
            <a:off x="971640" y="2276640"/>
            <a:ext cx="789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Redes y Capital So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042920" y="452520"/>
            <a:ext cx="7705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COMPONENTES 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5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human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pacidad de las personas para producir valor en coordinación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rela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la capacidad de las organizaciones de producir y mantener las redes de colaboración para de producir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ambient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lidad de los contextos sociales disponibles para que los individuos y organizaciones interactúen en función de la producción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direc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alineamiento de las personas y la organización con un propósito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QUEREMOS LOG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Asoci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Relaciones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Valores de cooperación, reciprocidad, respeto, aceptación, sinceri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N CHILE (PNU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8"/>
          <p:cNvGrpSpPr/>
          <p:nvPr/>
        </p:nvGrpSpPr>
        <p:grpSpPr>
          <a:xfrm>
            <a:off x="7956720" y="5877000"/>
            <a:ext cx="1078920" cy="936360"/>
            <a:chOff x="7956720" y="5877000"/>
            <a:chExt cx="1078920" cy="936360"/>
          </a:xfrm>
        </p:grpSpPr>
        <p:sp>
          <p:nvSpPr>
            <p:cNvPr id="183" name="Rectangle 9"/>
            <p:cNvSpPr/>
            <p:nvPr/>
          </p:nvSpPr>
          <p:spPr>
            <a:xfrm>
              <a:off x="795672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856296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8564400" y="5877000"/>
              <a:ext cx="471240" cy="4010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14% de los chilenos cree que se puede confiar en la mayoría de las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69% de los chilenos cree que una persona se aprovecharía de ellos si tuviera la oport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Índices de Confian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3933720"/>
            <a:ext cx="50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arabineros de Chile (5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Televisión(5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Radio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Banco Central y Iglesia Católica (4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Marina y Fach (4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Ejercito (4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3889440"/>
            <a:ext cx="45720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licía Investigaciones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Diarios  (3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Senado 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der Judicial (1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ámara Diputados (1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artidos Políticos (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N CHILE (CER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8"/>
          <p:cNvGrpSpPr/>
          <p:nvPr/>
        </p:nvGrpSpPr>
        <p:grpSpPr>
          <a:xfrm>
            <a:off x="7956720" y="5877000"/>
            <a:ext cx="1078920" cy="936360"/>
            <a:chOff x="7956720" y="5877000"/>
            <a:chExt cx="1078920" cy="936360"/>
          </a:xfrm>
        </p:grpSpPr>
        <p:sp>
          <p:nvSpPr>
            <p:cNvPr id="197" name="Rectangle 9"/>
            <p:cNvSpPr/>
            <p:nvPr/>
          </p:nvSpPr>
          <p:spPr>
            <a:xfrm>
              <a:off x="795672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856296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8564400" y="5877000"/>
              <a:ext cx="471240" cy="4010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desconfianza entre los chilenos constituye un poderoso obstáculo a la superación del desarrollo econó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os países desarrollados tienen altos índices de confianza interpersonal. El estudio mundial de valores del 2000 muestra que en Chile solo un 22,2% tenia confianza en los demás. En Suecia era el triple (63,7%), Holanda un 59,7% ; Finlandia un 56,2% ; India 38,9%, EE.UU. 35,5% ; Irlanda 35,3%; España 32,7% e Italia 31,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FACTORES C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0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95280" y="134136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ultivar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onfianza vista como acto lingüístico pertenece al mundo de los jui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fecta el espacio de posi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 temporal (por lo tanto se puede construi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pende del observ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Se restringe a determinados ám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uede ser fundada o infundada. (los juicios se fundan en acciones recurrentes del pasado observables por cualquier observa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Sincer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sincero cuando su conversación privada es coherente con la conversación o discurso público y las acciones emprendidas son coherentes con el, discurs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mpetencia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competente cuando tiene la capacidad o destreza para cumplir con los estándares acordados o acep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Responsabil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responsable cuando tiene la capacidad de cumplir el conjunto de compromisos asumidos en los tiempos establ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3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4360" y="1413000"/>
          <a:ext cx="8002440" cy="387036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minios de Observ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 de Ju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nce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e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ince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ompe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r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fund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Sin acciones ni estándares de comparaci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und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con acciones y estándares de comparaci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44"/>
          <p:cNvSpPr/>
          <p:nvPr/>
        </p:nvSpPr>
        <p:spPr>
          <a:xfrm>
            <a:off x="684360" y="1484280"/>
            <a:ext cx="266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3780000" y="3043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ge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0"/>
          <p:cNvSpPr/>
          <p:nvPr/>
        </p:nvSpPr>
        <p:spPr>
          <a:xfrm>
            <a:off x="3780000" y="44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1"/>
          <p:cNvSpPr/>
          <p:nvPr/>
        </p:nvSpPr>
        <p:spPr>
          <a:xfrm>
            <a:off x="6372360" y="306864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2"/>
          <p:cNvSpPr/>
          <p:nvPr/>
        </p:nvSpPr>
        <p:spPr>
          <a:xfrm>
            <a:off x="6372360" y="4437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u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IDENT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4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5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8"/>
          <p:cNvGrpSpPr/>
          <p:nvPr/>
        </p:nvGrpSpPr>
        <p:grpSpPr>
          <a:xfrm>
            <a:off x="324000" y="1773360"/>
            <a:ext cx="9072360" cy="3740040"/>
            <a:chOff x="324000" y="1773360"/>
            <a:chExt cx="9072360" cy="3740040"/>
          </a:xfrm>
        </p:grpSpPr>
        <p:grpSp>
          <p:nvGrpSpPr>
            <p:cNvPr id="256" name="Group 39"/>
            <p:cNvGrpSpPr/>
            <p:nvPr/>
          </p:nvGrpSpPr>
          <p:grpSpPr>
            <a:xfrm>
              <a:off x="324000" y="1773360"/>
              <a:ext cx="7200360" cy="3450960"/>
              <a:chOff x="324000" y="1773360"/>
              <a:chExt cx="7200360" cy="3450960"/>
            </a:xfrm>
          </p:grpSpPr>
          <p:grpSp>
            <p:nvGrpSpPr>
              <p:cNvPr id="257" name="Group 40"/>
              <p:cNvGrpSpPr/>
              <p:nvPr/>
            </p:nvGrpSpPr>
            <p:grpSpPr>
              <a:xfrm>
                <a:off x="1320840" y="1773360"/>
                <a:ext cx="6203520" cy="2232000"/>
                <a:chOff x="1320840" y="1773360"/>
                <a:chExt cx="6203520" cy="2232000"/>
              </a:xfrm>
            </p:grpSpPr>
            <p:sp>
              <p:nvSpPr>
                <p:cNvPr id="258" name="Oval 41"/>
                <p:cNvSpPr/>
                <p:nvPr/>
              </p:nvSpPr>
              <p:spPr>
                <a:xfrm>
                  <a:off x="3619800" y="1773360"/>
                  <a:ext cx="390456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YO          Image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42"/>
                <p:cNvSpPr/>
                <p:nvPr/>
              </p:nvSpPr>
              <p:spPr>
                <a:xfrm>
                  <a:off x="1320840" y="1773360"/>
                  <a:ext cx="390492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Identidad 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Line 43"/>
              <p:cNvSpPr/>
              <p:nvPr/>
            </p:nvSpPr>
            <p:spPr>
              <a:xfrm flipH="1">
                <a:off x="1331640" y="3645000"/>
                <a:ext cx="863640" cy="574560"/>
              </a:xfrm>
              <a:prstGeom prst="line">
                <a:avLst/>
              </a:prstGeom>
              <a:ln w="3816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44"/>
              <p:cNvSpPr/>
              <p:nvPr/>
            </p:nvSpPr>
            <p:spPr>
              <a:xfrm>
                <a:off x="324000" y="4294080"/>
                <a:ext cx="3240000" cy="9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</a:rPr>
                  <a:t>“</a:t>
                </a: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</a:rPr>
                  <a:t>El relato que yo cuento acerca de mi mismo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45"/>
            <p:cNvSpPr/>
            <p:nvPr/>
          </p:nvSpPr>
          <p:spPr>
            <a:xfrm>
              <a:off x="6156360" y="4306680"/>
              <a:ext cx="324000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</a:rPr>
                <a:t>“</a:t>
              </a: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</a:rPr>
                <a:t>El relato que los otros cuentan de mí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6875640" y="3489120"/>
              <a:ext cx="934920" cy="6480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2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6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68360" y="148428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 mayoría de los chilenos encuentra trabajo a través de redes de conta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 eficacia del negocio en general, depende más de actividades de “carácter humano” como la construcción de relaciones, las habilidades interpersonales y la comunicación que de habilidades y capacidades técnicas.” (Networking Intelig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QUÉ SON LAS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6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Son todas las relaciones que un individuo percibe como significativas o diferenciadas de la masa anónima de la socieda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Las personas que componen una RED tienen nombre y apellido, no son instituciones, ni agrup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¿Como identifico mi 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MAPA DE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1547640" y="1690560"/>
            <a:ext cx="571500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2362320" y="2422440"/>
            <a:ext cx="403848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6"/>
          <p:cNvSpPr/>
          <p:nvPr/>
        </p:nvSpPr>
        <p:spPr>
          <a:xfrm>
            <a:off x="3200400" y="3078000"/>
            <a:ext cx="24382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4427640" y="1197000"/>
            <a:ext cx="7920" cy="51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762120" y="3716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57200" y="12787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: FAMILI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6715080" y="128520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: AMI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494172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: COMUNIDAD (Vecinos, Organizaciones So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6948360" y="479700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: TRABAJO O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24"/>
          <p:cNvSpPr txBox="1"/>
          <p:nvPr/>
        </p:nvSpPr>
        <p:spPr>
          <a:xfrm>
            <a:off x="3348000" y="3500280"/>
            <a:ext cx="205740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INTIMIDAD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2" name="WordArt 25"/>
          <p:cNvSpPr txBox="1"/>
          <p:nvPr/>
        </p:nvSpPr>
        <p:spPr>
          <a:xfrm>
            <a:off x="2916360" y="4149720"/>
            <a:ext cx="320040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SOCI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3" name="WordArt 26"/>
          <p:cNvSpPr txBox="1"/>
          <p:nvPr/>
        </p:nvSpPr>
        <p:spPr>
          <a:xfrm>
            <a:off x="2700360" y="4581360"/>
            <a:ext cx="352728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INSTRUMENT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4" name="WordArt 27"/>
          <p:cNvSpPr txBox="1"/>
          <p:nvPr/>
        </p:nvSpPr>
        <p:spPr>
          <a:xfrm>
            <a:off x="3419640" y="5877000"/>
            <a:ext cx="20574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"CONTACTOS"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PORQUE SON IMPOR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9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ecesidad humana fundamental (sentido de pertenencia, seres soc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os permiten informarnos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ra encontrar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Los chilenos están cada vez más conec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l 69% de los chilenos tiene perfil en alguna red social (Facebook, fotolog, twi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BARR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8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2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 - juicios y caracterizaciones poco fundamentadas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eneficios difíciles de c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MO GESTIONAR MI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0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4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signarl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mpliar círculo (poder de la diversidad, pu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provechando el potencial: contactos 2do 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Generando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versaciones “poderosas”: 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187280" y="3141720"/>
            <a:ext cx="7490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2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36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MO GESTIONAR MI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acidad de un sistema social para producir valor a través de sus relaciones de confianza, cooperación y reciprocida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alidad de las relaciones entre las personas determina centralmente la eficacia, la eficiencia, la capacidad de evolucionar y el bienestar de toda organización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NeoAula</cp:lastModifiedBy>
  <cp:lastPrinted>2004-06-01T23:06:04Z</cp:lastPrinted>
  <dcterms:modified xsi:type="dcterms:W3CDTF">2009-10-05T18:31:50Z</dcterms:modified>
  <cp:revision>460</cp:revision>
  <dc:subject/>
  <dc:title>Presentación de PowerPoint</dc:title>
</cp:coreProperties>
</file>