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E473-1333-466A-9B38-00FBC0D7518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D01-AEE7-47F8-BD45-C90E5152DC6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CA4-36F4-4BD5-8C54-8399CF30D77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EF5-C734-4831-B0C9-FCD1CAAC6C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3B4-1AD9-4408-915D-EFC2612E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543-9320-4AAF-B998-7E28AA1E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29-2E87-4329-B54B-F3F5600C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FFC-21F3-4CA7-9A1F-DE017670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FB20-0F96-4E90-AB4F-71AAE1F8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C93-049D-49B1-A359-AAD7582F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EA70-7F91-429A-B395-30A5A75B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AC75-306B-491B-A615-B6FD4A4E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C3E6-9A40-43D1-BA5F-AE8478A6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04EF-4B70-4A3F-AF3E-E096295C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65A8-B214-4C58-9771-6F96DEF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94C-0F2E-4329-B085-FC0446AA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0DAD-C7A5-42C4-B9B2-F16512A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915F-94D2-43C4-9DDA-313EB8B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D512-1A09-4052-8F82-6522DDB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849F-342F-4014-BDC4-117C639E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9C47-B4B2-4602-8FCC-2A1A0671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435-FEB9-4072-B052-66B7BF2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09E-F425-464F-A1F8-976559AA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FB6-C588-4D33-8CCB-64E7DF24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B34-D912-4A42-A489-1284B37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FBB-384C-45B6-9296-4D7A3F56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A94-300D-45A9-A7A1-CADEC9E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086-29D1-4467-A5B6-92CEEB3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15D-4D9B-40C7-916C-5777483A8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F9C9-BA83-4681-A067-000ED51D6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 Cuántos competidores tengo? y ¿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05000"/>
            <a:ext cx="8352000" cy="43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2554200"/>
            <a:ext cx="792144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932360" y="2349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028000" y="486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141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3645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40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32720" y="2997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341360"/>
            <a:ext cx="7705800" cy="511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33360" y="1989000"/>
            <a:ext cx="6147000" cy="45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0720" y="450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8720" y="256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659640" y="4005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164360" y="3357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1484280"/>
            <a:ext cx="770580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0200" y="1989000"/>
            <a:ext cx="648180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740720" y="2781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573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6000" y="4508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093080" y="5373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628640"/>
            <a:ext cx="8353440" cy="475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01080" y="3357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667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0720" y="5013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989000"/>
            <a:ext cx="70581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l producto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380360" y="2636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17236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700280"/>
            <a:ext cx="8208720" cy="508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989000"/>
            <a:ext cx="705816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veedores pueden integrars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4072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740720" y="256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101080" y="342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459640" y="5876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6764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NeoAula</cp:lastModifiedBy>
  <cp:lastPrinted>2004-06-01T23:06:04Z</cp:lastPrinted>
  <dcterms:modified xsi:type="dcterms:W3CDTF">2009-09-21T16:59:16Z</dcterms:modified>
  <cp:revision>527</cp:revision>
  <dc:subject/>
  <dc:title>Presentación de PowerPoint</dc:title>
</cp:coreProperties>
</file>