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TIGO.WAV" ContentType="audio/x-wav"/>
  <Override PartName="/ppt/media/DIAPO.WAV" ContentType="audio/x-wav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467A-1937-4915-AFAA-EE4C13B0563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FB3B-908A-4F9F-B200-3E4D893159D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FE86-B635-4291-8CA5-2DA9DE96C4B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BE6C-AD2E-4C0F-A720-DD4C16C6BF5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3D8-E350-4B0D-85B9-F9A3300F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F09-598B-4401-9C24-B4A3AD3C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D26-26D9-4994-B100-BF450D44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53F-0D2C-465D-99AE-D94E79F4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FB8E-2F24-40D6-BD1E-72B58657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D184-FB59-46DC-AD02-9A5E77F0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C091-ED21-400F-82D8-2B666421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654D-8B10-435A-8904-DF17AA3E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901-B4C9-4B9C-9BD6-0F97F0D4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3830-72DB-446F-9B40-86E68104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5400-D3D5-4CB7-A076-56A2C32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1D8-BC60-44A9-87E3-2691DA0C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CE63-1BE2-4AC5-A5B2-D46FAD1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B1C-33E7-49B4-99E4-7BCB39B5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AFB6-0BA9-42FA-9CAA-473CDAA5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393-BEA2-4F35-98E2-B09284CF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1419-E57C-4204-8473-524D246D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868-888A-489B-993C-49932263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DF9-B3C3-4422-A14C-6F2A8DC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4FA-0974-40CD-92AF-94C7AAD5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914-6A1D-4919-B6A4-27A215C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446-5513-4495-9835-5E7546FF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433-8B65-40AC-8C37-42ABCAC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2FD-5E0F-40F8-924B-C33320B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28DB-23EC-481C-AC9A-8D7B0D106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9049-5480-44DD-86E7-E352B8DAE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1"/>
          <p:cNvSpPr/>
          <p:nvPr/>
        </p:nvSpPr>
        <p:spPr>
          <a:xfrm>
            <a:off x="250920" y="3068640"/>
            <a:ext cx="8642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STRATEGIA Y ANALISIS 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19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692280"/>
            <a:ext cx="2771640" cy="20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ogo2_VerticalOficialfcfm_JPG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319120" cy="17175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003640" y="692280"/>
            <a:ext cx="2771640" cy="2016000"/>
            <a:chOff x="5003640" y="692280"/>
            <a:chExt cx="2771640" cy="2016000"/>
          </a:xfrm>
        </p:grpSpPr>
        <p:sp>
          <p:nvSpPr>
            <p:cNvPr id="95" name=""/>
            <p:cNvSpPr/>
            <p:nvPr/>
          </p:nvSpPr>
          <p:spPr>
            <a:xfrm>
              <a:off x="5003640" y="692280"/>
              <a:ext cx="2771640" cy="20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CMS" descr=""/>
            <p:cNvPicPr/>
            <p:nvPr/>
          </p:nvPicPr>
          <p:blipFill>
            <a:blip r:embed="rId2"/>
            <a:stretch/>
          </p:blipFill>
          <p:spPr>
            <a:xfrm>
              <a:off x="5074920" y="907920"/>
              <a:ext cx="266400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ffffff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cisiones estratégicas claves en la definición 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1484280"/>
            <a:ext cx="8497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necesidades satisface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8880" y="1635120"/>
            <a:ext cx="8166240" cy="42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Calibri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3 Marcador de contenido" descr=""/>
          <p:cNvPicPr/>
          <p:nvPr/>
        </p:nvPicPr>
        <p:blipFill>
          <a:blip r:embed="rId1"/>
          <a:stretch/>
        </p:blipFill>
        <p:spPr>
          <a:xfrm>
            <a:off x="365040" y="1822320"/>
            <a:ext cx="8425080" cy="46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1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184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9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192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rebuchet MS"/>
              </a:rPr>
              <a:t>5 fuerzas de Po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 Cuántos competidores tengo? y ¿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205000"/>
            <a:ext cx="8352000" cy="43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2554200"/>
            <a:ext cx="792144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932360" y="2349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028000" y="4868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3141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3645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40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422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nuevos participa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32720" y="2997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732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341360"/>
            <a:ext cx="7705800" cy="511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33360" y="1989000"/>
            <a:ext cx="6147000" cy="45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productos son estandarizados (poca diferenci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 producto fácilmente cop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se requiere de baj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identificación con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negocio necesita acceso a ultim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24720" y="5229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40720" y="4508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8720" y="256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659640" y="4005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164360" y="3357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57168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aprenderemos 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Misión y Visión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se define un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las oportunidades y amenazas del mercado (análisis ex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nuestras fortalezas y debilidades (análisis in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1484280"/>
            <a:ext cx="7705800" cy="496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0200" y="1989000"/>
            <a:ext cx="648180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740720" y="2781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3573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6000" y="4508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093080" y="5373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compr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628640"/>
            <a:ext cx="8353440" cy="475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01080" y="3357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667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0720" y="5013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989000"/>
            <a:ext cx="7058160" cy="43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l producto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380360" y="2636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17236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provee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1700280"/>
            <a:ext cx="8208720" cy="508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989000"/>
            <a:ext cx="705816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proveedores pueden integrars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40720" y="177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740720" y="256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101080" y="342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459640" y="5876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6764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as las fuerzas son igualmente importante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tener en cuenta las tendencias futu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ver que muchas veces es mejor crear alianzas que compe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Cadena de Val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In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Operacione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ex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Marketing y Venta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Servicio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alor agregado al cl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192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105" name="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108" name="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111" name="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114" name="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934c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117" name="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34c93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120" name="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cc3c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ffffff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ffffff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137" name="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8920" y="693360"/>
              <a:ext cx="676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0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3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440080" y="990720"/>
            <a:ext cx="4952880" cy="1143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44840" y="99072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2209680"/>
            <a:ext cx="365760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39880" y="228600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106960" y="2209680"/>
            <a:ext cx="350532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28804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20960" y="4343400"/>
            <a:ext cx="3733920" cy="990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201840" y="4419720"/>
            <a:ext cx="31435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973240" y="5335560"/>
            <a:ext cx="3504960" cy="912960"/>
            <a:chOff x="2973240" y="5335560"/>
            <a:chExt cx="3504960" cy="912960"/>
          </a:xfrm>
        </p:grpSpPr>
        <p:sp>
          <p:nvSpPr>
            <p:cNvPr id="155" name="Rectangle 12"/>
            <p:cNvSpPr/>
            <p:nvPr/>
          </p:nvSpPr>
          <p:spPr>
            <a:xfrm>
              <a:off x="2973240" y="5410080"/>
              <a:ext cx="3504960" cy="8384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725720" y="5335560"/>
              <a:ext cx="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158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2593800" y="2135160"/>
            <a:ext cx="4417920" cy="2208240"/>
            <a:chOff x="2593800" y="2135160"/>
            <a:chExt cx="4417920" cy="2208240"/>
          </a:xfrm>
        </p:grpSpPr>
        <p:sp>
          <p:nvSpPr>
            <p:cNvPr id="161" name="Line 18"/>
            <p:cNvSpPr/>
            <p:nvPr/>
          </p:nvSpPr>
          <p:spPr>
            <a:xfrm>
              <a:off x="4725720" y="2135160"/>
              <a:ext cx="0" cy="220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>
              <a:off x="2593800" y="4116240"/>
              <a:ext cx="205560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 flipH="1">
              <a:off x="4803480" y="4116240"/>
              <a:ext cx="220824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NeoAula</cp:lastModifiedBy>
  <cp:lastPrinted>2004-06-01T23:06:04Z</cp:lastPrinted>
  <dcterms:modified xsi:type="dcterms:W3CDTF">2009-09-21T16:59:16Z</dcterms:modified>
  <cp:revision>527</cp:revision>
  <dc:subject/>
  <dc:title>Presentación de PowerPoint</dc:title>
</cp:coreProperties>
</file>