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jpeg" ContentType="image/jpeg"/>
  <Override PartName="/ppt/media/image14.png" ContentType="image/png"/>
  <Override PartName="/ppt/media/image16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643FB-E411-4795-BA56-0A43B5D49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760D2-DC1B-4D3B-AD4D-75D0A253A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2492E-50EA-43D2-8B1D-B148712AE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48EE0-1A87-4F79-AEAF-83C467E26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CAC7A-E4D8-45CB-BB34-0019765A7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2AF2D-54DF-43C7-BCB9-F32C2A9EB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E3B52-F542-44EA-B053-71340C66D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BA3CC-E19F-44DF-B0DB-E16C17613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06B07-E006-4D0C-A703-59EC0ED66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A36F7-9277-46AC-A58C-610FDDF58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EDBC5-21A0-4CDB-BA65-C579A9B4F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25A03-3C45-4F58-91E4-BAE6AD814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7FFD2-9102-44EA-B929-BE16A557E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6E448-9421-444A-B069-F268A87D9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594EE-E362-416A-8C50-FAEE030AC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47095-5CB3-4CA3-B60C-B0E518EBA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C96E7-77F7-42A8-B767-9AE16020C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39740CD-61E1-4931-AA50-C7926D8D2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70FE57D-2855-428B-A6D8-8EC00060C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4B8A2F3-FB39-43B1-9013-26D42A48B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58B1591-6523-498C-8D02-DE672D9A4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AE5C41C-1045-484C-8A05-8C7FFEBC2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11DBE-FB02-4E74-A168-3F98C1428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96A00C1-80C7-4933-9114-11EFDA908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24066AE-9486-4E8E-B3FB-26AD97FF8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A3F1E71-50BA-4584-B480-A26AF02DE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7CAC924-E925-4EBA-A407-80A8D51AA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73344B7-EB79-41E5-BA82-67F6B12B3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A4BCECD-A28E-4965-8D85-D83DE5B28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B544C3-B912-4CAB-A7E9-9647093D1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F30E5E-5416-48E7-89E5-AF42CD928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258221-D964-463D-A46B-B7349506E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C9D4F0-0925-4F7C-90D6-04392483E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A0F28-A9FD-4C1F-8DCB-9EA7D8F40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3E9CE1-21E4-4037-9DA0-6FD99DD1B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349C85-9ED2-49A4-AFF7-A400A633B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BA7A37-01A3-4E8A-8006-57D6F0D4E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230755-4DB0-435C-AA02-12BE08DC9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30ED49-5504-468E-830C-746A537B3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CF6B2D-C8BD-4672-B5D9-6E8A3CA87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306DCA-AA89-4D91-A262-7C59A739A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CC1F1F-D9E1-456B-9A7C-E26889FA9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A6F8AD-3F4F-49BF-B16E-420252D7B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E188B78-000C-4BAE-A10C-5F49E05D5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8EC4C-B369-40D1-94A8-1617782E9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6A4E5DF-85E8-4FEF-89D7-4C5FF17FA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F1F4710-CE7E-4911-A210-BB013D290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1F20196-7086-4B34-AB66-96CAD125B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1B46727-ADCE-46F8-AFAC-D7363E313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681DD9B-26DD-4209-BCD9-DEC75AEFD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E4D9AA7-190F-4D91-B26E-930580CFA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FBF4479-5BAD-44D0-B8E7-BAFD1B76E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4A0E6DC-AF2C-444E-A5F2-8B641AF9D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B899CEA-AE07-4870-AA4D-C32209C01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ED597E3-B83E-421A-B128-7E8E8CEAE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DBBF9-4269-4248-B8B4-31D658003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BC0098C-49C3-4300-BFA8-218B152E4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6AD041D-DA9F-488A-A3AA-C2A4A3BBC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7AA5986-28D2-4303-91D9-DB6ED863C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0AE6DEA-6350-4240-82CB-260029070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1EA1E70-6312-4170-81B9-5FA6F0646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C77E8EE-20A3-4D34-BD6B-E56DE242E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ED77986-ECEA-4493-9DAA-80E6CC9EF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1507840-6D88-4B50-8EDF-F2169DDC3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135F57F-CC70-47C1-9A2F-E48F95B57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3FBACD4-817B-4E7B-891D-6870128D3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DE469-983B-49C9-808A-617A00D2E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A7277BD-48AD-4452-ADC0-D3F93564B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A9E7F43-8530-46F1-983B-ACA43286B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C78C051-8D1A-4640-8545-CA28C3C07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B116D19-18E4-44C4-8E0C-BB637ED11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956B54C-A4F0-4CBA-8E73-90DAEABA7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13F47F5-7690-418B-A346-F552323BD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75981C3-7CF7-49B1-814F-91BFC6831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DAFD40E-CB14-4402-A22C-3898801BD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27358BF-5CD8-439B-B907-DDC746582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C5AB978-BFB4-45D9-B280-EC6A65868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33595-947D-437A-BAB2-5E7437355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068B416-DCD3-4DB1-B7FE-D965D5E93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DE3081C-4BDD-4D1F-AADE-1834C6CEB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88A7A20-50A4-4BF9-852E-2699EA22C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DA53B1A-2B6B-4927-95EB-B90A842C7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C7FC064-B675-4FCF-9A83-9C13AF52C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EF829-98A5-4DE8-BDA7-E15B83C1A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15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b2c1d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cb3b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1f497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1f497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6 Conector recto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1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11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6CA15-4402-421D-9754-44FE420E645A}" type="slidenum">
              <a:rPr b="1" lang="es-E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4" descr="logo fcfm"/>
          <p:cNvPicPr/>
          <p:nvPr/>
        </p:nvPicPr>
        <p:blipFill>
          <a:blip r:embed="rId2"/>
          <a:stretch/>
        </p:blipFill>
        <p:spPr>
          <a:xfrm>
            <a:off x="5867280" y="404640"/>
            <a:ext cx="2818080" cy="9255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5" descr="logo cms"/>
          <p:cNvPicPr/>
          <p:nvPr/>
        </p:nvPicPr>
        <p:blipFill>
          <a:blip r:embed="rId3"/>
          <a:stretch/>
        </p:blipFill>
        <p:spPr>
          <a:xfrm>
            <a:off x="5867280" y="4724280"/>
            <a:ext cx="2846520" cy="1606680"/>
          </a:xfrm>
          <a:prstGeom prst="rect">
            <a:avLst/>
          </a:prstGeom>
          <a:ln w="0">
            <a:noFill/>
          </a:ln>
        </p:spPr>
      </p:pic>
      <p:sp>
        <p:nvSpPr>
          <p:cNvPr id="49" name="16 Rectángulo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b2c1db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17 Rectángulo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d0d8e8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18 Rectángulo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d0d8e8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19 Rectángulo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9edf4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20 Conector recto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b2c1db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23 Conector recto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9edf4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24 Conector recto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25 Conector recto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b2c1db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26 Conector recto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27 Conector recto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28 Rectángulo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b2c1db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29 Elipse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30 Elipse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31 Elipse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32 Elipse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33 Elipse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b2c1d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cb3b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1f497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1f497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635E8-51F4-42DD-8D57-69594BA79C76}" type="slidenum">
              <a:rPr b="1" lang="es-E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13" descr="logo cms"/>
          <p:cNvPicPr/>
          <p:nvPr/>
        </p:nvPicPr>
        <p:blipFill>
          <a:blip r:embed="rId2"/>
          <a:stretch/>
        </p:blipFill>
        <p:spPr>
          <a:xfrm>
            <a:off x="468360" y="5734080"/>
            <a:ext cx="1295280" cy="7318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4" descr="logo fcfm"/>
          <p:cNvPicPr/>
          <p:nvPr/>
        </p:nvPicPr>
        <p:blipFill>
          <a:blip r:embed="rId3"/>
          <a:stretch/>
        </p:blipFill>
        <p:spPr>
          <a:xfrm>
            <a:off x="6156360" y="5734080"/>
            <a:ext cx="1944720" cy="639720"/>
          </a:xfrm>
          <a:prstGeom prst="rect">
            <a:avLst/>
          </a:prstGeom>
          <a:ln w="0">
            <a:noFill/>
          </a:ln>
        </p:spPr>
      </p:pic>
      <p:sp>
        <p:nvSpPr>
          <p:cNvPr id="108" name="16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17 Conector recto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1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1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2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23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b2c1d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cb3b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dt" idx="7"/>
          </p:nvPr>
        </p:nvSpPr>
        <p:spPr>
          <a:xfrm rot="5400000">
            <a:off x="7946280" y="107352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1f497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1f497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47FC7-2FA3-4C65-8032-2EBEDF7CB6CE}" type="slidenum">
              <a:rPr b="1" lang="es-E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 type="ftr" idx="9"/>
          </p:nvPr>
        </p:nvSpPr>
        <p:spPr>
          <a:xfrm rot="5400000">
            <a:off x="7186680" y="383868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12 Rectángulo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b2c1db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14 Rectángulo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d0d8e8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16 Rectángulo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d0d8e8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17 Rectángulo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9edf4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18 Conector recto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b2c1db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19 Conector recto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9edf4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20 Conector recto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23 Conector recto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b2c1db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24 Conector recto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25 Rectángulo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b2c1db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26 Elipse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27 Elipse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28 Elipse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29 Elipse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30 Elipse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31 Conector recto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eece1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b2c1d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cb3b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eeece1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eeece1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35739-1190-4DE5-9039-DA264552E59B}" type="slidenum">
              <a:rPr b="1" lang="es-E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15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6 Conector recto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1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11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b2c1d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cb3b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1f497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1f497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A9CF9-E390-4604-9BDF-BE1715DB7572}" type="slidenum">
              <a:rPr b="1" lang="es-E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12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14 Conector recto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16 Conector recto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17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18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19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20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b2c1d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cb3b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1f497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1f497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AFE1C-2108-4160-A742-BE45326640E0}" type="slidenum">
              <a:rPr b="1" lang="es-E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12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14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16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17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18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19 Conector recto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20 Conector recto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b2c1d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cb3b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1f497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1f497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10357-FBC3-439E-ABDE-EA8D2AC3FB3E}" type="slidenum">
              <a:rPr b="1" lang="es-E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1 Título" descr=""/>
          <p:cNvPicPr/>
          <p:nvPr/>
        </p:nvPicPr>
        <p:blipFill>
          <a:blip r:embed="rId1"/>
          <a:stretch/>
        </p:blipFill>
        <p:spPr>
          <a:xfrm>
            <a:off x="2077920" y="2054160"/>
            <a:ext cx="6370920" cy="19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 txBox="1"/>
          <p:nvPr/>
        </p:nvSpPr>
        <p:spPr>
          <a:xfrm>
            <a:off x="857160" y="1643040"/>
            <a:ext cx="714384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76092"/>
                </a:solidFill>
                <a:latin typeface="Trebuchet MS"/>
              </a:rPr>
              <a:t>Depende principalmente del estado anímico del observador, es algo interno, no externo!!!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76092"/>
                </a:solidFill>
                <a:latin typeface="Trebuchet MS"/>
              </a:rPr>
              <a:t>    </a:t>
            </a:r>
            <a:r>
              <a:rPr b="0" lang="es-ES" sz="2400" spc="-1" strike="noStrike">
                <a:solidFill>
                  <a:srgbClr val="376092"/>
                </a:solidFill>
                <a:latin typeface="Trebuchet MS"/>
              </a:rPr>
              <a:t>Es necesari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76092"/>
                </a:solidFill>
                <a:latin typeface="Trebuchet MS"/>
              </a:rPr>
              <a:t>Reconocer nuestros estados de anim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76092"/>
                </a:solidFill>
                <a:latin typeface="Trebuchet MS"/>
              </a:rPr>
              <a:t>Identificar que posibilidades me abren y me cierra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76092"/>
                </a:solidFill>
                <a:latin typeface="Trebuchet MS"/>
              </a:rPr>
              <a:t>Observar como me afectan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76092"/>
                </a:solidFill>
                <a:latin typeface="Trebuchet MS"/>
              </a:rPr>
              <a:t>Darles espacio y aceptarlos (comprenderlo aunque nos e comparta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98" name="6 Rectángulo" descr=""/>
          <p:cNvPicPr/>
          <p:nvPr/>
        </p:nvPicPr>
        <p:blipFill>
          <a:blip r:embed="rId1"/>
          <a:stretch/>
        </p:blipFill>
        <p:spPr>
          <a:xfrm>
            <a:off x="609480" y="304920"/>
            <a:ext cx="7570800" cy="901440"/>
          </a:xfrm>
          <a:prstGeom prst="rect">
            <a:avLst/>
          </a:prstGeom>
          <a:ln w="0">
            <a:noFill/>
          </a:ln>
        </p:spPr>
      </p:pic>
      <p:sp>
        <p:nvSpPr>
          <p:cNvPr id="399" name="7 CuadroTexto"/>
          <p:cNvSpPr/>
          <p:nvPr/>
        </p:nvSpPr>
        <p:spPr>
          <a:xfrm>
            <a:off x="857160" y="1143000"/>
            <a:ext cx="33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46c0a"/>
                </a:solidFill>
                <a:latin typeface="Trebuchet MS"/>
              </a:rPr>
              <a:t>Quiebres y estados de áni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 txBox="1"/>
          <p:nvPr/>
        </p:nvSpPr>
        <p:spPr>
          <a:xfrm>
            <a:off x="857160" y="1643040"/>
            <a:ext cx="478656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76092"/>
                </a:solidFill>
                <a:latin typeface="Trebuchet MS"/>
              </a:rPr>
              <a:t>Estados de animo de apertura a aprendizaje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76092"/>
                </a:solidFill>
                <a:latin typeface="Trebuchet MS"/>
              </a:rPr>
              <a:t>Serenidad, aceptación, esperanza, maravillamiento, prudencia, entusiasmo, agradecimiento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76092"/>
                </a:solidFill>
                <a:latin typeface="Trebuchet MS"/>
              </a:rPr>
              <a:t>Estados de animo “negativos”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76092"/>
                </a:solidFill>
                <a:latin typeface="Trebuchet MS"/>
              </a:rPr>
              <a:t>Desconfianza, resentimiento, escepticismo, agobio, arrogancia, aburrimiento, etc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01" name="6 Rectángulo" descr=""/>
          <p:cNvPicPr/>
          <p:nvPr/>
        </p:nvPicPr>
        <p:blipFill>
          <a:blip r:embed="rId1"/>
          <a:stretch/>
        </p:blipFill>
        <p:spPr>
          <a:xfrm>
            <a:off x="609480" y="304920"/>
            <a:ext cx="7570800" cy="901440"/>
          </a:xfrm>
          <a:prstGeom prst="rect">
            <a:avLst/>
          </a:prstGeom>
          <a:ln w="0">
            <a:noFill/>
          </a:ln>
        </p:spPr>
      </p:pic>
      <p:sp>
        <p:nvSpPr>
          <p:cNvPr id="402" name="7 CuadroTexto"/>
          <p:cNvSpPr/>
          <p:nvPr/>
        </p:nvSpPr>
        <p:spPr>
          <a:xfrm>
            <a:off x="857160" y="1143000"/>
            <a:ext cx="328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46c0a"/>
                </a:solidFill>
                <a:latin typeface="Trebuchet MS"/>
              </a:rPr>
              <a:t>Quiebres y estados de áni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4 Imagen" descr="ni%C3%B1a%2Bfeliz.jpg"/>
          <p:cNvPicPr/>
          <p:nvPr/>
        </p:nvPicPr>
        <p:blipFill>
          <a:blip r:embed="rId2"/>
          <a:stretch/>
        </p:blipFill>
        <p:spPr>
          <a:xfrm>
            <a:off x="5786280" y="1714680"/>
            <a:ext cx="2857680" cy="2143080"/>
          </a:xfrm>
          <a:prstGeom prst="rect">
            <a:avLst/>
          </a:prstGeom>
          <a:ln w="0">
            <a:noFill/>
          </a:ln>
        </p:spPr>
      </p:pic>
      <p:pic>
        <p:nvPicPr>
          <p:cNvPr id="404" name="5 Imagen" descr="y1p8HvPgQZjjwT_exhALsXlkz7kzOniewTic70RINyrtygM9mPOtuoChrCZJO6_0qJ_4vw9CbgD4fFIDD9jUoEswVnCFWBKNz25.jpg"/>
          <p:cNvPicPr/>
          <p:nvPr/>
        </p:nvPicPr>
        <p:blipFill>
          <a:blip r:embed="rId3"/>
          <a:stretch/>
        </p:blipFill>
        <p:spPr>
          <a:xfrm>
            <a:off x="5715000" y="3857760"/>
            <a:ext cx="2952720" cy="196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 txBox="1"/>
          <p:nvPr/>
        </p:nvSpPr>
        <p:spPr>
          <a:xfrm>
            <a:off x="713880" y="1857240"/>
            <a:ext cx="307188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376092"/>
                </a:solidFill>
                <a:latin typeface="Trebuchet MS"/>
              </a:rPr>
              <a:t>La tarde está soleada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7" name="6 Rectángulo" descr=""/>
          <p:cNvPicPr/>
          <p:nvPr/>
        </p:nvPicPr>
        <p:blipFill>
          <a:blip r:embed="rId1"/>
          <a:stretch/>
        </p:blipFill>
        <p:spPr>
          <a:xfrm>
            <a:off x="463680" y="298440"/>
            <a:ext cx="7570800" cy="907920"/>
          </a:xfrm>
          <a:prstGeom prst="rect">
            <a:avLst/>
          </a:prstGeom>
          <a:ln w="0">
            <a:noFill/>
          </a:ln>
        </p:spPr>
      </p:pic>
      <p:sp>
        <p:nvSpPr>
          <p:cNvPr id="358" name="7 CuadroTexto"/>
          <p:cNvSpPr/>
          <p:nvPr/>
        </p:nvSpPr>
        <p:spPr>
          <a:xfrm>
            <a:off x="857160" y="1214280"/>
            <a:ext cx="21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46c0a"/>
                </a:solidFill>
                <a:latin typeface="Trebuchet MS"/>
              </a:rPr>
              <a:t>Juic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9" name="5 Imagen" descr="primavera2.jpg"/>
          <p:cNvPicPr/>
          <p:nvPr/>
        </p:nvPicPr>
        <p:blipFill>
          <a:blip r:embed="rId2"/>
          <a:stretch/>
        </p:blipFill>
        <p:spPr>
          <a:xfrm>
            <a:off x="4370400" y="1305000"/>
            <a:ext cx="3780000" cy="4029120"/>
          </a:xfrm>
          <a:prstGeom prst="rect">
            <a:avLst/>
          </a:prstGeom>
          <a:ln w="0">
            <a:noFill/>
          </a:ln>
        </p:spPr>
      </p:pic>
      <p:sp>
        <p:nvSpPr>
          <p:cNvPr id="360" name="9 CuadroTexto"/>
          <p:cNvSpPr/>
          <p:nvPr/>
        </p:nvSpPr>
        <p:spPr>
          <a:xfrm>
            <a:off x="4572000" y="4572000"/>
            <a:ext cx="3429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76092"/>
                </a:solidFill>
                <a:latin typeface="Trebuchet MS"/>
              </a:rPr>
              <a:t>La profesora es muy dul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1" name="10 Imagen" descr="profesora1.jpg"/>
          <p:cNvPicPr/>
          <p:nvPr/>
        </p:nvPicPr>
        <p:blipFill>
          <a:blip r:embed="rId3"/>
          <a:stretch/>
        </p:blipFill>
        <p:spPr>
          <a:xfrm>
            <a:off x="927000" y="3139920"/>
            <a:ext cx="2863800" cy="286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 txBox="1"/>
          <p:nvPr/>
        </p:nvSpPr>
        <p:spPr>
          <a:xfrm>
            <a:off x="857160" y="1643040"/>
            <a:ext cx="714384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376092"/>
                </a:solidFill>
                <a:latin typeface="Century Schoolbook"/>
              </a:rPr>
              <a:t>Actos lingüísticos básico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376092"/>
                </a:solidFill>
                <a:latin typeface="Century Schoolbook"/>
              </a:rPr>
              <a:t>Afirmaciones o descripcion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376092"/>
                </a:solidFill>
                <a:latin typeface="Century Schoolbook"/>
              </a:rPr>
              <a:t>Declaraciones (de quiebre, del no, del sí, de la ignorancia, de gratitud, del perdón, de amor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376092"/>
                </a:solidFill>
                <a:latin typeface="Century Schoolbook"/>
              </a:rPr>
              <a:t>Promesa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376092"/>
                </a:solidFill>
                <a:latin typeface="Century Schoolbook"/>
              </a:rPr>
              <a:t>Peticion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376092"/>
                </a:solidFill>
                <a:latin typeface="Century Schoolbook"/>
              </a:rPr>
              <a:t>Oferta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376092"/>
                </a:solidFill>
                <a:latin typeface="Century Schoolbook"/>
              </a:rPr>
              <a:t>Juicios (de valor, de responsabilidad, de poder, de posibilidad, de facticidad, etc.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3" name="6 Rectángulo" descr=""/>
          <p:cNvPicPr/>
          <p:nvPr/>
        </p:nvPicPr>
        <p:blipFill>
          <a:blip r:embed="rId1"/>
          <a:stretch/>
        </p:blipFill>
        <p:spPr>
          <a:xfrm>
            <a:off x="609480" y="304920"/>
            <a:ext cx="7570800" cy="901440"/>
          </a:xfrm>
          <a:prstGeom prst="rect">
            <a:avLst/>
          </a:prstGeom>
          <a:ln w="0">
            <a:noFill/>
          </a:ln>
        </p:spPr>
      </p:pic>
      <p:sp>
        <p:nvSpPr>
          <p:cNvPr id="364" name="7 CuadroTexto"/>
          <p:cNvSpPr/>
          <p:nvPr/>
        </p:nvSpPr>
        <p:spPr>
          <a:xfrm>
            <a:off x="857160" y="1143000"/>
            <a:ext cx="21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46c0a"/>
                </a:solidFill>
                <a:latin typeface="Trebuchet MS"/>
              </a:rPr>
              <a:t>Juic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571680" y="1785960"/>
            <a:ext cx="4572000" cy="394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76092"/>
                </a:solidFill>
                <a:latin typeface="Century Schoolbook"/>
              </a:rPr>
              <a:t>Son expresiones de opinión basados en el pasado individual de cada persona, puede tener un fundamento, pero al declarar un juicio debo fundarlo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6" name="6 Rectángulo" descr=""/>
          <p:cNvPicPr/>
          <p:nvPr/>
        </p:nvPicPr>
        <p:blipFill>
          <a:blip r:embed="rId1"/>
          <a:stretch/>
        </p:blipFill>
        <p:spPr>
          <a:xfrm>
            <a:off x="463680" y="298440"/>
            <a:ext cx="7570800" cy="907920"/>
          </a:xfrm>
          <a:prstGeom prst="rect">
            <a:avLst/>
          </a:prstGeom>
          <a:ln w="0">
            <a:noFill/>
          </a:ln>
        </p:spPr>
      </p:pic>
      <p:sp>
        <p:nvSpPr>
          <p:cNvPr id="367" name="7 CuadroTexto"/>
          <p:cNvSpPr/>
          <p:nvPr/>
        </p:nvSpPr>
        <p:spPr>
          <a:xfrm>
            <a:off x="857160" y="1214280"/>
            <a:ext cx="21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46c0a"/>
                </a:solidFill>
                <a:latin typeface="Trebuchet MS"/>
              </a:rPr>
              <a:t>Juic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4 Imagen" descr="mujer.jpg"/>
          <p:cNvPicPr/>
          <p:nvPr/>
        </p:nvPicPr>
        <p:blipFill>
          <a:blip r:embed="rId2"/>
          <a:stretch/>
        </p:blipFill>
        <p:spPr>
          <a:xfrm>
            <a:off x="5522760" y="1646280"/>
            <a:ext cx="2829240" cy="371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 txBox="1"/>
          <p:nvPr/>
        </p:nvSpPr>
        <p:spPr>
          <a:xfrm>
            <a:off x="713880" y="1856880"/>
            <a:ext cx="4071960" cy="39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76092"/>
                </a:solidFill>
                <a:latin typeface="Trebuchet MS"/>
              </a:rPr>
              <a:t>Consecuencias de los juicios mal fundados: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76092"/>
                </a:solidFill>
                <a:latin typeface="Trebuchet MS"/>
              </a:rPr>
              <a:t>Cierran posibilidades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76092"/>
                </a:solidFill>
                <a:latin typeface="Trebuchet MS"/>
              </a:rPr>
              <a:t>Limitan acciones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0" name="6 Rectángulo" descr=""/>
          <p:cNvPicPr/>
          <p:nvPr/>
        </p:nvPicPr>
        <p:blipFill>
          <a:blip r:embed="rId1"/>
          <a:stretch/>
        </p:blipFill>
        <p:spPr>
          <a:xfrm>
            <a:off x="463680" y="298440"/>
            <a:ext cx="7570800" cy="907920"/>
          </a:xfrm>
          <a:prstGeom prst="rect">
            <a:avLst/>
          </a:prstGeom>
          <a:ln w="0">
            <a:noFill/>
          </a:ln>
        </p:spPr>
      </p:pic>
      <p:sp>
        <p:nvSpPr>
          <p:cNvPr id="371" name="7 CuadroTexto"/>
          <p:cNvSpPr/>
          <p:nvPr/>
        </p:nvSpPr>
        <p:spPr>
          <a:xfrm>
            <a:off x="857160" y="1214280"/>
            <a:ext cx="21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46c0a"/>
                </a:solidFill>
                <a:latin typeface="Trebuchet MS"/>
              </a:rPr>
              <a:t>Juic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2" name="5 Imagen" descr="onion.jpg"/>
          <p:cNvPicPr/>
          <p:nvPr/>
        </p:nvPicPr>
        <p:blipFill>
          <a:blip r:embed="rId2"/>
          <a:stretch/>
        </p:blipFill>
        <p:spPr>
          <a:xfrm>
            <a:off x="4705200" y="2017800"/>
            <a:ext cx="3610080" cy="48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1 Título" descr=""/>
          <p:cNvPicPr/>
          <p:nvPr/>
        </p:nvPicPr>
        <p:blipFill>
          <a:blip r:embed="rId1"/>
          <a:stretch/>
        </p:blipFill>
        <p:spPr>
          <a:xfrm>
            <a:off x="2077920" y="2054160"/>
            <a:ext cx="6370920" cy="19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 txBox="1"/>
          <p:nvPr/>
        </p:nvSpPr>
        <p:spPr>
          <a:xfrm>
            <a:off x="714240" y="1856880"/>
            <a:ext cx="4429440" cy="39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66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76092"/>
                </a:solidFill>
                <a:latin typeface="Trebuchet MS"/>
              </a:rPr>
              <a:t>Interrupción en el fluir de la vida(Heiddeger)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76092"/>
                </a:solidFill>
                <a:latin typeface="Trebuchet MS"/>
              </a:rPr>
              <a:t>Juicio de que algo que está ocurriendo (o no está ocurriendo) y eso altera el curso esperado de los acontecimiento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29040" indent="-329040" algn="ctr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5" name="6 Rectángulo" descr=""/>
          <p:cNvPicPr/>
          <p:nvPr/>
        </p:nvPicPr>
        <p:blipFill>
          <a:blip r:embed="rId1"/>
          <a:stretch/>
        </p:blipFill>
        <p:spPr>
          <a:xfrm>
            <a:off x="463680" y="298440"/>
            <a:ext cx="7570800" cy="907920"/>
          </a:xfrm>
          <a:prstGeom prst="rect">
            <a:avLst/>
          </a:prstGeom>
          <a:ln w="0">
            <a:noFill/>
          </a:ln>
        </p:spPr>
      </p:pic>
      <p:sp>
        <p:nvSpPr>
          <p:cNvPr id="376" name="7 CuadroTexto"/>
          <p:cNvSpPr/>
          <p:nvPr/>
        </p:nvSpPr>
        <p:spPr>
          <a:xfrm>
            <a:off x="857160" y="1214280"/>
            <a:ext cx="21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46c0a"/>
                </a:solidFill>
                <a:latin typeface="Trebuchet MS"/>
              </a:rPr>
              <a:t>Quieb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8 Imagen" descr="flores09.jpg"/>
          <p:cNvPicPr/>
          <p:nvPr/>
        </p:nvPicPr>
        <p:blipFill>
          <a:blip r:embed="rId2"/>
          <a:stretch/>
        </p:blipFill>
        <p:spPr>
          <a:xfrm>
            <a:off x="5187960" y="1994040"/>
            <a:ext cx="3382920" cy="50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6 Rectángulo" descr=""/>
          <p:cNvPicPr/>
          <p:nvPr/>
        </p:nvPicPr>
        <p:blipFill>
          <a:blip r:embed="rId1"/>
          <a:stretch/>
        </p:blipFill>
        <p:spPr>
          <a:xfrm>
            <a:off x="463680" y="298440"/>
            <a:ext cx="7570800" cy="907920"/>
          </a:xfrm>
          <a:prstGeom prst="rect">
            <a:avLst/>
          </a:prstGeom>
          <a:ln w="0">
            <a:noFill/>
          </a:ln>
        </p:spPr>
      </p:pic>
      <p:sp>
        <p:nvSpPr>
          <p:cNvPr id="379" name="7 CuadroTexto"/>
          <p:cNvSpPr/>
          <p:nvPr/>
        </p:nvSpPr>
        <p:spPr>
          <a:xfrm>
            <a:off x="857160" y="1214280"/>
            <a:ext cx="21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46c0a"/>
                </a:solidFill>
                <a:latin typeface="Trebuchet MS"/>
              </a:rPr>
              <a:t>Quieb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0" name="4 CuadroTexto"/>
          <p:cNvGrpSpPr/>
          <p:nvPr/>
        </p:nvGrpSpPr>
        <p:grpSpPr>
          <a:xfrm>
            <a:off x="85680" y="1590840"/>
            <a:ext cx="2181240" cy="792000"/>
            <a:chOff x="85680" y="1590840"/>
            <a:chExt cx="2181240" cy="792000"/>
          </a:xfrm>
        </p:grpSpPr>
        <p:pic>
          <p:nvPicPr>
            <p:cNvPr id="381" name="4 CuadroTexto" descr=""/>
            <p:cNvPicPr/>
            <p:nvPr/>
          </p:nvPicPr>
          <p:blipFill>
            <a:blip r:embed="rId2"/>
            <a:stretch/>
          </p:blipFill>
          <p:spPr>
            <a:xfrm>
              <a:off x="85680" y="1590840"/>
              <a:ext cx="2181240" cy="79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2" name=""/>
            <p:cNvSpPr/>
            <p:nvPr/>
          </p:nvSpPr>
          <p:spPr>
            <a:xfrm>
              <a:off x="214200" y="1714680"/>
              <a:ext cx="1928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3200" spc="-1" strike="noStrike">
                  <a:solidFill>
                    <a:srgbClr val="ffffff"/>
                  </a:solidFill>
                  <a:latin typeface="Trebuchet MS"/>
                </a:rPr>
                <a:t>QUIEBR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3" name="5 Más"/>
          <p:cNvSpPr/>
          <p:nvPr/>
        </p:nvSpPr>
        <p:spPr>
          <a:xfrm>
            <a:off x="2357280" y="1500120"/>
            <a:ext cx="785880" cy="928800"/>
          </a:xfrm>
          <a:prstGeom prst="pie">
            <a:avLst/>
          </a:prstGeom>
          <a:solidFill>
            <a:srgbClr val="4bacc6"/>
          </a:solidFill>
          <a:ln w="34920">
            <a:solidFill>
              <a:srgbClr val="ffffff"/>
            </a:solidFill>
            <a:miter/>
          </a:ln>
          <a:effectLst>
            <a:outerShdw dist="2484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8 Más"/>
          <p:cNvSpPr/>
          <p:nvPr/>
        </p:nvSpPr>
        <p:spPr>
          <a:xfrm>
            <a:off x="2071800" y="3929040"/>
            <a:ext cx="857160" cy="928800"/>
          </a:xfrm>
          <a:prstGeom prst="pie">
            <a:avLst/>
          </a:prstGeom>
          <a:solidFill>
            <a:srgbClr val="4bacc6"/>
          </a:solidFill>
          <a:ln w="34920">
            <a:solidFill>
              <a:srgbClr val="ffffff"/>
            </a:solidFill>
            <a:miter/>
          </a:ln>
          <a:effectLst>
            <a:outerShdw dist="2484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13 CuadroTexto"/>
          <p:cNvSpPr/>
          <p:nvPr/>
        </p:nvSpPr>
        <p:spPr>
          <a:xfrm>
            <a:off x="3286080" y="1571760"/>
            <a:ext cx="1785960" cy="94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17375e"/>
                </a:solidFill>
                <a:latin typeface="Trebuchet MS"/>
              </a:rPr>
              <a:t>Enfoque positi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14 Igual que"/>
          <p:cNvSpPr/>
          <p:nvPr/>
        </p:nvSpPr>
        <p:spPr>
          <a:xfrm>
            <a:off x="5214960" y="1643040"/>
            <a:ext cx="857160" cy="785880"/>
          </a:xfrm>
          <a:prstGeom prst="pie">
            <a:avLst/>
          </a:pr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15 CuadroTexto"/>
          <p:cNvSpPr/>
          <p:nvPr/>
        </p:nvSpPr>
        <p:spPr>
          <a:xfrm>
            <a:off x="6143760" y="1785960"/>
            <a:ext cx="2643120" cy="1068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17375e"/>
                </a:solidFill>
                <a:latin typeface="Century Schoolbook"/>
              </a:rPr>
              <a:t>Oportun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16 Rectángulo"/>
          <p:cNvSpPr/>
          <p:nvPr/>
        </p:nvSpPr>
        <p:spPr>
          <a:xfrm>
            <a:off x="3000240" y="4000680"/>
            <a:ext cx="1785960" cy="94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17375e"/>
                </a:solidFill>
                <a:latin typeface="Trebuchet MS"/>
              </a:rPr>
              <a:t>Enfoque negati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17 CuadroTexto"/>
          <p:cNvSpPr/>
          <p:nvPr/>
        </p:nvSpPr>
        <p:spPr>
          <a:xfrm>
            <a:off x="6072120" y="4143240"/>
            <a:ext cx="2214720" cy="58140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17375e"/>
                </a:solidFill>
                <a:latin typeface="Century Schoolbook"/>
              </a:rPr>
              <a:t>Proble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0" name="18 CuadroTexto"/>
          <p:cNvGrpSpPr/>
          <p:nvPr/>
        </p:nvGrpSpPr>
        <p:grpSpPr>
          <a:xfrm>
            <a:off x="85680" y="4017960"/>
            <a:ext cx="2176560" cy="1194120"/>
            <a:chOff x="85680" y="4017960"/>
            <a:chExt cx="2176560" cy="1194120"/>
          </a:xfrm>
        </p:grpSpPr>
        <p:pic>
          <p:nvPicPr>
            <p:cNvPr id="391" name="18 CuadroTexto" descr=""/>
            <p:cNvPicPr/>
            <p:nvPr/>
          </p:nvPicPr>
          <p:blipFill>
            <a:blip r:embed="rId3"/>
            <a:stretch/>
          </p:blipFill>
          <p:spPr>
            <a:xfrm>
              <a:off x="85680" y="4017960"/>
              <a:ext cx="2176560" cy="79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2" name=""/>
            <p:cNvSpPr/>
            <p:nvPr/>
          </p:nvSpPr>
          <p:spPr>
            <a:xfrm>
              <a:off x="285840" y="4143240"/>
              <a:ext cx="178596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3200" spc="-1" strike="noStrike">
                  <a:solidFill>
                    <a:srgbClr val="ffffff"/>
                  </a:solidFill>
                  <a:latin typeface="Trebuchet MS"/>
                </a:rPr>
                <a:t>QUIEBR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3" name="19 Igual que"/>
          <p:cNvSpPr/>
          <p:nvPr/>
        </p:nvSpPr>
        <p:spPr>
          <a:xfrm>
            <a:off x="5000760" y="4071960"/>
            <a:ext cx="857160" cy="785880"/>
          </a:xfrm>
          <a:prstGeom prst="pie">
            <a:avLst/>
          </a:pr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 txBox="1"/>
          <p:nvPr/>
        </p:nvSpPr>
        <p:spPr>
          <a:xfrm>
            <a:off x="713880" y="1856880"/>
            <a:ext cx="7643880" cy="39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76092"/>
                </a:solidFill>
                <a:latin typeface="Trebuchet MS"/>
              </a:rPr>
              <a:t>A partir de los quiebres se devela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76092"/>
                </a:solidFill>
                <a:latin typeface="Trebuchet MS"/>
              </a:rPr>
              <a:t>Nuestra red de compromisos (promesas y compromisos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76092"/>
                </a:solidFill>
                <a:latin typeface="Trebuchet MS"/>
              </a:rPr>
              <a:t>Nuestra red de ayuda(peticiones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76092"/>
                </a:solidFill>
                <a:latin typeface="Trebuchet MS"/>
              </a:rPr>
              <a:t>Nuestros juicios automático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76092"/>
                </a:solidFill>
                <a:latin typeface="Trebuchet MS"/>
              </a:rPr>
              <a:t>Artefactos que se pueden hacer cargo del quiebre (innovaciones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95" name="6 Rectángulo" descr=""/>
          <p:cNvPicPr/>
          <p:nvPr/>
        </p:nvPicPr>
        <p:blipFill>
          <a:blip r:embed="rId1"/>
          <a:stretch/>
        </p:blipFill>
        <p:spPr>
          <a:xfrm>
            <a:off x="463680" y="298440"/>
            <a:ext cx="7570800" cy="907920"/>
          </a:xfrm>
          <a:prstGeom prst="rect">
            <a:avLst/>
          </a:prstGeom>
          <a:ln w="0">
            <a:noFill/>
          </a:ln>
        </p:spPr>
      </p:pic>
      <p:sp>
        <p:nvSpPr>
          <p:cNvPr id="396" name="7 CuadroTexto"/>
          <p:cNvSpPr/>
          <p:nvPr/>
        </p:nvSpPr>
        <p:spPr>
          <a:xfrm>
            <a:off x="857160" y="1214280"/>
            <a:ext cx="21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46c0a"/>
                </a:solidFill>
                <a:latin typeface="Trebuchet MS"/>
              </a:rPr>
              <a:t>Quieb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7T20:44:41Z</dcterms:created>
  <dc:creator>Massy</dc:creator>
  <dc:description/>
  <dc:language>en-US</dc:language>
  <cp:lastModifiedBy>Massy</cp:lastModifiedBy>
  <dcterms:modified xsi:type="dcterms:W3CDTF">2009-08-22T16:33:22Z</dcterms:modified>
  <cp:revision>29</cp:revision>
  <dc:subject/>
  <dc:title>Diapositiva 1</dc:title>
</cp:coreProperties>
</file>