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1CB-5F48-4E4A-9391-E8301419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DFD-E240-4EE2-8E81-7B5C4EC5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DF0-8B7B-4550-B2D9-DE51DB78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6FE-5351-4292-9910-31E24F18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6553-2E67-4166-B103-D1556C22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679F-8C95-4B8E-BAAF-12959982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AEC9-7023-42D5-9E8E-369ECEC4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0253-AE3C-4663-B01F-9D804D17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C96C-FE03-46D8-BEA0-FDFB15BE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6F67-A492-4B70-BB8D-A2332244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A4F7-2EE1-49CE-AAC3-5774090F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2FE-68CF-46C9-BC2A-22983E7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63EF-4279-4432-A52D-3E4CB4FE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6EE4-C615-4F10-8D61-66CCF82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B441-508F-4C02-AC65-1FC7982F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6165-9371-49DB-BC08-25A4BDBE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14F3-E428-4F49-B85F-D9B64776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56C71-8614-482B-8175-A90FF367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117F3-1A32-4DDD-93F6-5275C8A9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95082-D18F-4A02-85B0-78EE6A8E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24AE0-2343-466A-BF60-5B85844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587BA-9001-4171-97C9-8D28B060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715-001F-4445-88B0-55AD2E97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688A3-3BFA-45DC-8C22-9043E63B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7C4AF-4485-4ED6-A952-CC2B8276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13D82-6F0C-4D28-B841-DA030A7F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6E067-7253-4D8D-B6DD-0A7EF582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2662B-7DFB-4157-8294-5868CB72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D73B9-D40E-43C7-A257-3B3A0B2E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4B0D6-6147-4C2F-A609-84CFCC28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3F407-D927-4B23-9BA6-718C8110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C9F62-4039-4042-9AE4-0B24E4FC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819FC-727C-47F6-A437-90FB009A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F19-7923-4A31-A424-EF55923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0241-D169-4BBB-8950-67DCBA1C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384C-539A-4266-8BBE-03D6BC5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E5B5-4674-493F-9AB5-0452940B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4D77-B4F9-424A-82B1-5E677E9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BAFB-1F6A-46EF-8CE4-27313510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A183-8715-4223-857E-291FAF5B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9A0A-A3F7-4CFE-B98D-AFD99704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F4B6-3235-468C-9219-E8D894EC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CAE6-C92B-42BF-B470-A2B7108B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0509F-5D95-4217-893F-308EE201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088-46D4-4977-8392-02915E1E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C4E36-ED7E-4FA6-923B-24B6C1F7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5FFC4-08BD-476D-A137-C6D5D381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2DBC1-0064-41B3-8699-2C108DC7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3DB53-FB47-4DF2-B4D3-8DDBC7B8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D96CF-C8C8-427A-96A5-3446F4C2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F4F57-63BE-409B-93FF-CF32CDE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C0CC6-731F-41FE-8791-541934B8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03E64-EE57-4F3A-AE1C-8D011A10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11229-1A1B-4E08-87A3-B256D5D8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6FC57-12C1-45DB-B889-96A38039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005-5976-4936-93DF-A87135A3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C0306-0B44-451C-B0FC-6D894D02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4CF7F-62BB-4F18-8163-BFEBAC82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208B7-93E5-4CD8-87E3-DC191395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D61B4-E60A-408F-BDBD-16F0508A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97C7D-6539-4173-97DD-840AA43B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2C72F-E96E-4990-8A7A-73133A78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D723C-FE9C-4F76-886F-BBF8882F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67017-3462-4511-850C-F527B0C6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F56E1-F775-4C50-B9A2-A663066C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C333A-7557-4C20-A333-78D5F28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11E-7DFA-42EB-B8A3-1EAF494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AFE56-2F17-4DCF-890A-7136DE9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BE951-27D0-46E8-8C53-D7749B95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50073-C306-4DD5-9554-16243708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30FBD-8FCF-44F0-8C5D-DE8F4E5F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71CCB-733B-454E-9C85-24EB8CE2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4B5EA-7D76-4845-A79F-EEF78AB6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720A4-22CD-415E-81E0-1B4C19BF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6F0BD-A6A0-455C-AEC2-85B9B061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36041-3670-4454-AC92-388408DD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54D9C-CAFC-4C41-B84C-7A6E481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C30-6BA0-4BB9-A7BE-839F2AE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AADFB-0A18-4F7A-99AC-D90A922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20BB4-27C0-414C-81BF-BFCB175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444D0-FD28-4BA8-A56D-23BF380F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EDB8F-4582-494B-8C9F-129191A9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94C22-DD57-4215-BFFA-8BEA3D2E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AE1-CEE0-4A66-89EC-89B5DF2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677F-991D-430D-9A8F-322A6419925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2080-0E1B-4920-9418-98B5182FDE0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B4F-BFE2-44D4-877A-1BCDEB1230C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B652-FE56-4895-A925-781EB98CDDD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3D57-13C8-4126-ADEB-4E59BDDB39C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010D-E9E3-4A50-ABE4-544655496BD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1558-89D5-49FA-BAAC-365E02DD3AD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1 Título" descr=""/>
          <p:cNvPicPr/>
          <p:nvPr/>
        </p:nvPicPr>
        <p:blipFill>
          <a:blip r:embed="rId1"/>
          <a:stretch/>
        </p:blipFill>
        <p:spPr>
          <a:xfrm>
            <a:off x="2077920" y="2054160"/>
            <a:ext cx="6370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57160" y="1643040"/>
            <a:ext cx="7143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epende principalmente del estado anímico del observador, es algo interno, no externo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    </a:t>
            </a: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Es necesar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Reconocer nuestros estados de ani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Identificar que posibilidades me abren y me cierr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Observar como me afectan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arles espacio y aceptarlos (comprenderlo aunque nos e compar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399" name="7 CuadroTexto"/>
          <p:cNvSpPr/>
          <p:nvPr/>
        </p:nvSpPr>
        <p:spPr>
          <a:xfrm>
            <a:off x="857160" y="1143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 y estados de á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857160" y="1643040"/>
            <a:ext cx="47865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6092"/>
                </a:solidFill>
                <a:latin typeface="Trebuchet MS"/>
              </a:rPr>
              <a:t>Estados de animo de apertura a aprendizaj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Serenidad, aceptación, esperanza, maravillamiento, prudencia, entusiasmo, agradecimien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Estados de animo “negativo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esconfianza, resentimiento, escepticismo, agobio, arrogancia, aburrimiento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402" name="7 CuadroTexto"/>
          <p:cNvSpPr/>
          <p:nvPr/>
        </p:nvSpPr>
        <p:spPr>
          <a:xfrm>
            <a:off x="857160" y="11430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 y estados de á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4 Imagen" descr="ni%C3%B1a%2Bfeliz.jpg"/>
          <p:cNvPicPr/>
          <p:nvPr/>
        </p:nvPicPr>
        <p:blipFill>
          <a:blip r:embed="rId2"/>
          <a:stretch/>
        </p:blipFill>
        <p:spPr>
          <a:xfrm>
            <a:off x="5786280" y="1714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04" name="5 Imagen" descr="y1p8HvPgQZjjwT_exhALsXlkz7kzOniewTic70RINyrtygM9mPOtuoChrCZJO6_0qJ_4vw9CbgD4fFIDD9jUoEswVnCFWBKNz25.jpg"/>
          <p:cNvPicPr/>
          <p:nvPr/>
        </p:nvPicPr>
        <p:blipFill>
          <a:blip r:embed="rId3"/>
          <a:stretch/>
        </p:blipFill>
        <p:spPr>
          <a:xfrm>
            <a:off x="5715000" y="385776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713880" y="1857240"/>
            <a:ext cx="30718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76092"/>
                </a:solidFill>
                <a:latin typeface="Trebuchet MS"/>
              </a:rPr>
              <a:t>La tarde está solead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58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5 Imagen" descr="primavera2.jpg"/>
          <p:cNvPicPr/>
          <p:nvPr/>
        </p:nvPicPr>
        <p:blipFill>
          <a:blip r:embed="rId2"/>
          <a:stretch/>
        </p:blipFill>
        <p:spPr>
          <a:xfrm>
            <a:off x="4370400" y="1305000"/>
            <a:ext cx="3780000" cy="4029120"/>
          </a:xfrm>
          <a:prstGeom prst="rect">
            <a:avLst/>
          </a:prstGeom>
          <a:ln w="0">
            <a:noFill/>
          </a:ln>
        </p:spPr>
      </p:pic>
      <p:sp>
        <p:nvSpPr>
          <p:cNvPr id="360" name="9 CuadroTexto"/>
          <p:cNvSpPr/>
          <p:nvPr/>
        </p:nvSpPr>
        <p:spPr>
          <a:xfrm>
            <a:off x="4572000" y="45720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Trebuchet MS"/>
              </a:rPr>
              <a:t>La profesora es muy du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10 Imagen" descr="profesora1.jpg"/>
          <p:cNvPicPr/>
          <p:nvPr/>
        </p:nvPicPr>
        <p:blipFill>
          <a:blip r:embed="rId3"/>
          <a:stretch/>
        </p:blipFill>
        <p:spPr>
          <a:xfrm>
            <a:off x="927000" y="3139920"/>
            <a:ext cx="286380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57160" y="1643040"/>
            <a:ext cx="7143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76092"/>
                </a:solidFill>
                <a:latin typeface="Century Schoolbook"/>
              </a:rPr>
              <a:t>Actos lingüístic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Afirmaciones o descrip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Declaraciones (de quiebre, del no, del sí, de la ignorancia, de gratitud, del perdón, de amo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Promes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Peti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Ofer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Juicios (de valor, de responsabilidad, de poder, de posibilidad, de facticidad, etc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364" name="7 CuadroTexto"/>
          <p:cNvSpPr/>
          <p:nvPr/>
        </p:nvSpPr>
        <p:spPr>
          <a:xfrm>
            <a:off x="857160" y="1143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1785960"/>
            <a:ext cx="45720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Century Schoolbook"/>
              </a:rPr>
              <a:t>Son expresiones de opinión basados en el pasado individual de cada persona, puede tener un fundamento, pero al declarar un juicio debo fundarl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67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4 Imagen" descr="mujer.jpg"/>
          <p:cNvPicPr/>
          <p:nvPr/>
        </p:nvPicPr>
        <p:blipFill>
          <a:blip r:embed="rId2"/>
          <a:stretch/>
        </p:blipFill>
        <p:spPr>
          <a:xfrm>
            <a:off x="5522760" y="1646280"/>
            <a:ext cx="2829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713880" y="1856880"/>
            <a:ext cx="407196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Trebuchet MS"/>
              </a:rPr>
              <a:t>Consecuencias de los juicios mal fund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Cierran posibilidad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Limitan accion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1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5 Imagen" descr="onion.jpg"/>
          <p:cNvPicPr/>
          <p:nvPr/>
        </p:nvPicPr>
        <p:blipFill>
          <a:blip r:embed="rId2"/>
          <a:stretch/>
        </p:blipFill>
        <p:spPr>
          <a:xfrm>
            <a:off x="4705200" y="2017800"/>
            <a:ext cx="36100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2077920" y="2054160"/>
            <a:ext cx="6370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14240" y="1856880"/>
            <a:ext cx="442944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Interrupción en el fluir de la vida(Heiddeger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Trebuchet MS"/>
              </a:rPr>
              <a:t>Juicio de que algo que está ocurriendo (o no está ocurriendo) y eso altera el curso esperado de los acontecimien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6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8 Imagen" descr="flores09.jpg"/>
          <p:cNvPicPr/>
          <p:nvPr/>
        </p:nvPicPr>
        <p:blipFill>
          <a:blip r:embed="rId2"/>
          <a:stretch/>
        </p:blipFill>
        <p:spPr>
          <a:xfrm>
            <a:off x="5187960" y="1994040"/>
            <a:ext cx="33829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9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4 CuadroTexto"/>
          <p:cNvGrpSpPr/>
          <p:nvPr/>
        </p:nvGrpSpPr>
        <p:grpSpPr>
          <a:xfrm>
            <a:off x="85680" y="1590840"/>
            <a:ext cx="2181240" cy="792000"/>
            <a:chOff x="85680" y="1590840"/>
            <a:chExt cx="2181240" cy="792000"/>
          </a:xfrm>
        </p:grpSpPr>
        <p:pic>
          <p:nvPicPr>
            <p:cNvPr id="381" name="4 CuadroTexto" descr=""/>
            <p:cNvPicPr/>
            <p:nvPr/>
          </p:nvPicPr>
          <p:blipFill>
            <a:blip r:embed="rId2"/>
            <a:stretch/>
          </p:blipFill>
          <p:spPr>
            <a:xfrm>
              <a:off x="85680" y="1590840"/>
              <a:ext cx="21812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14200" y="1714680"/>
              <a:ext cx="192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rebuchet MS"/>
                </a:rPr>
                <a:t>QUIEB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5 Más"/>
          <p:cNvSpPr/>
          <p:nvPr/>
        </p:nvSpPr>
        <p:spPr>
          <a:xfrm>
            <a:off x="2357280" y="1500120"/>
            <a:ext cx="785880" cy="928800"/>
          </a:xfrm>
          <a:prstGeom prst="pie">
            <a:avLst/>
          </a:prstGeom>
          <a:solidFill>
            <a:srgbClr val="4bacc6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8 Más"/>
          <p:cNvSpPr/>
          <p:nvPr/>
        </p:nvSpPr>
        <p:spPr>
          <a:xfrm>
            <a:off x="2071800" y="3929040"/>
            <a:ext cx="857160" cy="928800"/>
          </a:xfrm>
          <a:prstGeom prst="pie">
            <a:avLst/>
          </a:prstGeom>
          <a:solidFill>
            <a:srgbClr val="4bacc6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3 CuadroTexto"/>
          <p:cNvSpPr/>
          <p:nvPr/>
        </p:nvSpPr>
        <p:spPr>
          <a:xfrm>
            <a:off x="3286080" y="1571760"/>
            <a:ext cx="17859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375e"/>
                </a:solidFill>
                <a:latin typeface="Trebuchet MS"/>
              </a:rPr>
              <a:t>Enfoque 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14 Igual que"/>
          <p:cNvSpPr/>
          <p:nvPr/>
        </p:nvSpPr>
        <p:spPr>
          <a:xfrm>
            <a:off x="5214960" y="1643040"/>
            <a:ext cx="857160" cy="785880"/>
          </a:xfrm>
          <a:prstGeom prst="pi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5 CuadroTexto"/>
          <p:cNvSpPr/>
          <p:nvPr/>
        </p:nvSpPr>
        <p:spPr>
          <a:xfrm>
            <a:off x="6143760" y="1785960"/>
            <a:ext cx="26431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7375e"/>
                </a:solidFill>
                <a:latin typeface="Century Schoolbook"/>
              </a:rPr>
              <a:t>Oport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6 Rectángulo"/>
          <p:cNvSpPr/>
          <p:nvPr/>
        </p:nvSpPr>
        <p:spPr>
          <a:xfrm>
            <a:off x="3000240" y="4000680"/>
            <a:ext cx="17859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375e"/>
                </a:solidFill>
                <a:latin typeface="Trebuchet MS"/>
              </a:rPr>
              <a:t>Enfoque 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7 CuadroTexto"/>
          <p:cNvSpPr/>
          <p:nvPr/>
        </p:nvSpPr>
        <p:spPr>
          <a:xfrm>
            <a:off x="6072120" y="414324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7375e"/>
                </a:solidFill>
                <a:latin typeface="Century Schoolbook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18 CuadroTexto"/>
          <p:cNvGrpSpPr/>
          <p:nvPr/>
        </p:nvGrpSpPr>
        <p:grpSpPr>
          <a:xfrm>
            <a:off x="85680" y="4017960"/>
            <a:ext cx="2176560" cy="1194120"/>
            <a:chOff x="85680" y="4017960"/>
            <a:chExt cx="2176560" cy="1194120"/>
          </a:xfrm>
        </p:grpSpPr>
        <p:pic>
          <p:nvPicPr>
            <p:cNvPr id="391" name="18 CuadroTexto" descr=""/>
            <p:cNvPicPr/>
            <p:nvPr/>
          </p:nvPicPr>
          <p:blipFill>
            <a:blip r:embed="rId3"/>
            <a:stretch/>
          </p:blipFill>
          <p:spPr>
            <a:xfrm>
              <a:off x="85680" y="4017960"/>
              <a:ext cx="2176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85840" y="4143240"/>
              <a:ext cx="178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rebuchet MS"/>
                </a:rPr>
                <a:t>QUIEB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19 Igual que"/>
          <p:cNvSpPr/>
          <p:nvPr/>
        </p:nvSpPr>
        <p:spPr>
          <a:xfrm>
            <a:off x="5000760" y="4071960"/>
            <a:ext cx="857160" cy="785880"/>
          </a:xfrm>
          <a:prstGeom prst="pi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13880" y="1856880"/>
            <a:ext cx="76438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6092"/>
                </a:solidFill>
                <a:latin typeface="Trebuchet MS"/>
              </a:rPr>
              <a:t>A partir de los quiebres se devel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a red de compromisos (promesas y compromi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a red de ayuda(peticion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os juicios automá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Artefactos que se pueden hacer cargo del quiebre (innovacion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96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Massy</dc:creator>
  <dc:description/>
  <dc:language>en-US</dc:language>
  <cp:lastModifiedBy>Massy</cp:lastModifiedBy>
  <dcterms:modified xsi:type="dcterms:W3CDTF">2009-08-22T16:33:22Z</dcterms:modified>
  <cp:revision>29</cp:revision>
  <dc:subject/>
  <dc:title>Diapositiva 1</dc:title>
</cp:coreProperties>
</file>