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AA7-BAAA-44F2-B9FF-1F0C5688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8F6-3EC4-4393-B600-9BF77526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44F-6E82-4D92-BD90-D9FBD6A1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51A-B735-43CD-BADD-59981EC9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CCE-50F7-4A00-B329-B5486ECD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3E7C-79D9-4C9A-92F1-6BAE57B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CA8D-2621-4B91-AD71-000756E2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362-AE85-4EAF-A8B7-018C1D4B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93E2-5C6B-485F-92B6-DF00188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908-26DE-4C8C-80FA-07B45271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A468-DA13-4E5D-A771-11EFDB73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E19-CCDC-4705-A2C6-0D8D7A2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DA07-7BC0-430B-9632-9593C89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25E-84E3-4636-8309-38AA52B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31AC-3F40-419E-9CE2-762C3F28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8B9E-F159-494C-9CEF-0F680ECB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7A51-4CA1-48B0-B451-E608B46B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AB786-0760-442A-808B-1DE9E6E5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B4266-FE00-4559-9E85-184C532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19EC4-86BB-4B4C-B5BF-5B05ED7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46F73-7EE8-48B4-94D6-EAC1B2BE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EAB0-8A74-4FDF-A8DD-81FABEE9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0BF-04A8-49F8-A68B-C4100F4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370D9-65B5-40AB-83E6-E736BE43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F0D62-AFF7-451F-8304-0126C71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C4514-E395-47AC-829A-617D2A9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2EDE3-A3CB-4047-9C7D-C8B75E59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D1695-2A51-435D-9157-8918861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13804-303C-420D-88A4-0C24D0DA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9E860-50F3-4FED-A82E-27036F74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3B21-825A-4CE1-B241-BB878B22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58BD-12E3-4608-BAFD-C0BFF5A2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90126-CC88-42CA-8A3D-209DABC9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966-2E40-4471-972A-9DB8EE5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F226-BBF6-44C8-8DAB-017111F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DF69-193C-45A9-9E8C-F77408D9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E8DB9-C784-4797-A975-EAAA2FC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0D08-F3FF-4106-AE9C-CF5FD83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6D0B-DC93-47E0-B524-BDE88B9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F082-BA5C-4545-B4D1-50053CC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463C-2A74-40A0-A6F7-F0162996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B54D-58A6-4526-959B-4C6B8CE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B0E2-6D47-42F9-AF77-AA8F564C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32B75-D449-48A9-9A6B-B36C4BCD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92D-25D7-4B7D-B070-7D40106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753E6-6151-476B-823D-BC1DCC37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A8091-7E57-4C8B-ABCC-157FF706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F2023-A2A7-4A38-9F13-F8B5226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3DD8C-C0E6-44E5-AE12-B2C9B03E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33958-B233-4791-B253-C796D90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BE58F6-30DE-4C05-9B01-3D85D73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BE3BB-47FB-4199-AE7C-282F8C77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08530-0C93-4136-8580-71B3039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A2448-EE4C-4CA8-A5B6-23C8C8F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7CFAB-FE73-4D83-8754-577AF8A3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69C-95AC-413C-88C8-8E88CD99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B688C-3220-4B75-8DDF-816B9FDC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86DDC-87DF-49F5-8497-74E064DB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7D477-87CA-44B2-A0F5-7EAB5E4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407E7-6E84-476B-BA77-BFF7680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45DBB-2758-4756-8176-5FDC43A0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BBEAC-640E-4B0A-B72D-41FF256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E0672-499D-4A40-95F9-5B494F38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1C48A-AD87-4601-A6A4-9DA9DF6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CDE3B-66F2-4CF3-8B2B-36FF255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56A3F-A54A-4BD6-8F0A-8F359F4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5C6-D4BF-455B-BFE0-6749D5E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04E3F-552F-4418-8697-39AE83F4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AFFF12-7562-45A9-B2C5-BF60E52E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C0467-BEFF-4F5D-9BE9-F5C0C1C1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7D7A5-AD40-441F-B54A-EC778FDA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3AD8A-D045-470D-8A68-58572C2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DA303-0B14-4798-87A8-7C3769C5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3CD50-EF61-4407-88D1-800AB752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8FDF9-D3E9-47D0-AEA4-CA1935F5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AC455-5A4C-4786-936E-FD7F430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AC478-CD98-44EB-8242-F68D61E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198-B267-44BC-ADB4-928BAA0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60B17-2F38-465D-B1A2-DDDB199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6B82D-6ED4-44E5-B533-5593F84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FAB61-786F-41C3-B5B2-8050B83D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E6BCE-1370-4093-9C0B-7FBD444C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596C0-8AA0-4008-BB50-DF090A84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52D-B15D-4DA7-AA74-107F0D6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641-F3FE-4E37-BC7A-456960FA5AD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FD95-4423-40EF-91FD-49D9AAED715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CE11-0364-4697-9BA4-76AB56306C9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923-C440-4E45-852B-27793AD0AE6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1733-408E-4212-B756-BAC070B8A9A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AFD-F8DC-4D5F-AFB7-82B33AE0F8D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0BD5-6457-4AC5-A000-AB28D8A2BC9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pende principalmente del estado anímico del observador, es algo interno, no externo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    </a:t>
            </a: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99" name="7 CuadroTexto"/>
          <p:cNvSpPr/>
          <p:nvPr/>
        </p:nvSpPr>
        <p:spPr>
          <a:xfrm>
            <a:off x="857160" y="1143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57160" y="1643040"/>
            <a:ext cx="47865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402" name="7 CuadroTexto"/>
          <p:cNvSpPr/>
          <p:nvPr/>
        </p:nvSpPr>
        <p:spPr>
          <a:xfrm>
            <a:off x="857160" y="1143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 y estados de á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 Imagen" descr="ni%C3%B1a%2Bfeliz.jpg"/>
          <p:cNvPicPr/>
          <p:nvPr/>
        </p:nvPicPr>
        <p:blipFill>
          <a:blip r:embed="rId2"/>
          <a:stretch/>
        </p:blipFill>
        <p:spPr>
          <a:xfrm>
            <a:off x="578628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y1p8HvPgQZjjwT_exhALsXlkz7kzOniewTic70RINyrtygM9mPOtuoChrCZJO6_0qJ_4vw9CbgD4fFIDD9jUoEswVnCFWBKNz25.jpg"/>
          <p:cNvPicPr/>
          <p:nvPr/>
        </p:nvPicPr>
        <p:blipFill>
          <a:blip r:embed="rId3"/>
          <a:stretch/>
        </p:blipFill>
        <p:spPr>
          <a:xfrm>
            <a:off x="5715000" y="385776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713880" y="1857240"/>
            <a:ext cx="30718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76092"/>
                </a:solidFill>
                <a:latin typeface="Trebuchet MS"/>
              </a:rPr>
              <a:t>La tarde está solead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58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5 Imagen" descr="primavera2.jpg"/>
          <p:cNvPicPr/>
          <p:nvPr/>
        </p:nvPicPr>
        <p:blipFill>
          <a:blip r:embed="rId2"/>
          <a:stretch/>
        </p:blipFill>
        <p:spPr>
          <a:xfrm>
            <a:off x="4370400" y="1305000"/>
            <a:ext cx="3780000" cy="4029120"/>
          </a:xfrm>
          <a:prstGeom prst="rect">
            <a:avLst/>
          </a:prstGeom>
          <a:ln w="0">
            <a:noFill/>
          </a:ln>
        </p:spPr>
      </p:pic>
      <p:sp>
        <p:nvSpPr>
          <p:cNvPr id="360" name="9 CuadroTexto"/>
          <p:cNvSpPr/>
          <p:nvPr/>
        </p:nvSpPr>
        <p:spPr>
          <a:xfrm>
            <a:off x="4572000" y="45720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La profesora es muy du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10 Imagen" descr="profesora1.jpg"/>
          <p:cNvPicPr/>
          <p:nvPr/>
        </p:nvPicPr>
        <p:blipFill>
          <a:blip r:embed="rId3"/>
          <a:stretch/>
        </p:blipFill>
        <p:spPr>
          <a:xfrm>
            <a:off x="927000" y="3139920"/>
            <a:ext cx="286380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57160" y="1643040"/>
            <a:ext cx="7143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76092"/>
                </a:solidFill>
                <a:latin typeface="Century Schoolbook"/>
              </a:rPr>
              <a:t>Actos lingüístic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Afirmaciones o descrip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Declaraciones (de quiebre, del no, del sí, de la ignorancia, de gratitud, del perdón, de am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rome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Peti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Ofer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76092"/>
                </a:solidFill>
                <a:latin typeface="Century Schoolbook"/>
              </a:rPr>
              <a:t>Juicios (de valor, de responsabilidad, de poder, de posibilidad, de facticidad, et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6 Rectángulo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570800" cy="901440"/>
          </a:xfrm>
          <a:prstGeom prst="rect">
            <a:avLst/>
          </a:prstGeom>
          <a:ln w="0">
            <a:noFill/>
          </a:ln>
        </p:spPr>
      </p:pic>
      <p:sp>
        <p:nvSpPr>
          <p:cNvPr id="364" name="7 CuadroTexto"/>
          <p:cNvSpPr/>
          <p:nvPr/>
        </p:nvSpPr>
        <p:spPr>
          <a:xfrm>
            <a:off x="857160" y="1143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785960"/>
            <a:ext cx="45720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Century Schoolbook"/>
              </a:rPr>
              <a:t>Son expresiones de opinión basados en el pasado individual de cada persona, puede tener un fundamento, pero al declarar un juicio debo fundarl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67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4 Imagen" descr="mujer.jpg"/>
          <p:cNvPicPr/>
          <p:nvPr/>
        </p:nvPicPr>
        <p:blipFill>
          <a:blip r:embed="rId2"/>
          <a:stretch/>
        </p:blipFill>
        <p:spPr>
          <a:xfrm>
            <a:off x="5522760" y="1646280"/>
            <a:ext cx="2829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13880" y="1856880"/>
            <a:ext cx="407196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Trebuchet MS"/>
              </a:rPr>
              <a:t>Consecuencias de los juicios mal fund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Cierran posibilidad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Limitan accion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1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Ju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 Imagen" descr="onion.jpg"/>
          <p:cNvPicPr/>
          <p:nvPr/>
        </p:nvPicPr>
        <p:blipFill>
          <a:blip r:embed="rId2"/>
          <a:stretch/>
        </p:blipFill>
        <p:spPr>
          <a:xfrm>
            <a:off x="4705200" y="2017800"/>
            <a:ext cx="36100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077920" y="2054160"/>
            <a:ext cx="6370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14240" y="1856880"/>
            <a:ext cx="442944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092"/>
                </a:solidFill>
                <a:latin typeface="Trebuchet MS"/>
              </a:rPr>
              <a:t>Interrupción en el fluir de la vida(Heiddeger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8 Imagen" descr="flores09.jpg"/>
          <p:cNvPicPr/>
          <p:nvPr/>
        </p:nvPicPr>
        <p:blipFill>
          <a:blip r:embed="rId2"/>
          <a:stretch/>
        </p:blipFill>
        <p:spPr>
          <a:xfrm>
            <a:off x="5187960" y="1994040"/>
            <a:ext cx="33829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4 CuadroTexto"/>
          <p:cNvGrpSpPr/>
          <p:nvPr/>
        </p:nvGrpSpPr>
        <p:grpSpPr>
          <a:xfrm>
            <a:off x="85680" y="1590840"/>
            <a:ext cx="2181240" cy="792000"/>
            <a:chOff x="85680" y="1590840"/>
            <a:chExt cx="2181240" cy="792000"/>
          </a:xfrm>
        </p:grpSpPr>
        <p:pic>
          <p:nvPicPr>
            <p:cNvPr id="381" name="4 CuadroTexto" descr=""/>
            <p:cNvPicPr/>
            <p:nvPr/>
          </p:nvPicPr>
          <p:blipFill>
            <a:blip r:embed="rId2"/>
            <a:stretch/>
          </p:blipFill>
          <p:spPr>
            <a:xfrm>
              <a:off x="85680" y="1590840"/>
              <a:ext cx="2181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14200" y="1714680"/>
              <a:ext cx="192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5 Más"/>
          <p:cNvSpPr/>
          <p:nvPr/>
        </p:nvSpPr>
        <p:spPr>
          <a:xfrm>
            <a:off x="2357280" y="1500120"/>
            <a:ext cx="78588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8 Más"/>
          <p:cNvSpPr/>
          <p:nvPr/>
        </p:nvSpPr>
        <p:spPr>
          <a:xfrm>
            <a:off x="2071800" y="3929040"/>
            <a:ext cx="857160" cy="928800"/>
          </a:xfrm>
          <a:prstGeom prst="pie">
            <a:avLst/>
          </a:prstGeom>
          <a:solidFill>
            <a:srgbClr val="4bacc6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3 CuadroTexto"/>
          <p:cNvSpPr/>
          <p:nvPr/>
        </p:nvSpPr>
        <p:spPr>
          <a:xfrm>
            <a:off x="3286080" y="157176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4 Igual que"/>
          <p:cNvSpPr/>
          <p:nvPr/>
        </p:nvSpPr>
        <p:spPr>
          <a:xfrm>
            <a:off x="5214960" y="164304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5 CuadroTexto"/>
          <p:cNvSpPr/>
          <p:nvPr/>
        </p:nvSpPr>
        <p:spPr>
          <a:xfrm>
            <a:off x="6143760" y="1785960"/>
            <a:ext cx="26431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Oport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6 Rectángulo"/>
          <p:cNvSpPr/>
          <p:nvPr/>
        </p:nvSpPr>
        <p:spPr>
          <a:xfrm>
            <a:off x="3000240" y="4000680"/>
            <a:ext cx="17859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7375e"/>
                </a:solidFill>
                <a:latin typeface="Trebuchet MS"/>
              </a:rPr>
              <a:t>Enfoque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7 CuadroTexto"/>
          <p:cNvSpPr/>
          <p:nvPr/>
        </p:nvSpPr>
        <p:spPr>
          <a:xfrm>
            <a:off x="6072120" y="414324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7375e"/>
                </a:solidFill>
                <a:latin typeface="Century Schoolbook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18 CuadroTexto"/>
          <p:cNvGrpSpPr/>
          <p:nvPr/>
        </p:nvGrpSpPr>
        <p:grpSpPr>
          <a:xfrm>
            <a:off x="85680" y="4017960"/>
            <a:ext cx="2176560" cy="1194120"/>
            <a:chOff x="85680" y="4017960"/>
            <a:chExt cx="2176560" cy="1194120"/>
          </a:xfrm>
        </p:grpSpPr>
        <p:pic>
          <p:nvPicPr>
            <p:cNvPr id="391" name="18 CuadroTexto" descr=""/>
            <p:cNvPicPr/>
            <p:nvPr/>
          </p:nvPicPr>
          <p:blipFill>
            <a:blip r:embed="rId3"/>
            <a:stretch/>
          </p:blipFill>
          <p:spPr>
            <a:xfrm>
              <a:off x="85680" y="4017960"/>
              <a:ext cx="2176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85840" y="4143240"/>
              <a:ext cx="178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rebuchet MS"/>
                </a:rPr>
                <a:t>QUIEB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19 Igual que"/>
          <p:cNvSpPr/>
          <p:nvPr/>
        </p:nvSpPr>
        <p:spPr>
          <a:xfrm>
            <a:off x="5000760" y="4071960"/>
            <a:ext cx="857160" cy="785880"/>
          </a:xfrm>
          <a:prstGeom prst="pi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13880" y="1856880"/>
            <a:ext cx="76438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76092"/>
                </a:solidFill>
                <a:latin typeface="Trebuchet MS"/>
              </a:rPr>
              <a:t>A partir de los quiebres se deve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compromisos (promesas y compromi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a red de ayuda(peti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76092"/>
                </a:solidFill>
                <a:latin typeface="Trebuchet MS"/>
              </a:rPr>
              <a:t>Artefactos que se pueden hacer cargo del quiebre (innovacion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6 Rectángulo" descr=""/>
          <p:cNvPicPr/>
          <p:nvPr/>
        </p:nvPicPr>
        <p:blipFill>
          <a:blip r:embed="rId1"/>
          <a:stretch/>
        </p:blipFill>
        <p:spPr>
          <a:xfrm>
            <a:off x="463680" y="298440"/>
            <a:ext cx="7570800" cy="907920"/>
          </a:xfrm>
          <a:prstGeom prst="rect">
            <a:avLst/>
          </a:prstGeom>
          <a:ln w="0">
            <a:noFill/>
          </a:ln>
        </p:spPr>
      </p:pic>
      <p:sp>
        <p:nvSpPr>
          <p:cNvPr id="396" name="7 CuadroTexto"/>
          <p:cNvSpPr/>
          <p:nvPr/>
        </p:nvSpPr>
        <p:spPr>
          <a:xfrm>
            <a:off x="857160" y="121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46c0a"/>
                </a:solidFill>
                <a:latin typeface="Trebuchet MS"/>
              </a:rPr>
              <a:t>Quie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Massy</dc:creator>
  <dc:description/>
  <dc:language>en-US</dc:language>
  <cp:lastModifiedBy>Massy</cp:lastModifiedBy>
  <dcterms:modified xsi:type="dcterms:W3CDTF">2009-08-22T16:33:22Z</dcterms:modified>
  <cp:revision>29</cp:revision>
  <dc:subject/>
  <dc:title>Diapositiva 1</dc:title>
</cp:coreProperties>
</file>