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74A-E5F5-4F2B-B39B-B0EFE7EF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BA6-31AA-48AD-8A5D-3FDC1110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F93-9D45-461F-9814-1380272C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566-6CF7-445F-BAC3-15C85872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68E7-70A7-49E1-BD2B-AE892CB8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921D-A37A-4AD8-B4FB-3E5BF44A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E2F2-8D6B-40CB-8CA2-147F0479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23EB-0F89-49E0-AD33-CAEDE25A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8949-5366-4B76-9366-996CD418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C528-6BA4-4E98-9CC3-5065691B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F3C9-28F0-4818-99C6-C323F870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5D3-A3BD-4D3B-8B27-2BBBA4B3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55C9-6ADD-425C-B1F3-CFF32777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7B5F-1C99-422A-8219-27EE9EA2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D09A-8CD4-40E4-8804-01923CF2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C9D9-88C2-44CD-8EEF-012E062A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2F5B-6C03-4B81-98EB-1FC7284B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CE126-0699-48E4-99FF-B8A24F0B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B2B9B-A25A-4A7D-94A0-BABDE492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57AB1-D439-42D7-AF35-59F6DE8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0118D-B1A3-403B-90A3-B976EAB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4E51B-152D-4F5F-A724-DF45063E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498-2DAC-477E-B118-FDADF6B6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D1646-9BAF-4FE3-8C20-0330C0E8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C4D64-5B5F-4E63-B32A-0A21CFC7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8441B-3E84-45B3-8087-35C4B357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E70E3-C04B-4648-8083-B59BFB3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81FBF-5AD6-489F-B112-16A552DC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8AAD4-CBF5-43C3-BA6A-054886F6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D0213-498C-40CE-AE6C-330A7327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8DC2A-E16D-4E9B-B289-1D8EDBA7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42AD-226B-4A17-AD39-C68F35F6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69AE-C940-4538-8085-45CFE26B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E06-5E52-41AB-848F-EDD18412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070C5-AF62-45F2-AB41-4EAC6889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62D0-65B9-4519-9E2C-A921F07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99FD-73FE-4366-96BF-28D88A16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2BD2-224F-4680-94DF-7C2ECE96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5BA6-1932-42AB-9178-DE533B98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BF24-6183-4CA8-B482-4790DFA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E2D49-A109-439A-A22A-198E2448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F353-D5D6-4194-9155-76B6B90D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54B87-B0A6-4FF3-9647-5469FB46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88EA4-DAE0-401D-9DFE-6DC5098B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227-CC41-4576-ADA4-DBB5D0C5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8550F-5529-43C0-9262-A2F0CA3C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8FE5D-FB05-43E1-8476-F47332C0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6F8B5-5F96-4E69-87C3-56E9BD37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3A49E-6F6B-4CBE-A9C5-83ACCED4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3ED0E-9363-451E-AFE4-1C3B7963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1156E-1A08-481A-B96A-27CF41D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15D65-4345-456E-B25B-9553BF0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E59AB-10D8-4EEC-B55D-CEBC4D6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D219B-7349-48CA-B687-567E21F8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CAB66-870A-4506-83BB-C016CBA7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B89-FB7A-4F61-8045-E9865D25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023C6-A95E-4A9F-9BDD-1BF87A29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01E39-BCBC-4CDB-A04A-6390744D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0DACE-9086-43A0-B963-81D81719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5B0DB-3F48-4706-AFC0-1252BC8C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90022-F32A-4C43-B200-549C7239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80745-EF55-4A53-B52F-D4D2BED2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A9640-BDC0-43ED-9237-70687A02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8D911-14CB-4EDD-AC0A-99E98850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4BDA3-BEE7-4173-B922-613FF4F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08BA8-154D-4E0A-AE01-976536A9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999-C98E-4E42-A574-1634406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030BA-DCD2-4BC6-9C6E-C7AB6A8F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18EB0-FBD4-4949-9461-E5A54D12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A29DE-F688-42F8-A4AB-0CBC8B53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C36F0-690B-4E1B-9A57-83315516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18FCF-2E61-4F54-BC7F-97B519F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986D0-AEB0-49E9-A86B-C4C7EB8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076C0-32BB-488F-B87E-8C9B1885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7D88F-91D9-4B55-B64D-9C29D6D1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B86D7-9306-4069-8F90-15BB74A6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F4CC1-036E-4795-A359-2F08DF09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8D1-61A3-41C9-9385-57CFA0C9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54624-BECE-4F8D-B708-F629ADA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82C2C-FE08-4900-9FCB-70FD9EE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AFDCC-BEF3-4E1C-9BA8-DAEE832A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659C1-AD1D-477C-B007-08BA8CF5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B9AA8-69AB-4DFA-8378-2ADAFD4D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E08-90A9-4A3F-9399-53AD739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DAC-BF6D-41C8-97D1-4DD8671C771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DA2B-2725-4A92-B761-B063220F7F2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88BE-FB73-489B-A8D5-1ECD2763155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4E68-7D2C-4CE1-973B-B2B855B3649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232D-495D-411B-BCE1-12677F3CA81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85B8-B23E-4D77-8F27-CDD50140E5E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8984-D521-4325-A21F-4095B41F6E6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Trebuchet MS"/>
              </a:rPr>
              <a:t>Título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Subtítul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Francisco Correa</cp:lastModifiedBy>
  <dcterms:modified xsi:type="dcterms:W3CDTF">2008-04-21T19:06:58Z</dcterms:modified>
  <cp:revision>5</cp:revision>
  <dc:subject/>
  <dc:title>Diapositiva 1</dc:title>
</cp:coreProperties>
</file>