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A07C-9075-40E8-A6B2-15DD6167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B730-5FD0-4CF3-A377-3C06CBEE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6797-7947-49CB-8D97-EA706BCC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0E3-4BB4-4314-91EB-D55D435F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3534-EDE1-491B-9FF9-6B353F80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37DB-3242-4DF4-B8CE-6D6CC938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E910-5805-487F-8CC2-78C3EAC8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212D-1FE0-4EA3-8528-D635D343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9E87-0DDA-4DAC-A2C8-B7F2C5E0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29A4-1661-4F49-853B-BB0CD36C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C4E2-3B64-4BC7-A8E1-AC76BB61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8AFC-D8B8-4155-8033-BB864FB0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7E71-2007-4793-91F9-85D2DB31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4CF6-1049-49D2-A959-D91F8428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2FE0-53B9-4FA3-9901-93422329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D322-D39A-4D97-811C-22683F20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6143-A120-48E2-822A-38A6FE46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658D9-6664-4C33-8A88-E494AAE3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D4E761-AA53-48EF-8293-32DC2069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FBD4A-B5DB-4D81-8C79-91CFD6FC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70434-93AB-421A-9015-8E861C63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38AFB-6BDC-446E-A0DE-475D5CA9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BA2D-2270-4A7B-B0BC-4AA5AC77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ACCCE-EBD9-4669-A344-9B149945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F1CE2C-C9EA-4020-ACF0-4E563D38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818AA1-D683-49BD-AEE1-A6026E5F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610C9-51F2-4C2A-918D-4527A8E6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3A86E-AC20-4866-83DD-7FF0969C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FC4E5-4073-4CB2-A634-FF7718A5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81E67-8147-4304-A764-1ADAE07D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897E7-029E-4AA5-88C1-5370E756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6808B-2D23-4DC5-B36F-28D8D72A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31990-AA81-4304-AA78-EB056F4D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295D-3158-4F4A-B98D-F16C9B2B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E9206-FA95-481A-9232-A248C4E6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9DB28-5DC1-4C52-95A4-54A56763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CD204-5675-40BD-AFED-B03F9952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6F456-3139-4C76-B851-C6FB49F3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647C4-1EF9-45E3-B139-6B5106D1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3E7FA-1E0B-44BE-92B2-16E3A86C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9A182-BC02-4E30-BA46-62CC4F40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1B578-5D3B-426E-B886-C4C1C424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29C8D-93EB-48A7-9B53-9DA32149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B51FE0-692E-4EF4-873E-A33B70C3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C32E-9638-4003-A158-093B6CB6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E34B4-2ECD-4F94-A095-87713E51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215F94-EE3B-4E86-BBAF-2A8D62FD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F0AD0F-F28A-4D85-B091-17BE1758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280CC2-99FC-4403-AEDE-8FF7313D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61801C-9ED0-45E4-B09F-0B38D750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F76BF9-B678-4BC4-8D0E-D3B2FFA4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A19157-21A7-4CE2-8EDC-A322DB83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D21ED-86DE-4441-AEC2-00429D5F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29F208-8C24-4096-89A9-72C7971C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2D3204-A25A-455B-9DB0-995D5465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085-2F71-42FB-9560-0292A336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7A6987-E0A8-46A2-8B53-8CC4E3C8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35F745-8BD6-44F4-9910-68ECFB21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99CD7C-8F3C-412F-83E7-B20572DF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3E3ED9-E56C-4ED3-9AC8-1C498ED8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0F5D00-0912-4E29-ACA8-99BBA521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6D51BB-0611-4235-8726-65E6D75B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305382-96BD-433F-B106-2C8592EB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85B57F-9070-4CEB-AAEB-C97A88BD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37CF9F-7F78-4061-872B-2D6E0342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B03FEB-1407-4076-9A30-5BA1643B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3CE-7FF7-4F92-A622-1EA2EADE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1ADFC6-4A93-43C7-AE01-9DD45058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A997ED-B048-4D1A-A0AE-C3E06062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A76393-BA4D-4306-BC85-C41B37B3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10F86F-E77F-4D03-BFA0-065244EF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5DE395-F241-4290-A06E-65D8B4B1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B746B5-3006-44F4-A60E-D247EBD0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0FC923-312A-4DD3-B933-BFC4222F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406BEF-7662-451E-B91C-70B03400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471C9A-D375-47FD-9117-90911D64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733385-B849-408D-BC52-D0B4F19A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BFC-0F83-45D1-A80B-DAF9EFB1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034D5B-6F0E-4A94-9724-28573630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761B4F-9823-4715-8B07-17912A0B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F99581-D454-4C19-A5AA-F148AB47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FAF1C4-2CE0-4A90-9043-0BFD4430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F30FD5-A152-4B99-BC92-6F1AEB9E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770-B396-43E3-9D25-F3151E8C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6F62-54C6-4914-A406-D4CCA0931C0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4" descr="logo fcfm"/>
          <p:cNvPicPr/>
          <p:nvPr/>
        </p:nvPicPr>
        <p:blipFill>
          <a:blip r:embed="rId2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logo cms"/>
          <p:cNvPicPr/>
          <p:nvPr/>
        </p:nvPicPr>
        <p:blipFill>
          <a:blip r:embed="rId3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49" name="1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2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3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FB56-B23D-4402-B38D-DB1D2317D3D0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08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0DFB-6767-4CDB-AF62-BDAF124F8AAF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9C28-33F4-4818-8819-F44B33941605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1FC6-DA7B-4C9A-B26C-D9AFE1128F0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D7C3-D4D1-48E5-8C2C-191CE405DF3A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4E4D-D404-4F81-8E30-DEF70D486D1B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68000" y="20602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Trebuchet MS"/>
              </a:rPr>
              <a:t>Título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2268000" y="4076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f497d"/>
                </a:solidFill>
                <a:latin typeface="Trebuchet MS"/>
              </a:rPr>
              <a:t>Subtítul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itul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ex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itulo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ex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44:41Z</dcterms:created>
  <dc:creator> </dc:creator>
  <dc:description/>
  <dc:language>en-US</dc:language>
  <cp:lastModifiedBy>Francisco Correa</cp:lastModifiedBy>
  <dcterms:modified xsi:type="dcterms:W3CDTF">2008-04-21T19:06:58Z</dcterms:modified>
  <cp:revision>5</cp:revision>
  <dc:subject/>
  <dc:title>Diapositiva 1</dc:title>
</cp:coreProperties>
</file>